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134-2BE3-4387-9206-D9DA81179D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mal solution is not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easier to computer optimal solution for some reparamete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cuts are it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mal solution is not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easier to computer optimal solution for some reparamete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29E-B494-436D-82C0-16096AB0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B49-FB4F-4C78-8BB2-72EB39E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BF6-97F7-437C-ABF7-EB2E9E97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A67-BAC9-46AC-A0DB-9FC9DC96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E33-7754-4677-A646-0A72E4A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6C0-4284-4BFC-9254-49808CC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FAE-0212-4286-B899-1D038EE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0C7-2E3C-4D8C-B73A-F6B15FE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907-07BD-46E4-919C-85AE836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ACF-ECDF-41CD-9135-4287DD5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D64-2055-4308-994F-278BD82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386-EBBC-4729-A998-D27F9F8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1E26-8658-4B8B-8289-53D6C716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360" y="475920"/>
            <a:ext cx="88329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s for MAP esti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arkov Random Fie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864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Kolmogor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iversity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06400" y="5789520"/>
            <a:ext cx="55314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torial at GDR (Optimisation Discrète, Graph Cuts et Analyse d'Imag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s, 29 Nov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these slides contain an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52840" y="1979640"/>
            <a:ext cx="3671640" cy="1777680"/>
            <a:chOff x="2652840" y="1979640"/>
            <a:chExt cx="3671640" cy="1777680"/>
          </a:xfrm>
        </p:grpSpPr>
        <p:sp>
          <p:nvSpPr>
            <p:cNvPr id="292" name=""/>
            <p:cNvSpPr/>
            <p:nvPr/>
          </p:nvSpPr>
          <p:spPr>
            <a:xfrm>
              <a:off x="3111120" y="36968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11120" y="2040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11120" y="204012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1120" y="204048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652840" y="3421080"/>
              <a:ext cx="458280" cy="275760"/>
              <a:chOff x="2652840" y="3421080"/>
              <a:chExt cx="458280" cy="275760"/>
            </a:xfrm>
          </p:grpSpPr>
          <p:sp>
            <p:nvSpPr>
              <p:cNvPr id="297" name=""/>
              <p:cNvSpPr/>
              <p:nvPr/>
            </p:nvSpPr>
            <p:spPr>
              <a:xfrm>
                <a:off x="2683080" y="369684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52840" y="342108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652840" y="2041200"/>
              <a:ext cx="458280" cy="275760"/>
              <a:chOff x="2652840" y="2041200"/>
              <a:chExt cx="458280" cy="275760"/>
            </a:xfrm>
          </p:grpSpPr>
          <p:sp>
            <p:nvSpPr>
              <p:cNvPr id="300" name=""/>
              <p:cNvSpPr/>
              <p:nvPr/>
            </p:nvSpPr>
            <p:spPr>
              <a:xfrm>
                <a:off x="2683080" y="204120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652840" y="204120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865840" y="2040480"/>
              <a:ext cx="458640" cy="275760"/>
              <a:chOff x="5865840" y="2040480"/>
              <a:chExt cx="458640" cy="27576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5865840" y="204048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5865840" y="20404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865840" y="3421080"/>
              <a:ext cx="458640" cy="275760"/>
              <a:chOff x="5865840" y="3421080"/>
              <a:chExt cx="458640" cy="275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865840" y="369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865840" y="34210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04992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92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0428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428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714760" y="15238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98800" y="1522440"/>
            <a:ext cx="11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68760" y="15238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73440" y="2265480"/>
            <a:ext cx="2568600" cy="2238480"/>
            <a:chOff x="3673440" y="2265480"/>
            <a:chExt cx="2568600" cy="2238480"/>
          </a:xfrm>
        </p:grpSpPr>
        <p:sp>
          <p:nvSpPr>
            <p:cNvPr id="316" name=""/>
            <p:cNvSpPr/>
            <p:nvPr/>
          </p:nvSpPr>
          <p:spPr>
            <a:xfrm>
              <a:off x="3673440" y="22654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8800" y="367848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8760" y="36799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14760" y="367992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67280" y="2259000"/>
            <a:ext cx="35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4627440"/>
            <a:ext cx="82296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is a reparameteris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y define the same ene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146320" y="5575320"/>
                <a:ext cx="43768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for any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597720" y="4599000"/>
                <a:ext cx="119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455920" y="4640400"/>
                <a:ext cx="3999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149880" y="4618080"/>
                <a:ext cx="319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675240" y="2266920"/>
            <a:ext cx="2784240" cy="2238480"/>
            <a:chOff x="3675240" y="2266920"/>
            <a:chExt cx="2784240" cy="2238480"/>
          </a:xfrm>
        </p:grpSpPr>
        <p:sp>
          <p:nvSpPr>
            <p:cNvPr id="327" name=""/>
            <p:cNvSpPr/>
            <p:nvPr/>
          </p:nvSpPr>
          <p:spPr>
            <a:xfrm>
              <a:off x="3675240" y="2266920"/>
              <a:ext cx="674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5480" y="367992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86560" y="36813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71600" y="614052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flow, BP and TRW perform reparameter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70640" y="258120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2720" y="261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9840" y="542880"/>
            <a:ext cx="78264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art I: Lower bound via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osi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6280" y="2478240"/>
            <a:ext cx="8331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maxflow algorithm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rot="16200000">
            <a:off x="5776200" y="613440"/>
            <a:ext cx="411120" cy="4464000"/>
          </a:xfrm>
          <a:custGeom>
            <a:avLst/>
            <a:gdLst>
              <a:gd name="textAreaLeft" fmla="*/ 262800 w 411120"/>
              <a:gd name="textAreaRight" fmla="*/ 411480 w 4111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8680" y="3048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68320" y="5013360"/>
            <a:ext cx="5218560" cy="1509840"/>
            <a:chOff x="1768320" y="5013360"/>
            <a:chExt cx="5218560" cy="150984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979640" y="5013360"/>
                  <a:ext cx="91116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195720" y="5051520"/>
              <a:ext cx="37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lower bound on the energ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1768320" y="5869080"/>
                  <a:ext cx="41166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  <m:m>
                        <m:mr>
                          <m:e/>
                          <m:e/>
                        </m:mr>
                      </m:m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1150920" y="2959200"/>
            <a:ext cx="1785960" cy="609480"/>
          </a:xfrm>
          <a:prstGeom prst="wedgeRoundRectCallout">
            <a:avLst>
              <a:gd name="adj1" fmla="val 46620"/>
              <a:gd name="adj2" fmla="val -158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wer bound via posiform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[Hammer, Hansen, Simeone’84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127332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801720" y="159696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14200" y="1068480"/>
            <a:ext cx="8988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ation algorith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function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inary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ing lower boun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ition of submod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min cut/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 to 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 minimum of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ing lower boun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on-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 to 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complicate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optim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par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9050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00080" y="1411200"/>
            <a:ext cx="898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every pairwise term 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converted to “canonical form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modular function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f binar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127332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351080" y="2077920"/>
                <a:ext cx="657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1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2716200" y="636912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16200" y="519264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716200" y="5192640"/>
            <a:ext cx="196200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16200" y="5192640"/>
            <a:ext cx="196200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73360" y="632628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3360" y="514980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35360" y="5149800"/>
            <a:ext cx="874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35360" y="6326280"/>
            <a:ext cx="874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1440" y="636912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81440" y="519264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81440" y="5192640"/>
            <a:ext cx="196236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1440" y="5192640"/>
            <a:ext cx="196236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99160" y="5149800"/>
            <a:ext cx="874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99160" y="6326280"/>
            <a:ext cx="874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39880" y="6284880"/>
            <a:ext cx="1605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39880" y="5111640"/>
            <a:ext cx="1605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03680" y="628488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03680" y="5111640"/>
            <a:ext cx="1587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61000" y="6284880"/>
            <a:ext cx="1605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61000" y="5111640"/>
            <a:ext cx="1605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4484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896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5296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484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624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9296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3320" y="635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44840" y="474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2960" y="474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13320" y="472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8320" y="3657600"/>
            <a:ext cx="1116000" cy="900000"/>
          </a:xfrm>
          <a:prstGeom prst="wedgeRectCallout">
            <a:avLst>
              <a:gd name="adj1" fmla="val -134921"/>
              <a:gd name="adj2" fmla="val 11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4000" y="676440"/>
            <a:ext cx="849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of min cut/max fl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41240" y="266076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weighte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29240" y="24289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= {source, node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{sink, node 2, node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05560" y="188748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29240" y="24289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= {source, node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{sink, node 2, node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05560" y="188748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6520" y="5579640"/>
            <a:ext cx="854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: Compute cut with minimum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43640" y="299736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1 + 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058760" y="3059280"/>
            <a:ext cx="1559160" cy="1198080"/>
            <a:chOff x="1058760" y="3059280"/>
            <a:chExt cx="1559160" cy="1198080"/>
          </a:xfrm>
        </p:grpSpPr>
        <p:sp>
          <p:nvSpPr>
            <p:cNvPr id="55" name=""/>
            <p:cNvSpPr/>
            <p:nvPr/>
          </p:nvSpPr>
          <p:spPr>
            <a:xfrm flipV="1">
              <a:off x="1108800" y="3118680"/>
              <a:ext cx="72180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7440" y="3059280"/>
              <a:ext cx="18144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830600" y="3118680"/>
              <a:ext cx="72072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8800" y="3659040"/>
              <a:ext cx="72180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830600" y="3659040"/>
              <a:ext cx="72072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7440" y="4076280"/>
              <a:ext cx="18144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58760" y="356760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6480" y="356760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43040" y="3440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66688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53240" y="2817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ry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01000" y="28735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wise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coh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6880" y="4788000"/>
            <a:ext cx="82296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discrete variables (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unary potent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airwise potent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406400" y="1748880"/>
            <a:ext cx="411480" cy="1697040"/>
          </a:xfrm>
          <a:custGeom>
            <a:avLst/>
            <a:gdLst>
              <a:gd name="textAreaLeft" fmla="*/ 262800 w 411480"/>
              <a:gd name="textAreaRight" fmla="*/ 411840 w 411480"/>
              <a:gd name="textAreaTop" fmla="*/ 43920 h 1697040"/>
              <a:gd name="textAreaBottom" fmla="*/ 1653120 h 16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764400" y="1390680"/>
            <a:ext cx="411120" cy="2417760"/>
          </a:xfrm>
          <a:custGeom>
            <a:avLst/>
            <a:gdLst>
              <a:gd name="textAreaLeft" fmla="*/ 262800 w 411120"/>
              <a:gd name="textAreaRight" fmla="*/ 411480 w 411120"/>
              <a:gd name="textAreaTop" fmla="*/ 63000 h 2417760"/>
              <a:gd name="textAreaBottom" fmla="*/ 2354760 h 241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39840" y="758880"/>
            <a:ext cx="7826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ximising lower bound for submodular functions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duction to max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6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s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1600" y="988560"/>
            <a:ext cx="8856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Cut / Max Flow [Ford&amp;Fulkerson ‘5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rieg, Porteous, Seheult ‘89] : non-iterative (binary vari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oykov, Veksler, Zabih ‘99] : iterative - alpha-expansion, alpha-beta swap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ulti-valued vari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If applicable, gives very accur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n be applied to a restricted class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 – Max-product Belief Propagation [Pearl ‘8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an be applied to any energ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 vision results are usually worse than that of graph 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oes not always conv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W - Max-product Tree-reweighted Message Passing       [Wainwright, Jaakkola, Willsky ‘02] , [Kolmogorov ‘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an be applied to any energ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For stereo finds lower energy than graph cu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onvergence guarantees for the algorithm in [Kolmogorov 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176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5994360" y="6232680"/>
                <a:ext cx="1785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4836960" y="559116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the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40720" y="38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39840" y="758880"/>
            <a:ext cx="7826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ximising lower bound for non-submodular fun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bitrary functions of binary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5280" y="968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0080" y="3516480"/>
            <a:ext cx="85960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olved via maxflow [Boros,Hammer,Sun’9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ally constructe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s solution to LP relaxation: for each nod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/2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6835680" y="4233960"/>
            <a:ext cx="2155680" cy="1961640"/>
            <a:chOff x="6835680" y="4233960"/>
            <a:chExt cx="2155680" cy="1961640"/>
          </a:xfrm>
        </p:grpSpPr>
        <p:sp>
          <p:nvSpPr>
            <p:cNvPr id="1035" name=""/>
            <p:cNvSpPr/>
            <p:nvPr/>
          </p:nvSpPr>
          <p:spPr>
            <a:xfrm>
              <a:off x="7170120" y="619020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170120" y="438480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35680" y="4233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480080" y="4438440"/>
            <a:ext cx="1484640" cy="1068480"/>
            <a:chOff x="7480080" y="4438440"/>
            <a:chExt cx="1484640" cy="1068480"/>
          </a:xfrm>
        </p:grpSpPr>
        <p:sp>
          <p:nvSpPr>
            <p:cNvPr id="1039" name=""/>
            <p:cNvSpPr/>
            <p:nvPr/>
          </p:nvSpPr>
          <p:spPr>
            <a:xfrm>
              <a:off x="7875720" y="52833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718840" y="497988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07440" y="480384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844120" y="456552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60000" y="486432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8415720" y="504936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8778960" y="461484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7480080" y="448272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910720" y="443844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29720" y="535320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82080" y="55069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7327800" y="6213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5776200" y="35640"/>
            <a:ext cx="411120" cy="4464000"/>
          </a:xfrm>
          <a:custGeom>
            <a:avLst/>
            <a:gdLst>
              <a:gd name="textAreaLeft" fmla="*/ 262800 w 411120"/>
              <a:gd name="textAreaRight" fmla="*/ 411480 w 4111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8680" y="24703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50920" y="2381400"/>
            <a:ext cx="1785960" cy="609480"/>
          </a:xfrm>
          <a:prstGeom prst="wedgeRoundRectCallout">
            <a:avLst>
              <a:gd name="adj1" fmla="val 46620"/>
              <a:gd name="adj2" fmla="val -158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801720" y="101916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428920" y="1305000"/>
            <a:ext cx="1927080" cy="2825640"/>
          </a:xfrm>
          <a:custGeom>
            <a:avLst/>
            <a:gdLst/>
            <a:ahLst/>
            <a:rect l="l" t="t" r="r" b="b"/>
            <a:pathLst>
              <a:path w="1214" h="1780">
                <a:moveTo>
                  <a:pt x="238" y="1727"/>
                </a:moveTo>
                <a:cubicBezTo>
                  <a:pt x="340" y="1780"/>
                  <a:pt x="545" y="1712"/>
                  <a:pt x="647" y="1637"/>
                </a:cubicBezTo>
                <a:cubicBezTo>
                  <a:pt x="749" y="1562"/>
                  <a:pt x="772" y="1380"/>
                  <a:pt x="851" y="1274"/>
                </a:cubicBezTo>
                <a:cubicBezTo>
                  <a:pt x="930" y="1168"/>
                  <a:pt x="1063" y="1099"/>
                  <a:pt x="1123" y="1001"/>
                </a:cubicBezTo>
                <a:cubicBezTo>
                  <a:pt x="1183" y="903"/>
                  <a:pt x="1214" y="816"/>
                  <a:pt x="1214" y="684"/>
                </a:cubicBezTo>
                <a:cubicBezTo>
                  <a:pt x="1214" y="552"/>
                  <a:pt x="1187" y="314"/>
                  <a:pt x="1123" y="208"/>
                </a:cubicBezTo>
                <a:cubicBezTo>
                  <a:pt x="1059" y="102"/>
                  <a:pt x="964" y="75"/>
                  <a:pt x="828" y="49"/>
                </a:cubicBezTo>
                <a:cubicBezTo>
                  <a:pt x="692" y="23"/>
                  <a:pt x="435" y="0"/>
                  <a:pt x="306" y="49"/>
                </a:cubicBezTo>
                <a:cubicBezTo>
                  <a:pt x="177" y="98"/>
                  <a:pt x="102" y="132"/>
                  <a:pt x="57" y="344"/>
                </a:cubicBezTo>
                <a:cubicBezTo>
                  <a:pt x="12" y="556"/>
                  <a:pt x="0" y="1092"/>
                  <a:pt x="34" y="1319"/>
                </a:cubicBezTo>
                <a:cubicBezTo>
                  <a:pt x="68" y="1546"/>
                  <a:pt x="136" y="1674"/>
                  <a:pt x="238" y="1727"/>
                </a:cubicBezTo>
                <a:close/>
              </a:path>
            </a:pathLst>
          </a:custGeom>
          <a:solidFill>
            <a:srgbClr val="ccffff">
              <a:alpha val="3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bitrary functions of binary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5280" y="968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72080" y="177336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16360" y="177336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16360" y="262908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80000" y="262908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635360" y="1773360"/>
            <a:ext cx="22392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3280" y="2629080"/>
            <a:ext cx="22392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16360" y="3492360"/>
            <a:ext cx="22356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80000" y="3492360"/>
            <a:ext cx="22356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43280" y="3492360"/>
            <a:ext cx="22392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35280" y="188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35280" y="2744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5280" y="3608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88764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75128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02436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89560" y="13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89560" y="22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29080" y="13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29080" y="22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76600" y="31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91960" y="3176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89080" y="3176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791960" y="2313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91960" y="148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92360" y="4869000"/>
            <a:ext cx="5580000" cy="1260360"/>
          </a:xfrm>
          <a:prstGeom prst="wedgeRoundRectCallout">
            <a:avLst>
              <a:gd name="adj1" fmla="val -37425"/>
              <a:gd name="adj2" fmla="val -11234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optim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Hammer, Hansen, Simeone’8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39840" y="542880"/>
            <a:ext cx="78264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t II: Lower bound vi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vex combination of tr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6280" y="2478240"/>
            <a:ext cx="8331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ree-reweighted message passing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457200" y="12780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: compute minimum of the energy for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general, intract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taining lower b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into several components: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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 minimum for each compon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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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a bound o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tre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3117960" y="1793880"/>
                <a:ext cx="34588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2925720" y="4707000"/>
                <a:ext cx="35812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vex combination of trees [Wainwright, Jaakkola, Willsky ’02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006560" y="2168640"/>
            <a:ext cx="1558440" cy="1198080"/>
            <a:chOff x="1006560" y="2168640"/>
            <a:chExt cx="1558440" cy="1198080"/>
          </a:xfrm>
        </p:grpSpPr>
        <p:sp>
          <p:nvSpPr>
            <p:cNvPr id="1093" name=""/>
            <p:cNvSpPr/>
            <p:nvPr/>
          </p:nvSpPr>
          <p:spPr>
            <a:xfrm flipV="1">
              <a:off x="1056600" y="2228040"/>
              <a:ext cx="72144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5240" y="21686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1778040" y="222804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56600" y="2768400"/>
              <a:ext cx="72144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778040" y="276840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95240" y="31856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06560" y="26769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83920" y="26769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887640" y="2179800"/>
            <a:ext cx="1559160" cy="690480"/>
            <a:chOff x="3887640" y="2179800"/>
            <a:chExt cx="1559160" cy="690480"/>
          </a:xfrm>
        </p:grpSpPr>
        <p:sp>
          <p:nvSpPr>
            <p:cNvPr id="1102" name=""/>
            <p:cNvSpPr/>
            <p:nvPr/>
          </p:nvSpPr>
          <p:spPr>
            <a:xfrm flipV="1">
              <a:off x="3937680" y="2239560"/>
              <a:ext cx="7221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6320" y="2179800"/>
              <a:ext cx="181440" cy="181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4659480" y="223956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887640" y="268884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65360" y="268884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838920" y="2687760"/>
            <a:ext cx="1558440" cy="690120"/>
            <a:chOff x="6838920" y="2687760"/>
            <a:chExt cx="1558440" cy="690120"/>
          </a:xfrm>
        </p:grpSpPr>
        <p:sp>
          <p:nvSpPr>
            <p:cNvPr id="1108" name=""/>
            <p:cNvSpPr/>
            <p:nvPr/>
          </p:nvSpPr>
          <p:spPr>
            <a:xfrm>
              <a:off x="6888960" y="2778840"/>
              <a:ext cx="721800" cy="54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7610760" y="2778840"/>
              <a:ext cx="720360" cy="54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27600" y="319644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38920" y="26877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216280" y="26877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63840" y="3686040"/>
                <a:ext cx="34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022560" y="3772080"/>
                <a:ext cx="344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7199280" y="3392640"/>
                <a:ext cx="930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4175280" y="3398760"/>
                <a:ext cx="8618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6100920" y="3745080"/>
                <a:ext cx="379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937800" y="1522440"/>
            <a:ext cx="16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89640" y="1531800"/>
            <a:ext cx="1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42360" y="1531800"/>
            <a:ext cx="18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236600" y="4944960"/>
                <a:ext cx="961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175280" y="4687920"/>
                <a:ext cx="15112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7199280" y="4687920"/>
                <a:ext cx="15462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100920" y="5032440"/>
                <a:ext cx="379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022560" y="5019840"/>
                <a:ext cx="34452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6" name=""/>
          <p:cNvSpPr/>
          <p:nvPr/>
        </p:nvSpPr>
        <p:spPr>
          <a:xfrm rot="16200000">
            <a:off x="6231600" y="3578760"/>
            <a:ext cx="411120" cy="4660920"/>
          </a:xfrm>
          <a:custGeom>
            <a:avLst/>
            <a:gdLst>
              <a:gd name="textAreaLeft" fmla="*/ 262800 w 411120"/>
              <a:gd name="textAreaRight" fmla="*/ 411480 w 411120"/>
              <a:gd name="textAreaTop" fmla="*/ 121320 h 4660920"/>
              <a:gd name="textAreaBottom" fmla="*/ 4539600 h 46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9480" y="616428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bound on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06400" y="5977080"/>
            <a:ext cx="1785960" cy="609480"/>
          </a:xfrm>
          <a:prstGeom prst="wedgeRoundRectCallout">
            <a:avLst>
              <a:gd name="adj1" fmla="val 84134"/>
              <a:gd name="adj2" fmla="val -718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5280" y="117936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x combination of tre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0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: LP rela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6840" y="912960"/>
            <a:ext cx="8726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inimize ener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under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NP-hard probl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x discreteness constraints: a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inear program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olved in polynomial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8794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9040" y="61912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scret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05560" y="6202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7360" y="4187880"/>
            <a:ext cx="2155680" cy="1961640"/>
            <a:chOff x="747360" y="4187880"/>
            <a:chExt cx="2155680" cy="1961640"/>
          </a:xfrm>
        </p:grpSpPr>
        <p:sp>
          <p:nvSpPr>
            <p:cNvPr id="80" name=""/>
            <p:cNvSpPr/>
            <p:nvPr/>
          </p:nvSpPr>
          <p:spPr>
            <a:xfrm>
              <a:off x="1082160" y="61441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08216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736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04920" y="4189320"/>
            <a:ext cx="2155680" cy="1961640"/>
            <a:chOff x="3904920" y="4189320"/>
            <a:chExt cx="2155680" cy="1961640"/>
          </a:xfrm>
        </p:grpSpPr>
        <p:sp>
          <p:nvSpPr>
            <p:cNvPr id="84" name=""/>
            <p:cNvSpPr/>
            <p:nvPr/>
          </p:nvSpPr>
          <p:spPr>
            <a:xfrm>
              <a:off x="4239720" y="61459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239720" y="433980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04920" y="418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22680" y="4187880"/>
            <a:ext cx="2155680" cy="1961640"/>
            <a:chOff x="6322680" y="4187880"/>
            <a:chExt cx="2155680" cy="1961640"/>
          </a:xfrm>
        </p:grpSpPr>
        <p:sp>
          <p:nvSpPr>
            <p:cNvPr id="88" name=""/>
            <p:cNvSpPr/>
            <p:nvPr/>
          </p:nvSpPr>
          <p:spPr>
            <a:xfrm>
              <a:off x="6657480" y="61441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5748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2268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21240" y="4393800"/>
            <a:ext cx="1484280" cy="965520"/>
            <a:chOff x="4521240" y="4393800"/>
            <a:chExt cx="1484280" cy="965520"/>
          </a:xfrm>
        </p:grpSpPr>
        <p:sp>
          <p:nvSpPr>
            <p:cNvPr id="92" name=""/>
            <p:cNvSpPr/>
            <p:nvPr/>
          </p:nvSpPr>
          <p:spPr>
            <a:xfrm>
              <a:off x="4916520" y="523872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59280" y="4935600"/>
              <a:ext cx="12096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8240" y="475920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4920" y="45212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00440" y="4819680"/>
              <a:ext cx="37332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53000" y="5005440"/>
              <a:ext cx="2667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19760" y="45705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521240" y="4438800"/>
              <a:ext cx="79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51520" y="439380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0520" y="5308560"/>
              <a:ext cx="57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84200" y="4519440"/>
            <a:ext cx="1457280" cy="838440"/>
            <a:chOff x="1384200" y="4519440"/>
            <a:chExt cx="1457280" cy="838440"/>
          </a:xfrm>
        </p:grpSpPr>
        <p:sp>
          <p:nvSpPr>
            <p:cNvPr id="103" name=""/>
            <p:cNvSpPr/>
            <p:nvPr/>
          </p:nvSpPr>
          <p:spPr>
            <a:xfrm>
              <a:off x="175248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9560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8420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2088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967080" y="4392360"/>
            <a:ext cx="1484640" cy="1068480"/>
            <a:chOff x="6967080" y="4392360"/>
            <a:chExt cx="1484640" cy="1068480"/>
          </a:xfrm>
        </p:grpSpPr>
        <p:sp>
          <p:nvSpPr>
            <p:cNvPr id="108" name=""/>
            <p:cNvSpPr/>
            <p:nvPr/>
          </p:nvSpPr>
          <p:spPr>
            <a:xfrm>
              <a:off x="736272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0584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444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3112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47000" y="481824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902720" y="500328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265960" y="45687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967080" y="443664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397720" y="439236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6720" y="530712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9080" y="54608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964400" y="4363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20160" y="43718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-20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W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010880"/>
            <a:ext cx="844704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find reparameterisation maximizing lower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sequence of different reparameterisation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y BP 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s performance dra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Wainwright et al. ’02]: paralle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conv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olmogorov’05]: specific sequent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bound does not decrease, convergence 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5280" y="91296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148360" y="2206440"/>
            <a:ext cx="360360" cy="1657440"/>
            <a:chOff x="5148360" y="2206440"/>
            <a:chExt cx="360360" cy="1657440"/>
          </a:xfrm>
        </p:grpSpPr>
        <p:sp>
          <p:nvSpPr>
            <p:cNvPr id="1136" name=""/>
            <p:cNvSpPr/>
            <p:nvPr/>
          </p:nvSpPr>
          <p:spPr>
            <a:xfrm>
              <a:off x="522144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144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4836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4836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508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652720" y="2206440"/>
            <a:ext cx="360360" cy="1657440"/>
            <a:chOff x="5652720" y="2206440"/>
            <a:chExt cx="360360" cy="1657440"/>
          </a:xfrm>
        </p:grpSpPr>
        <p:sp>
          <p:nvSpPr>
            <p:cNvPr id="1142" name=""/>
            <p:cNvSpPr/>
            <p:nvPr/>
          </p:nvSpPr>
          <p:spPr>
            <a:xfrm flipH="1">
              <a:off x="579672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579672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65272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565272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5652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452628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26280" y="33847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0592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05920" y="33847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152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162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5" name=""/>
          <p:cNvSpPr/>
          <p:nvPr/>
        </p:nvSpPr>
        <p:spPr>
          <a:xfrm>
            <a:off x="912960" y="58482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92600" y="586908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745320" y="5859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048200" y="3860280"/>
            <a:ext cx="1263600" cy="2046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5832000" y="3868200"/>
            <a:ext cx="1001880" cy="20019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148360" y="2206440"/>
            <a:ext cx="360360" cy="1657440"/>
            <a:chOff x="5148360" y="2206440"/>
            <a:chExt cx="360360" cy="1657440"/>
          </a:xfrm>
        </p:grpSpPr>
        <p:sp>
          <p:nvSpPr>
            <p:cNvPr id="1183" name=""/>
            <p:cNvSpPr/>
            <p:nvPr/>
          </p:nvSpPr>
          <p:spPr>
            <a:xfrm>
              <a:off x="522144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144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4836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4836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5508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652720" y="2206440"/>
            <a:ext cx="360360" cy="1657440"/>
            <a:chOff x="5652720" y="2206440"/>
            <a:chExt cx="360360" cy="1657440"/>
          </a:xfrm>
        </p:grpSpPr>
        <p:sp>
          <p:nvSpPr>
            <p:cNvPr id="1189" name=""/>
            <p:cNvSpPr/>
            <p:nvPr/>
          </p:nvSpPr>
          <p:spPr>
            <a:xfrm flipH="1">
              <a:off x="579672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79672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65272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65272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5652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452628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297320" y="33847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0592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605560" y="33847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199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00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09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215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0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2" name=""/>
          <p:cNvSpPr/>
          <p:nvPr/>
        </p:nvSpPr>
        <p:spPr>
          <a:xfrm>
            <a:off x="912960" y="58482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792600" y="586908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745320" y="5859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048200" y="3860280"/>
            <a:ext cx="1263600" cy="2046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5832000" y="3868200"/>
            <a:ext cx="1001880" cy="20019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257040" y="1366920"/>
            <a:ext cx="837576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valent to reparameterising node and edg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passes (forward and back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title"/>
          </p:nvPr>
        </p:nvSpPr>
        <p:spPr>
          <a:xfrm>
            <a:off x="257040" y="25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 (BP) 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231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32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247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52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4" name=""/>
          <p:cNvSpPr/>
          <p:nvPr/>
        </p:nvSpPr>
        <p:spPr>
          <a:xfrm flipV="1">
            <a:off x="3960720" y="5489280"/>
            <a:ext cx="506520" cy="36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71880" y="5506920"/>
            <a:ext cx="478080" cy="349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768920" y="5762520"/>
            <a:ext cx="379440" cy="292320"/>
          </a:xfrm>
          <a:prstGeom prst="line">
            <a:avLst/>
          </a:prstGeom>
          <a:ln w="2844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186080" y="5757480"/>
            <a:ext cx="374760" cy="276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57040" y="25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 (BP) 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4413240" y="3502080"/>
                <a:ext cx="4419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1" name=""/>
          <p:cNvGrpSpPr/>
          <p:nvPr/>
        </p:nvGrpSpPr>
        <p:grpSpPr>
          <a:xfrm>
            <a:off x="640080" y="3279600"/>
            <a:ext cx="3609720" cy="2615400"/>
            <a:chOff x="640080" y="3279600"/>
            <a:chExt cx="3609720" cy="2615400"/>
          </a:xfrm>
        </p:grpSpPr>
        <p:sp>
          <p:nvSpPr>
            <p:cNvPr id="1262" name=""/>
            <p:cNvSpPr/>
            <p:nvPr/>
          </p:nvSpPr>
          <p:spPr>
            <a:xfrm flipH="1">
              <a:off x="1098720" y="545292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1098720" y="3795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1098720" y="379548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098720" y="379548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40080" y="3795120"/>
              <a:ext cx="459000" cy="276120"/>
              <a:chOff x="640080" y="3795120"/>
              <a:chExt cx="459000" cy="276120"/>
            </a:xfrm>
          </p:grpSpPr>
          <p:sp>
            <p:nvSpPr>
              <p:cNvPr id="1267" name=""/>
              <p:cNvSpPr/>
              <p:nvPr/>
            </p:nvSpPr>
            <p:spPr>
              <a:xfrm>
                <a:off x="670320" y="3795120"/>
                <a:ext cx="42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640080" y="3795120"/>
                <a:ext cx="45900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640080" y="5176440"/>
              <a:ext cx="459000" cy="276480"/>
              <a:chOff x="640080" y="5176440"/>
              <a:chExt cx="459000" cy="276480"/>
            </a:xfrm>
          </p:grpSpPr>
          <p:sp>
            <p:nvSpPr>
              <p:cNvPr id="1270" name=""/>
              <p:cNvSpPr/>
              <p:nvPr/>
            </p:nvSpPr>
            <p:spPr>
              <a:xfrm>
                <a:off x="670320" y="5452920"/>
                <a:ext cx="42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0080" y="5176440"/>
                <a:ext cx="459000" cy="27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 flipH="1">
              <a:off x="3792600" y="539100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792600" y="373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1038240" y="373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038240" y="539100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476520" y="32796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3476520" y="543528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446720" y="5141880"/>
                <a:ext cx="4354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"/>
          <p:cNvSpPr/>
          <p:nvPr/>
        </p:nvSpPr>
        <p:spPr>
          <a:xfrm>
            <a:off x="453960" y="1392120"/>
            <a:ext cx="8325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proper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ainwright et al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on termination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ives min-marginals for nod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W algorithm of Wainwright et al.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tree-based updates (TRW-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54120" y="1984320"/>
            <a:ext cx="3517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00040" y="1870200"/>
            <a:ext cx="364176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46720" y="17575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05320" y="1978200"/>
            <a:ext cx="3517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80040" y="1863720"/>
            <a:ext cx="372888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288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89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98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304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09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1" name=""/>
          <p:cNvSpPr/>
          <p:nvPr/>
        </p:nvSpPr>
        <p:spPr>
          <a:xfrm flipH="1">
            <a:off x="4432320" y="226548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69720" y="3309840"/>
            <a:ext cx="87742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verges, gives (local) maximum of lower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guaranteed to conver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r bound may go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quential TRW algorithm (TRW-S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Kolmogorov’05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36560" y="3528720"/>
            <a:ext cx="3441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all tre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71400" y="3414600"/>
            <a:ext cx="3461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59400" y="35877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rot="18426000">
            <a:off x="3063240" y="2682720"/>
            <a:ext cx="504720" cy="486360"/>
          </a:xfrm>
          <a:prstGeom prst="rightArrow">
            <a:avLst>
              <a:gd name="adj1" fmla="val 50000"/>
              <a:gd name="adj2" fmla="val 2594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62720" y="35226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37080" y="3408480"/>
            <a:ext cx="332280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95600" y="17748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70320" y="1674720"/>
            <a:ext cx="233532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4334000">
            <a:off x="5565600" y="26521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325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326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335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341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6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roperty of TRW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er bound never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ske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1633680" y="3887640"/>
                <a:ext cx="27144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2" name=""/>
          <p:cNvGrpSpPr/>
          <p:nvPr/>
        </p:nvGrpSpPr>
        <p:grpSpPr>
          <a:xfrm>
            <a:off x="4857840" y="2385720"/>
            <a:ext cx="360360" cy="1657440"/>
            <a:chOff x="4857840" y="2385720"/>
            <a:chExt cx="360360" cy="1657440"/>
          </a:xfrm>
        </p:grpSpPr>
        <p:sp>
          <p:nvSpPr>
            <p:cNvPr id="1353" name=""/>
            <p:cNvSpPr/>
            <p:nvPr/>
          </p:nvSpPr>
          <p:spPr>
            <a:xfrm>
              <a:off x="49309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3092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784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5218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5362200" y="2385720"/>
            <a:ext cx="360360" cy="1657440"/>
            <a:chOff x="5362200" y="2385720"/>
            <a:chExt cx="360360" cy="1657440"/>
          </a:xfrm>
        </p:grpSpPr>
        <p:sp>
          <p:nvSpPr>
            <p:cNvPr id="1359" name=""/>
            <p:cNvSpPr/>
            <p:nvPr/>
          </p:nvSpPr>
          <p:spPr>
            <a:xfrm flipH="1">
              <a:off x="550620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620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36220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536220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5362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423576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35760" y="35640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1540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315400" y="35640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716040" y="5619600"/>
            <a:ext cx="7390800" cy="1209240"/>
            <a:chOff x="716040" y="5619600"/>
            <a:chExt cx="7390800" cy="1209240"/>
          </a:xfrm>
        </p:grpSpPr>
        <p:grpSp>
          <p:nvGrpSpPr>
            <p:cNvPr id="1369" name=""/>
            <p:cNvGrpSpPr/>
            <p:nvPr/>
          </p:nvGrpSpPr>
          <p:grpSpPr>
            <a:xfrm>
              <a:off x="716040" y="5619600"/>
              <a:ext cx="1558440" cy="1198080"/>
              <a:chOff x="716040" y="5619600"/>
              <a:chExt cx="1558440" cy="1198080"/>
            </a:xfrm>
          </p:grpSpPr>
          <p:sp>
            <p:nvSpPr>
              <p:cNvPr id="1370" name=""/>
              <p:cNvSpPr/>
              <p:nvPr/>
            </p:nvSpPr>
            <p:spPr>
              <a:xfrm flipV="1">
                <a:off x="766080" y="567900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404720" y="5619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 flipV="1">
                <a:off x="1487520" y="567900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66080" y="621936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1487520" y="621936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404720" y="6636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1604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09340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597120" y="5630760"/>
              <a:ext cx="1559160" cy="690480"/>
              <a:chOff x="3597120" y="5630760"/>
              <a:chExt cx="1559160" cy="690480"/>
            </a:xfrm>
          </p:grpSpPr>
          <p:sp>
            <p:nvSpPr>
              <p:cNvPr id="1379" name=""/>
              <p:cNvSpPr/>
              <p:nvPr/>
            </p:nvSpPr>
            <p:spPr>
              <a:xfrm flipV="1">
                <a:off x="3647160" y="569052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85800" y="563076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 flipV="1">
                <a:off x="4368960" y="56905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59712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97484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6548400" y="6138720"/>
              <a:ext cx="1558440" cy="690120"/>
              <a:chOff x="6548400" y="6138720"/>
              <a:chExt cx="1558440" cy="690120"/>
            </a:xfrm>
          </p:grpSpPr>
          <p:sp>
            <p:nvSpPr>
              <p:cNvPr id="1385" name=""/>
              <p:cNvSpPr/>
              <p:nvPr/>
            </p:nvSpPr>
            <p:spPr>
              <a:xfrm>
                <a:off x="6598440" y="622980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7320240" y="622980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237080" y="664740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4840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2576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90" name=""/>
                <p:cNvSpPr txBox="1"/>
                <p:nvPr/>
              </p:nvSpPr>
              <p:spPr>
                <a:xfrm>
                  <a:off x="2732040" y="603720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1" name=""/>
                <p:cNvSpPr txBox="1"/>
                <p:nvPr/>
              </p:nvSpPr>
              <p:spPr>
                <a:xfrm>
                  <a:off x="5738760" y="601020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2" name=""/>
          <p:cNvSpPr/>
          <p:nvPr/>
        </p:nvSpPr>
        <p:spPr>
          <a:xfrm>
            <a:off x="622440" y="602784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2080" y="6048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54800" y="60390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3757680" y="4040280"/>
            <a:ext cx="1263600" cy="2046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5541480" y="4048200"/>
            <a:ext cx="1001880" cy="2001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6105600" y="3909960"/>
                <a:ext cx="282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roperty of TRW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1446120" y="3887640"/>
                <a:ext cx="29894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01" name=""/>
          <p:cNvGrpSpPr/>
          <p:nvPr/>
        </p:nvGrpSpPr>
        <p:grpSpPr>
          <a:xfrm>
            <a:off x="4857840" y="2385720"/>
            <a:ext cx="360360" cy="1657440"/>
            <a:chOff x="4857840" y="2385720"/>
            <a:chExt cx="360360" cy="1657440"/>
          </a:xfrm>
        </p:grpSpPr>
        <p:sp>
          <p:nvSpPr>
            <p:cNvPr id="1402" name=""/>
            <p:cNvSpPr/>
            <p:nvPr/>
          </p:nvSpPr>
          <p:spPr>
            <a:xfrm>
              <a:off x="49309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3092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5784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5784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218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5362200" y="2385720"/>
            <a:ext cx="360360" cy="1657440"/>
            <a:chOff x="5362200" y="2385720"/>
            <a:chExt cx="360360" cy="1657440"/>
          </a:xfrm>
        </p:grpSpPr>
        <p:sp>
          <p:nvSpPr>
            <p:cNvPr id="1408" name=""/>
            <p:cNvSpPr/>
            <p:nvPr/>
          </p:nvSpPr>
          <p:spPr>
            <a:xfrm flipH="1">
              <a:off x="550620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50620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536220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536220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5362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423576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19760" y="35640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31540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315040" y="35640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716040" y="5619600"/>
            <a:ext cx="7390800" cy="1209240"/>
            <a:chOff x="716040" y="5619600"/>
            <a:chExt cx="7390800" cy="1209240"/>
          </a:xfrm>
        </p:grpSpPr>
        <p:grpSp>
          <p:nvGrpSpPr>
            <p:cNvPr id="1418" name=""/>
            <p:cNvGrpSpPr/>
            <p:nvPr/>
          </p:nvGrpSpPr>
          <p:grpSpPr>
            <a:xfrm>
              <a:off x="716040" y="5619600"/>
              <a:ext cx="1558440" cy="1198080"/>
              <a:chOff x="716040" y="5619600"/>
              <a:chExt cx="1558440" cy="1198080"/>
            </a:xfrm>
          </p:grpSpPr>
          <p:sp>
            <p:nvSpPr>
              <p:cNvPr id="1419" name=""/>
              <p:cNvSpPr/>
              <p:nvPr/>
            </p:nvSpPr>
            <p:spPr>
              <a:xfrm flipV="1">
                <a:off x="766080" y="567900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04720" y="5619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1487520" y="567900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66080" y="621936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1487520" y="621936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04720" y="6636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604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09340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3597120" y="5630760"/>
              <a:ext cx="1559160" cy="690480"/>
              <a:chOff x="3597120" y="5630760"/>
              <a:chExt cx="1559160" cy="690480"/>
            </a:xfrm>
          </p:grpSpPr>
          <p:sp>
            <p:nvSpPr>
              <p:cNvPr id="1428" name=""/>
              <p:cNvSpPr/>
              <p:nvPr/>
            </p:nvSpPr>
            <p:spPr>
              <a:xfrm flipV="1">
                <a:off x="3647160" y="569052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85800" y="563076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4368960" y="56905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712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97484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6548400" y="6138720"/>
              <a:ext cx="1558440" cy="690120"/>
              <a:chOff x="6548400" y="6138720"/>
              <a:chExt cx="1558440" cy="690120"/>
            </a:xfrm>
          </p:grpSpPr>
          <p:sp>
            <p:nvSpPr>
              <p:cNvPr id="1434" name=""/>
              <p:cNvSpPr/>
              <p:nvPr/>
            </p:nvSpPr>
            <p:spPr>
              <a:xfrm>
                <a:off x="6598440" y="622980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7320240" y="622980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237080" y="664740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4840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2576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9" name=""/>
                <p:cNvSpPr txBox="1"/>
                <p:nvPr/>
              </p:nvSpPr>
              <p:spPr>
                <a:xfrm>
                  <a:off x="2732040" y="603720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0" name=""/>
                <p:cNvSpPr txBox="1"/>
                <p:nvPr/>
              </p:nvSpPr>
              <p:spPr>
                <a:xfrm>
                  <a:off x="5738760" y="601020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1" name=""/>
          <p:cNvSpPr/>
          <p:nvPr/>
        </p:nvSpPr>
        <p:spPr>
          <a:xfrm>
            <a:off x="622440" y="602784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02080" y="6048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54800" y="60390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757680" y="4040280"/>
            <a:ext cx="1263600" cy="2046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 flipV="1">
            <a:off x="5541480" y="4048200"/>
            <a:ext cx="1001880" cy="2001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6059520" y="3909960"/>
                <a:ext cx="309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7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er bound never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ske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W-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order of averaging and B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bound guaranteed not to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limit point that satisfies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ak tree agre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9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LP rela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" y="975960"/>
            <a:ext cx="905832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 large for general purpose LP solvers (e.g. interior point metho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blem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m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mulate lower bound on th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ximize this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one, solves primal problem (LP relax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different ways to formulate low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osifor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leads to maxflo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vex combination of tre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leads to tree-reweighted message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9460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00880" y="61722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boun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184800" y="4178160"/>
            <a:ext cx="2155680" cy="1961640"/>
            <a:chOff x="6184800" y="4178160"/>
            <a:chExt cx="2155680" cy="1961640"/>
          </a:xfrm>
        </p:grpSpPr>
        <p:sp>
          <p:nvSpPr>
            <p:cNvPr id="126" name=""/>
            <p:cNvSpPr/>
            <p:nvPr/>
          </p:nvSpPr>
          <p:spPr>
            <a:xfrm>
              <a:off x="6519240" y="613476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19240" y="432864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84800" y="417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936960" y="5454360"/>
            <a:ext cx="423072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42000" y="5460840"/>
            <a:ext cx="1370160" cy="560520"/>
          </a:xfrm>
          <a:custGeom>
            <a:avLst/>
            <a:gdLst/>
            <a:ahLst/>
            <a:rect l="l" t="t" r="r" b="b"/>
            <a:pathLst>
              <a:path w="863" h="353">
                <a:moveTo>
                  <a:pt x="0" y="343"/>
                </a:moveTo>
                <a:lnTo>
                  <a:pt x="15" y="194"/>
                </a:lnTo>
                <a:lnTo>
                  <a:pt x="147" y="82"/>
                </a:lnTo>
                <a:lnTo>
                  <a:pt x="362" y="2"/>
                </a:lnTo>
                <a:lnTo>
                  <a:pt x="632" y="0"/>
                </a:lnTo>
                <a:lnTo>
                  <a:pt x="770" y="77"/>
                </a:lnTo>
                <a:lnTo>
                  <a:pt x="863" y="3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0600" y="61912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scret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18920" y="4187880"/>
            <a:ext cx="2155680" cy="1961640"/>
            <a:chOff x="718920" y="4187880"/>
            <a:chExt cx="2155680" cy="1961640"/>
          </a:xfrm>
        </p:grpSpPr>
        <p:sp>
          <p:nvSpPr>
            <p:cNvPr id="133" name=""/>
            <p:cNvSpPr/>
            <p:nvPr/>
          </p:nvSpPr>
          <p:spPr>
            <a:xfrm>
              <a:off x="1053360" y="614412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05336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892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504960" y="4189320"/>
            <a:ext cx="2155680" cy="1961640"/>
            <a:chOff x="3504960" y="4189320"/>
            <a:chExt cx="2155680" cy="1961640"/>
          </a:xfrm>
        </p:grpSpPr>
        <p:sp>
          <p:nvSpPr>
            <p:cNvPr id="137" name=""/>
            <p:cNvSpPr/>
            <p:nvPr/>
          </p:nvSpPr>
          <p:spPr>
            <a:xfrm>
              <a:off x="3839400" y="614592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839400" y="433980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4960" y="418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55760" y="4519440"/>
            <a:ext cx="1457280" cy="838440"/>
            <a:chOff x="1355760" y="4519440"/>
            <a:chExt cx="1457280" cy="838440"/>
          </a:xfrm>
        </p:grpSpPr>
        <p:sp>
          <p:nvSpPr>
            <p:cNvPr id="141" name=""/>
            <p:cNvSpPr/>
            <p:nvPr/>
          </p:nvSpPr>
          <p:spPr>
            <a:xfrm>
              <a:off x="172404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6716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576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244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071960" y="6202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103280" y="4392360"/>
            <a:ext cx="1484640" cy="1068480"/>
            <a:chOff x="4103280" y="4392360"/>
            <a:chExt cx="1484640" cy="1068480"/>
          </a:xfrm>
        </p:grpSpPr>
        <p:sp>
          <p:nvSpPr>
            <p:cNvPr id="147" name=""/>
            <p:cNvSpPr/>
            <p:nvPr/>
          </p:nvSpPr>
          <p:spPr>
            <a:xfrm>
              <a:off x="449892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4204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064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732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3200" y="481824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38920" y="500328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402160" y="45687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103280" y="443664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533920" y="439236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2920" y="530712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5280" y="54608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4559400" y="35877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rot="18426000">
            <a:off x="3063240" y="2682720"/>
            <a:ext cx="504720" cy="486360"/>
          </a:xfrm>
          <a:prstGeom prst="rightArrow">
            <a:avLst>
              <a:gd name="adj1" fmla="val 50000"/>
              <a:gd name="adj2" fmla="val 2594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562720" y="35226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437080" y="3408480"/>
            <a:ext cx="332280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495600" y="17748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70320" y="1674720"/>
            <a:ext cx="233532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4334000">
            <a:off x="5565600" y="26521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460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461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470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1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2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3" name=""/>
          <p:cNvSpPr/>
          <p:nvPr/>
        </p:nvSpPr>
        <p:spPr>
          <a:xfrm>
            <a:off x="5127480" y="4689360"/>
            <a:ext cx="2262240" cy="725760"/>
          </a:xfrm>
          <a:prstGeom prst="wedgeRoundRectCallout">
            <a:avLst>
              <a:gd name="adj1" fmla="val -92175"/>
              <a:gd name="adj2" fmla="val -8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59240" y="4754520"/>
            <a:ext cx="2038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736560" y="3528720"/>
            <a:ext cx="3441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all tre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71400" y="3414600"/>
            <a:ext cx="3461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58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ob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                    Node averaging operation preserves messages oriented towards this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 previously passed messa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special choice of tre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n ordering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829480" y="2070000"/>
            <a:ext cx="583920" cy="2908440"/>
          </a:xfrm>
          <a:custGeom>
            <a:avLst/>
            <a:gdLst>
              <a:gd name="textAreaLeft" fmla="*/ 28440 w 583920"/>
              <a:gd name="textAreaRight" fmla="*/ 555480 w 583920"/>
              <a:gd name="textAreaTop" fmla="*/ 28440 h 2908440"/>
              <a:gd name="textAreaBottom" fmla="*/ 2880000 h 2908440"/>
            </a:gdLst>
            <a:ahLst/>
            <a:rect l="textAreaLeft" t="textAreaTop" r="textAreaRight" b="textAreaBottom"/>
            <a:pathLst>
              <a:path w="21600" h="107534">
                <a:moveTo>
                  <a:pt x="3600" y="0"/>
                </a:moveTo>
                <a:arcTo wR="3600" hR="3600" stAng="16200000" swAng="-5400000"/>
                <a:lnTo>
                  <a:pt x="0" y="103934"/>
                </a:lnTo>
                <a:arcTo wR="3600" hR="3600" stAng="10800000" swAng="-5400000"/>
                <a:lnTo>
                  <a:pt x="18000" y="107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942160" y="448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43600" y="2192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088040" y="2193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244000" y="2193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45040" y="3336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089840" y="33386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245440" y="33386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464160" y="3890880"/>
            <a:ext cx="661680" cy="646200"/>
            <a:chOff x="6464160" y="3890880"/>
            <a:chExt cx="661680" cy="646200"/>
          </a:xfrm>
        </p:grpSpPr>
        <p:sp>
          <p:nvSpPr>
            <p:cNvPr id="1563" name=""/>
            <p:cNvSpPr/>
            <p:nvPr/>
          </p:nvSpPr>
          <p:spPr>
            <a:xfrm>
              <a:off x="6464160" y="45370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7122600" y="38908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453360" y="2673360"/>
            <a:ext cx="661680" cy="646200"/>
            <a:chOff x="6453360" y="2673360"/>
            <a:chExt cx="661680" cy="646200"/>
          </a:xfrm>
        </p:grpSpPr>
        <p:sp>
          <p:nvSpPr>
            <p:cNvPr id="1566" name=""/>
            <p:cNvSpPr/>
            <p:nvPr/>
          </p:nvSpPr>
          <p:spPr>
            <a:xfrm>
              <a:off x="6453360" y="3319560"/>
              <a:ext cx="5299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7112160" y="2673360"/>
              <a:ext cx="288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7608960" y="3905280"/>
            <a:ext cx="661680" cy="646200"/>
            <a:chOff x="7608960" y="3905280"/>
            <a:chExt cx="661680" cy="646200"/>
          </a:xfrm>
        </p:grpSpPr>
        <p:sp>
          <p:nvSpPr>
            <p:cNvPr id="1569" name=""/>
            <p:cNvSpPr/>
            <p:nvPr/>
          </p:nvSpPr>
          <p:spPr>
            <a:xfrm>
              <a:off x="7608960" y="45514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8267400" y="39052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7597800" y="2687760"/>
            <a:ext cx="661680" cy="645840"/>
            <a:chOff x="7597800" y="2687760"/>
            <a:chExt cx="661680" cy="645840"/>
          </a:xfrm>
        </p:grpSpPr>
        <p:sp>
          <p:nvSpPr>
            <p:cNvPr id="1572" name=""/>
            <p:cNvSpPr/>
            <p:nvPr/>
          </p:nvSpPr>
          <p:spPr>
            <a:xfrm>
              <a:off x="7597800" y="33336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8256240" y="268776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6454800" y="2178000"/>
            <a:ext cx="530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599240" y="2192400"/>
            <a:ext cx="530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5955840" y="3892680"/>
            <a:ext cx="3240" cy="546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5944680" y="2674800"/>
            <a:ext cx="3240" cy="546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560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nodes in the increas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messages from lower neighb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running time of on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86600" y="44910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244000" y="44928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5942160" y="4489560"/>
            <a:ext cx="975960" cy="365040"/>
            <a:chOff x="5942160" y="4489560"/>
            <a:chExt cx="975960" cy="365040"/>
          </a:xfrm>
        </p:grpSpPr>
        <p:sp>
          <p:nvSpPr>
            <p:cNvPr id="1614" name=""/>
            <p:cNvSpPr/>
            <p:nvPr/>
          </p:nvSpPr>
          <p:spPr>
            <a:xfrm>
              <a:off x="5942160" y="4489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387840" y="48546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8245440" y="3338640"/>
            <a:ext cx="360360" cy="1049040"/>
            <a:chOff x="8245440" y="3338640"/>
            <a:chExt cx="360360" cy="1049040"/>
          </a:xfrm>
        </p:grpSpPr>
        <p:sp>
          <p:nvSpPr>
            <p:cNvPr id="1617" name=""/>
            <p:cNvSpPr/>
            <p:nvPr/>
          </p:nvSpPr>
          <p:spPr>
            <a:xfrm>
              <a:off x="8245440" y="3338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8584920" y="3841920"/>
              <a:ext cx="3240" cy="5457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7089840" y="3338640"/>
            <a:ext cx="961560" cy="1034640"/>
            <a:chOff x="7089840" y="3338640"/>
            <a:chExt cx="961560" cy="1034640"/>
          </a:xfrm>
        </p:grpSpPr>
        <p:sp>
          <p:nvSpPr>
            <p:cNvPr id="1620" name=""/>
            <p:cNvSpPr/>
            <p:nvPr/>
          </p:nvSpPr>
          <p:spPr>
            <a:xfrm>
              <a:off x="7089840" y="3338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7440120" y="382716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7521120" y="36766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8244000" y="2193840"/>
            <a:ext cx="360360" cy="975960"/>
            <a:chOff x="8244000" y="2193840"/>
            <a:chExt cx="360360" cy="975960"/>
          </a:xfrm>
        </p:grpSpPr>
        <p:sp>
          <p:nvSpPr>
            <p:cNvPr id="1624" name=""/>
            <p:cNvSpPr/>
            <p:nvPr/>
          </p:nvSpPr>
          <p:spPr>
            <a:xfrm>
              <a:off x="8244000" y="2193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 flipV="1">
              <a:off x="8573760" y="26236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7088040" y="2193840"/>
            <a:ext cx="965160" cy="961920"/>
            <a:chOff x="7088040" y="2193840"/>
            <a:chExt cx="965160" cy="961920"/>
          </a:xfrm>
        </p:grpSpPr>
        <p:sp>
          <p:nvSpPr>
            <p:cNvPr id="1627" name=""/>
            <p:cNvSpPr/>
            <p:nvPr/>
          </p:nvSpPr>
          <p:spPr>
            <a:xfrm>
              <a:off x="7088040" y="2193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>
              <a:off x="7429680" y="2609640"/>
              <a:ext cx="288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7522920" y="253512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5945040" y="3336840"/>
            <a:ext cx="961920" cy="1037880"/>
            <a:chOff x="5945040" y="3336840"/>
            <a:chExt cx="961920" cy="1037880"/>
          </a:xfrm>
        </p:grpSpPr>
        <p:sp>
          <p:nvSpPr>
            <p:cNvPr id="1631" name=""/>
            <p:cNvSpPr/>
            <p:nvPr/>
          </p:nvSpPr>
          <p:spPr>
            <a:xfrm>
              <a:off x="5945040" y="3336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6376680" y="36622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6273360" y="382860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943600" y="2192400"/>
            <a:ext cx="964800" cy="964800"/>
            <a:chOff x="5943600" y="2192400"/>
            <a:chExt cx="964800" cy="964800"/>
          </a:xfrm>
        </p:grpSpPr>
        <p:sp>
          <p:nvSpPr>
            <p:cNvPr id="1635" name=""/>
            <p:cNvSpPr/>
            <p:nvPr/>
          </p:nvSpPr>
          <p:spPr>
            <a:xfrm>
              <a:off x="5943600" y="2192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378120" y="25210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6262200" y="26110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560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nodes in the increas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messages from lower neighb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running time of on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7086600" y="4491000"/>
            <a:ext cx="975960" cy="378000"/>
            <a:chOff x="7086600" y="4491000"/>
            <a:chExt cx="975960" cy="378000"/>
          </a:xfrm>
        </p:grpSpPr>
        <p:sp>
          <p:nvSpPr>
            <p:cNvPr id="1640" name=""/>
            <p:cNvSpPr/>
            <p:nvPr/>
          </p:nvSpPr>
          <p:spPr>
            <a:xfrm flipH="1">
              <a:off x="7532280" y="48690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86600" y="4491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8244000" y="44928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dvantage of TRW-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only half as much memory as standard message pass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observation for bipartite graphs and parallel schedule was made in [Felzenszwalb&amp;Huttenlocher’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5327640" y="4473720"/>
            <a:ext cx="2376360" cy="1671480"/>
            <a:chOff x="5327640" y="4473720"/>
            <a:chExt cx="2376360" cy="1671480"/>
          </a:xfrm>
        </p:grpSpPr>
        <p:grpSp>
          <p:nvGrpSpPr>
            <p:cNvPr id="1646" name=""/>
            <p:cNvGrpSpPr/>
            <p:nvPr/>
          </p:nvGrpSpPr>
          <p:grpSpPr>
            <a:xfrm>
              <a:off x="5327640" y="4473720"/>
              <a:ext cx="2376360" cy="1671480"/>
              <a:chOff x="5327640" y="4473720"/>
              <a:chExt cx="2376360" cy="167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32764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32764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32764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03252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03252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03252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73560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73560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3560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44048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44048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44048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459400" y="601344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59400" y="531000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459400" y="460548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757224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86736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16428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545940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561492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564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02000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1492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3564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2000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614920" y="59151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30072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6984720" y="609444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69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7488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43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43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6436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64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48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67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1655640" y="4473720"/>
            <a:ext cx="2376360" cy="1671480"/>
            <a:chOff x="1655640" y="4473720"/>
            <a:chExt cx="2376360" cy="1671480"/>
          </a:xfrm>
        </p:grpSpPr>
        <p:grpSp>
          <p:nvGrpSpPr>
            <p:cNvPr id="1684" name=""/>
            <p:cNvGrpSpPr/>
            <p:nvPr/>
          </p:nvGrpSpPr>
          <p:grpSpPr>
            <a:xfrm>
              <a:off x="1655640" y="4473720"/>
              <a:ext cx="2376360" cy="1671480"/>
              <a:chOff x="1655640" y="4473720"/>
              <a:chExt cx="2376360" cy="1671480"/>
            </a:xfrm>
          </p:grpSpPr>
          <p:sp>
            <p:nvSpPr>
              <p:cNvPr id="1685" name=""/>
              <p:cNvSpPr/>
              <p:nvPr/>
            </p:nvSpPr>
            <p:spPr>
              <a:xfrm>
                <a:off x="165564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65564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65564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36052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36052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6052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06360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06360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06360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76848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76848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76848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787400" y="601344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87400" y="531000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87400" y="460548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390024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319536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49228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178740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194328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66400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4800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94328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400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4800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943280" y="59151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64000" y="59151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48000" y="59151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908000" y="46893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2628720" y="46893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3313080" y="46893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1908000" y="54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628720" y="54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313080" y="54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190800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2628720" y="609444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331308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1692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169236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2413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241308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3097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309708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3816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381636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71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871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9236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592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27672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672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5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5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1625760" y="62578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135480" y="626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W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mental resul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nary segmentation (“GrabCut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784080" y="1425600"/>
            <a:ext cx="7301160" cy="547524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4443480" y="3379680"/>
            <a:ext cx="2309760" cy="151128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4091040" y="4589640"/>
            <a:ext cx="2889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456080" y="4575240"/>
            <a:ext cx="2249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544880" y="6066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10760" y="15717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90360" y="16905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ver 50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al results: ste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6454800" y="1809720"/>
            <a:ext cx="2430360" cy="1760400"/>
          </a:xfrm>
          <a:prstGeom prst="rect">
            <a:avLst/>
          </a:prstGeom>
          <a:ln w="0">
            <a:noFill/>
          </a:ln>
        </p:spPr>
      </p:pic>
      <p:pic>
        <p:nvPicPr>
          <p:cNvPr id="1752" name="" descr=""/>
          <p:cNvPicPr/>
          <p:nvPr/>
        </p:nvPicPr>
        <p:blipFill>
          <a:blip r:embed="rId2"/>
          <a:stretch/>
        </p:blipFill>
        <p:spPr>
          <a:xfrm>
            <a:off x="6496200" y="4321080"/>
            <a:ext cx="2457360" cy="184320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>
            <a:off x="4566960" y="36957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104960" y="3703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452840" y="629136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147080" y="629928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W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7" name="" descr=""/>
          <p:cNvPicPr/>
          <p:nvPr/>
        </p:nvPicPr>
        <p:blipFill>
          <a:blip r:embed="rId3"/>
          <a:stretch/>
        </p:blipFill>
        <p:spPr>
          <a:xfrm>
            <a:off x="887400" y="1677960"/>
            <a:ext cx="2309760" cy="1511280"/>
          </a:xfrm>
          <a:prstGeom prst="rect">
            <a:avLst/>
          </a:prstGeom>
          <a:ln w="0">
            <a:noFill/>
          </a:ln>
        </p:spPr>
      </p:pic>
      <p:sp>
        <p:nvSpPr>
          <p:cNvPr id="1758" name=""/>
          <p:cNvSpPr/>
          <p:nvPr/>
        </p:nvSpPr>
        <p:spPr>
          <a:xfrm>
            <a:off x="2060640" y="5006880"/>
            <a:ext cx="1278000" cy="10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4"/>
          <a:stretch/>
        </p:blipFill>
        <p:spPr>
          <a:xfrm>
            <a:off x="-128520" y="3430440"/>
            <a:ext cx="4273560" cy="3205440"/>
          </a:xfrm>
          <a:prstGeom prst="rect">
            <a:avLst/>
          </a:prstGeom>
          <a:ln w="0">
            <a:noFill/>
          </a:ln>
        </p:spPr>
      </p:pic>
      <p:pic>
        <p:nvPicPr>
          <p:cNvPr id="1760" name="" descr=""/>
          <p:cNvPicPr/>
          <p:nvPr/>
        </p:nvPicPr>
        <p:blipFill>
          <a:blip r:embed="rId5"/>
          <a:stretch/>
        </p:blipFill>
        <p:spPr>
          <a:xfrm>
            <a:off x="3849840" y="4322880"/>
            <a:ext cx="2457360" cy="1842840"/>
          </a:xfrm>
          <a:prstGeom prst="rect">
            <a:avLst/>
          </a:prstGeom>
          <a:ln w="0">
            <a:noFill/>
          </a:ln>
        </p:spPr>
      </p:pic>
      <p:pic>
        <p:nvPicPr>
          <p:cNvPr id="1761" name="" descr=""/>
          <p:cNvPicPr/>
          <p:nvPr/>
        </p:nvPicPr>
        <p:blipFill>
          <a:blip r:embed="rId6"/>
          <a:stretch/>
        </p:blipFill>
        <p:spPr>
          <a:xfrm>
            <a:off x="3828960" y="1766880"/>
            <a:ext cx="2457720" cy="184320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al results: ste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-71280" y="3146400"/>
            <a:ext cx="5011560" cy="37591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2"/>
          <a:stretch/>
        </p:blipFill>
        <p:spPr>
          <a:xfrm>
            <a:off x="4249800" y="3139920"/>
            <a:ext cx="5022720" cy="376740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3"/>
          <a:stretch/>
        </p:blipFill>
        <p:spPr>
          <a:xfrm>
            <a:off x="3398760" y="1535040"/>
            <a:ext cx="2309760" cy="151128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4"/>
          <a:stretch/>
        </p:blipFill>
        <p:spPr>
          <a:xfrm>
            <a:off x="993600" y="1477800"/>
            <a:ext cx="1775160" cy="1565280"/>
          </a:xfrm>
          <a:prstGeom prst="rect">
            <a:avLst/>
          </a:prstGeom>
          <a:ln w="0">
            <a:noFill/>
          </a:ln>
        </p:spPr>
      </p:pic>
      <p:pic>
        <p:nvPicPr>
          <p:cNvPr id="1768" name="" descr=""/>
          <p:cNvPicPr/>
          <p:nvPr/>
        </p:nvPicPr>
        <p:blipFill>
          <a:blip r:embed="rId5"/>
          <a:stretch/>
        </p:blipFill>
        <p:spPr>
          <a:xfrm>
            <a:off x="6378480" y="1479600"/>
            <a:ext cx="1770120" cy="154944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57120" y="985320"/>
            <a:ext cx="86536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P estimation algorithms are based 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LP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ize lower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ways to formulate low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posiforms: leads to maxflo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ynomial tim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t: applicable for restricted energies (e.g. binary vari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modular functions: global 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ubmodular functions: part of optimal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convex combination of trees: leads to TR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vergence in the limit (for TRW-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ble to arbitrary 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cuts vs. TR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uracy: sim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lity: TRW is more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ed: for stereo TRW is currently 2-5 times slower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 vs. 50 years of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re suitable for parallel implementation (GPU? Hardware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3" name=""/>
          <p:cNvGrpSpPr/>
          <p:nvPr/>
        </p:nvGrpSpPr>
        <p:grpSpPr>
          <a:xfrm>
            <a:off x="1258920" y="2529000"/>
            <a:ext cx="4428720" cy="2663640"/>
            <a:chOff x="1258920" y="2529000"/>
            <a:chExt cx="4428720" cy="2663640"/>
          </a:xfrm>
        </p:grpSpPr>
        <p:grpSp>
          <p:nvGrpSpPr>
            <p:cNvPr id="1774" name=""/>
            <p:cNvGrpSpPr/>
            <p:nvPr/>
          </p:nvGrpSpPr>
          <p:grpSpPr>
            <a:xfrm>
              <a:off x="1258920" y="2770200"/>
              <a:ext cx="4267080" cy="2133720"/>
              <a:chOff x="1258920" y="2770200"/>
              <a:chExt cx="4267080" cy="2133720"/>
            </a:xfrm>
          </p:grpSpPr>
          <p:sp>
            <p:nvSpPr>
              <p:cNvPr id="1775" name=""/>
              <p:cNvSpPr/>
              <p:nvPr/>
            </p:nvSpPr>
            <p:spPr>
              <a:xfrm>
                <a:off x="1258920" y="29224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258920" y="32274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258920" y="4141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258920" y="38368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58920" y="35323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12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7157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02068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3256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6301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3508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2400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445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1334880" y="2846160"/>
                <a:ext cx="106632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1334880" y="2846520"/>
                <a:ext cx="137124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1334880" y="2846520"/>
                <a:ext cx="1676160" cy="167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13348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16398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1944360" y="2846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22492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25542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858760" y="2846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31636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4686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1334880" y="2846520"/>
                <a:ext cx="7617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1334880" y="2846520"/>
                <a:ext cx="4568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1334880" y="2846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334880" y="3151080"/>
                <a:ext cx="167616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6398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944360" y="284652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2492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5542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858760" y="284652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1636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4686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34880" y="3456000"/>
                <a:ext cx="137124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334880" y="3760920"/>
                <a:ext cx="106632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334880" y="406548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398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3348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3348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3348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3348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98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944360" y="40654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2492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5542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858760" y="40654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1636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4686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3348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6398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6398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6398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944360" y="34560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944360" y="37609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944360" y="31510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944360" y="28465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2492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2492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2492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2492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542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5542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5542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542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858760" y="37609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636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686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58760" y="34560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1636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4686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58760" y="31510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1636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86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858760" y="28465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1636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4686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58920" y="44467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34880" y="4370400"/>
                <a:ext cx="4568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348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6398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944360" y="43704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2492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5542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858760" y="43704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1636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4686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8920" y="47512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34880" y="467532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3348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6398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944360" y="46753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2492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5542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858760" y="46753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1636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686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3348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3635280" y="2529000"/>
              <a:ext cx="205236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vs. continuous func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643280" y="1089000"/>
            <a:ext cx="1800" cy="5356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381560" y="765000"/>
            <a:ext cx="47624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inuous formulation (Geodesic active contours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9" name=""/>
              <p:cNvSpPr txBox="1"/>
              <p:nvPr/>
            </p:nvSpPr>
            <p:spPr>
              <a:xfrm>
                <a:off x="358920" y="2023920"/>
                <a:ext cx="4138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"/>
              <p:cNvSpPr txBox="1"/>
              <p:nvPr/>
            </p:nvSpPr>
            <p:spPr>
              <a:xfrm>
                <a:off x="5479920" y="1808280"/>
                <a:ext cx="2637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1" name=""/>
          <p:cNvSpPr/>
          <p:nvPr/>
        </p:nvSpPr>
        <p:spPr>
          <a:xfrm>
            <a:off x="5778360" y="3033720"/>
            <a:ext cx="1565280" cy="1608120"/>
          </a:xfrm>
          <a:custGeom>
            <a:avLst/>
            <a:gdLst/>
            <a:ahLst/>
            <a:rect l="l" t="t" r="r" b="b"/>
            <a:pathLst>
              <a:path w="986" h="1013">
                <a:moveTo>
                  <a:pt x="90" y="642"/>
                </a:moveTo>
                <a:cubicBezTo>
                  <a:pt x="116" y="661"/>
                  <a:pt x="169" y="662"/>
                  <a:pt x="203" y="688"/>
                </a:cubicBezTo>
                <a:cubicBezTo>
                  <a:pt x="237" y="714"/>
                  <a:pt x="252" y="752"/>
                  <a:pt x="294" y="801"/>
                </a:cubicBezTo>
                <a:cubicBezTo>
                  <a:pt x="336" y="850"/>
                  <a:pt x="385" y="953"/>
                  <a:pt x="453" y="983"/>
                </a:cubicBezTo>
                <a:cubicBezTo>
                  <a:pt x="521" y="1013"/>
                  <a:pt x="623" y="1013"/>
                  <a:pt x="702" y="983"/>
                </a:cubicBezTo>
                <a:cubicBezTo>
                  <a:pt x="781" y="953"/>
                  <a:pt x="891" y="854"/>
                  <a:pt x="929" y="801"/>
                </a:cubicBezTo>
                <a:cubicBezTo>
                  <a:pt x="967" y="748"/>
                  <a:pt x="944" y="699"/>
                  <a:pt x="929" y="665"/>
                </a:cubicBezTo>
                <a:cubicBezTo>
                  <a:pt x="914" y="631"/>
                  <a:pt x="857" y="658"/>
                  <a:pt x="838" y="597"/>
                </a:cubicBezTo>
                <a:cubicBezTo>
                  <a:pt x="819" y="536"/>
                  <a:pt x="801" y="362"/>
                  <a:pt x="816" y="302"/>
                </a:cubicBezTo>
                <a:cubicBezTo>
                  <a:pt x="831" y="242"/>
                  <a:pt x="906" y="268"/>
                  <a:pt x="929" y="234"/>
                </a:cubicBezTo>
                <a:cubicBezTo>
                  <a:pt x="952" y="200"/>
                  <a:pt x="986" y="132"/>
                  <a:pt x="952" y="98"/>
                </a:cubicBezTo>
                <a:cubicBezTo>
                  <a:pt x="918" y="64"/>
                  <a:pt x="831" y="37"/>
                  <a:pt x="725" y="30"/>
                </a:cubicBezTo>
                <a:cubicBezTo>
                  <a:pt x="619" y="23"/>
                  <a:pt x="430" y="0"/>
                  <a:pt x="317" y="53"/>
                </a:cubicBezTo>
                <a:cubicBezTo>
                  <a:pt x="204" y="106"/>
                  <a:pt x="90" y="261"/>
                  <a:pt x="45" y="348"/>
                </a:cubicBezTo>
                <a:cubicBezTo>
                  <a:pt x="0" y="435"/>
                  <a:pt x="38" y="525"/>
                  <a:pt x="45" y="574"/>
                </a:cubicBezTo>
                <a:cubicBezTo>
                  <a:pt x="52" y="623"/>
                  <a:pt x="64" y="623"/>
                  <a:pt x="90" y="642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360" y="5373720"/>
            <a:ext cx="45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al minimum, polynomi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rication artefa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932360" y="5265720"/>
            <a:ext cx="428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stability?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ly motiv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 under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-49320" y="766800"/>
            <a:ext cx="47624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crete formulation  (Graph cuts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676440"/>
            <a:ext cx="849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tion and Prelimina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684360" y="3249720"/>
            <a:ext cx="5111640" cy="684000"/>
          </a:xfrm>
          <a:prstGeom prst="rect">
            <a:avLst/>
          </a:prstGeom>
          <a:solidFill>
            <a:srgbClr val="ccff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6084720" y="1952640"/>
            <a:ext cx="4429440" cy="2663640"/>
            <a:chOff x="6084720" y="1952640"/>
            <a:chExt cx="4429440" cy="2663640"/>
          </a:xfrm>
        </p:grpSpPr>
        <p:grpSp>
          <p:nvGrpSpPr>
            <p:cNvPr id="1887" name=""/>
            <p:cNvGrpSpPr/>
            <p:nvPr/>
          </p:nvGrpSpPr>
          <p:grpSpPr>
            <a:xfrm>
              <a:off x="6084720" y="2193840"/>
              <a:ext cx="4267440" cy="2133720"/>
              <a:chOff x="6084720" y="2193840"/>
              <a:chExt cx="4267440" cy="2133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6084720" y="23461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84720" y="265104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084720" y="356544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84720" y="32605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084720" y="295596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373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5419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84684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1517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4563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76124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0661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707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6161040" y="2269800"/>
                <a:ext cx="106668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161040" y="227016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6161040" y="2270160"/>
                <a:ext cx="1676520" cy="167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1610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64659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770520" y="226980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70754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73803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7684920" y="226980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79898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82947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6161040" y="2270160"/>
                <a:ext cx="7621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6161040" y="227016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6161040" y="2269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61040" y="2574720"/>
                <a:ext cx="167652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4659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770520" y="227016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0754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3803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684920" y="227016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898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2947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161040" y="287964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161040" y="3184560"/>
                <a:ext cx="106668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61040" y="3489120"/>
                <a:ext cx="7621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4659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1610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610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1610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1610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4659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770520" y="34891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754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03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684920" y="34891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898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2947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610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659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4659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4659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770520" y="28796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770520" y="31845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770520" y="25747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770520" y="22701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0754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754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0754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754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3803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803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3803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3803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684920" y="31845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898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2947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684920" y="28796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898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2947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84920" y="25747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898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2947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684920" y="22701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898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2947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84720" y="387036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61040" y="379404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1610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4659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770520" y="37940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0754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803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84920" y="37940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898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2947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084720" y="41749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61040" y="4098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1610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4659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770520" y="40989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0754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803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684920" y="40989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898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2947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1610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7" name=""/>
            <p:cNvSpPr/>
            <p:nvPr/>
          </p:nvSpPr>
          <p:spPr>
            <a:xfrm>
              <a:off x="8461440" y="1952640"/>
              <a:ext cx="205272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-c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337440" y="2409840"/>
            <a:ext cx="1565280" cy="1608120"/>
          </a:xfrm>
          <a:custGeom>
            <a:avLst/>
            <a:gdLst/>
            <a:ahLst/>
            <a:rect l="l" t="t" r="r" b="b"/>
            <a:pathLst>
              <a:path w="986" h="1013">
                <a:moveTo>
                  <a:pt x="90" y="642"/>
                </a:moveTo>
                <a:cubicBezTo>
                  <a:pt x="116" y="661"/>
                  <a:pt x="169" y="662"/>
                  <a:pt x="203" y="688"/>
                </a:cubicBezTo>
                <a:cubicBezTo>
                  <a:pt x="237" y="714"/>
                  <a:pt x="252" y="752"/>
                  <a:pt x="294" y="801"/>
                </a:cubicBezTo>
                <a:cubicBezTo>
                  <a:pt x="336" y="850"/>
                  <a:pt x="385" y="953"/>
                  <a:pt x="453" y="983"/>
                </a:cubicBezTo>
                <a:cubicBezTo>
                  <a:pt x="521" y="1013"/>
                  <a:pt x="623" y="1013"/>
                  <a:pt x="702" y="983"/>
                </a:cubicBezTo>
                <a:cubicBezTo>
                  <a:pt x="781" y="953"/>
                  <a:pt x="891" y="854"/>
                  <a:pt x="929" y="801"/>
                </a:cubicBezTo>
                <a:cubicBezTo>
                  <a:pt x="967" y="748"/>
                  <a:pt x="944" y="699"/>
                  <a:pt x="929" y="665"/>
                </a:cubicBezTo>
                <a:cubicBezTo>
                  <a:pt x="914" y="631"/>
                  <a:pt x="857" y="658"/>
                  <a:pt x="838" y="597"/>
                </a:cubicBezTo>
                <a:cubicBezTo>
                  <a:pt x="819" y="536"/>
                  <a:pt x="801" y="362"/>
                  <a:pt x="816" y="302"/>
                </a:cubicBezTo>
                <a:cubicBezTo>
                  <a:pt x="831" y="242"/>
                  <a:pt x="906" y="268"/>
                  <a:pt x="929" y="234"/>
                </a:cubicBezTo>
                <a:cubicBezTo>
                  <a:pt x="952" y="200"/>
                  <a:pt x="986" y="132"/>
                  <a:pt x="952" y="98"/>
                </a:cubicBezTo>
                <a:cubicBezTo>
                  <a:pt x="918" y="64"/>
                  <a:pt x="831" y="37"/>
                  <a:pt x="725" y="30"/>
                </a:cubicBezTo>
                <a:cubicBezTo>
                  <a:pt x="619" y="23"/>
                  <a:pt x="430" y="0"/>
                  <a:pt x="317" y="53"/>
                </a:cubicBezTo>
                <a:cubicBezTo>
                  <a:pt x="204" y="106"/>
                  <a:pt x="90" y="261"/>
                  <a:pt x="45" y="348"/>
                </a:cubicBezTo>
                <a:cubicBezTo>
                  <a:pt x="0" y="435"/>
                  <a:pt x="38" y="525"/>
                  <a:pt x="45" y="574"/>
                </a:cubicBezTo>
                <a:cubicBezTo>
                  <a:pt x="52" y="623"/>
                  <a:pt x="64" y="623"/>
                  <a:pt x="90" y="642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57120" y="985320"/>
            <a:ext cx="55101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fun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graph such that for smooth contou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2" name=""/>
              <p:cNvSpPr txBox="1"/>
              <p:nvPr/>
            </p:nvSpPr>
            <p:spPr>
              <a:xfrm>
                <a:off x="4402080" y="797040"/>
                <a:ext cx="4165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)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io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V</m:t>
                                  </m:r>
                                </m:e>
                              </m:mr>
                            </m:m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898560" y="3392640"/>
                <a:ext cx="47894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st of the corresponding cu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4" name=""/>
          <p:cNvSpPr/>
          <p:nvPr/>
        </p:nvSpPr>
        <p:spPr>
          <a:xfrm>
            <a:off x="357120" y="4189320"/>
            <a:ext cx="87868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of continuous function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[Boykov&amp;Kolmogorov’03], [Kolmogorov&amp;Boykov’05]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metric length/area (e.g. Riemann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given vecto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on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 - visu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76560" y="3449520"/>
            <a:ext cx="3671640" cy="2981160"/>
            <a:chOff x="2176560" y="3449520"/>
            <a:chExt cx="3671640" cy="2981160"/>
          </a:xfrm>
        </p:grpSpPr>
        <p:grpSp>
          <p:nvGrpSpPr>
            <p:cNvPr id="163" name=""/>
            <p:cNvGrpSpPr/>
            <p:nvPr/>
          </p:nvGrpSpPr>
          <p:grpSpPr>
            <a:xfrm>
              <a:off x="2176560" y="3906720"/>
              <a:ext cx="3671640" cy="1777680"/>
              <a:chOff x="2176560" y="3906720"/>
              <a:chExt cx="3671640" cy="1777680"/>
            </a:xfrm>
          </p:grpSpPr>
          <p:sp>
            <p:nvSpPr>
              <p:cNvPr id="164" name=""/>
              <p:cNvSpPr/>
              <p:nvPr/>
            </p:nvSpPr>
            <p:spPr>
              <a:xfrm>
                <a:off x="2634840" y="5623920"/>
                <a:ext cx="275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4840" y="3967560"/>
                <a:ext cx="275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634840" y="3967200"/>
                <a:ext cx="2754360" cy="165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34840" y="3967560"/>
                <a:ext cx="2754360" cy="165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76560" y="5348160"/>
                <a:ext cx="458280" cy="275760"/>
                <a:chOff x="2176560" y="5348160"/>
                <a:chExt cx="458280" cy="27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06800" y="5623920"/>
                  <a:ext cx="42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76560" y="5348160"/>
                  <a:ext cx="45828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176560" y="3968280"/>
                <a:ext cx="458280" cy="275760"/>
                <a:chOff x="2176560" y="3968280"/>
                <a:chExt cx="458280" cy="27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206800" y="3968280"/>
                  <a:ext cx="42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2176560" y="3968280"/>
                  <a:ext cx="45828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89560" y="3967560"/>
                <a:ext cx="458640" cy="275760"/>
                <a:chOff x="5389560" y="3967560"/>
                <a:chExt cx="458640" cy="275760"/>
              </a:xfrm>
            </p:grpSpPr>
            <p:sp>
              <p:nvSpPr>
                <p:cNvPr id="175" name=""/>
                <p:cNvSpPr/>
                <p:nvPr/>
              </p:nvSpPr>
              <p:spPr>
                <a:xfrm flipH="1">
                  <a:off x="5389560" y="3967560"/>
                  <a:ext cx="428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389560" y="3967560"/>
                  <a:ext cx="45864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89560" y="5348160"/>
                <a:ext cx="458640" cy="275760"/>
                <a:chOff x="5389560" y="5348160"/>
                <a:chExt cx="458640" cy="27576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5389560" y="5623920"/>
                  <a:ext cx="428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5389560" y="5348160"/>
                  <a:ext cx="45864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573640" y="556236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73640" y="390672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000" y="390672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28000" y="556236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38480" y="34509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7160" y="419256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2520" y="344952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2520" y="560520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2480" y="345096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2480" y="560700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48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1000" y="41860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52800" y="6132600"/>
            <a:ext cx="37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edg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     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31920" y="39625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5360" y="3724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20760" y="56149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200" y="5376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60480" y="2986200"/>
            <a:ext cx="1495440" cy="2151000"/>
            <a:chOff x="960480" y="2986200"/>
            <a:chExt cx="1495440" cy="2151000"/>
          </a:xfrm>
        </p:grpSpPr>
        <p:sp>
          <p:nvSpPr>
            <p:cNvPr id="198" name=""/>
            <p:cNvSpPr/>
            <p:nvPr/>
          </p:nvSpPr>
          <p:spPr>
            <a:xfrm>
              <a:off x="960480" y="2986200"/>
              <a:ext cx="1065240" cy="627120"/>
            </a:xfrm>
            <a:prstGeom prst="wedgeRoundRectCallout">
              <a:avLst>
                <a:gd name="adj1" fmla="val 86958"/>
                <a:gd name="adj2" fmla="val 4670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1055520" y="2998800"/>
                  <a:ext cx="8877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239840" y="4510080"/>
              <a:ext cx="1216080" cy="627120"/>
            </a:xfrm>
            <a:prstGeom prst="wedgeRoundRectCallout">
              <a:avLst>
                <a:gd name="adj1" fmla="val 109921"/>
                <a:gd name="adj2" fmla="val -56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254240" y="4545000"/>
                  <a:ext cx="11840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7058160" y="5925960"/>
            <a:ext cx="541080" cy="721080"/>
            <a:chOff x="7058160" y="5925960"/>
            <a:chExt cx="541080" cy="721080"/>
          </a:xfrm>
        </p:grpSpPr>
        <p:sp>
          <p:nvSpPr>
            <p:cNvPr id="205" name=""/>
            <p:cNvSpPr/>
            <p:nvPr/>
          </p:nvSpPr>
          <p:spPr>
            <a:xfrm>
              <a:off x="7058160" y="5925960"/>
              <a:ext cx="541080" cy="72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0240" y="5958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921800" y="5167440"/>
            <a:ext cx="1064880" cy="626760"/>
            <a:chOff x="7921800" y="5167440"/>
            <a:chExt cx="1064880" cy="626760"/>
          </a:xfrm>
        </p:grpSpPr>
        <p:sp>
          <p:nvSpPr>
            <p:cNvPr id="208" name=""/>
            <p:cNvSpPr/>
            <p:nvPr/>
          </p:nvSpPr>
          <p:spPr>
            <a:xfrm>
              <a:off x="7921800" y="5167440"/>
              <a:ext cx="1064880" cy="626760"/>
            </a:xfrm>
            <a:prstGeom prst="wedgeRoundRectCallout">
              <a:avLst>
                <a:gd name="adj1" fmla="val -70416"/>
                <a:gd name="adj2" fmla="val 11784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8134200" y="5183280"/>
                  <a:ext cx="7398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176560" y="3449520"/>
            <a:ext cx="3671640" cy="2981520"/>
            <a:chOff x="2176560" y="3449520"/>
            <a:chExt cx="3671640" cy="2981520"/>
          </a:xfrm>
        </p:grpSpPr>
        <p:sp>
          <p:nvSpPr>
            <p:cNvPr id="211" name=""/>
            <p:cNvSpPr/>
            <p:nvPr/>
          </p:nvSpPr>
          <p:spPr>
            <a:xfrm>
              <a:off x="2635200" y="56246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5200" y="396720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35200" y="396720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5200" y="3967200"/>
              <a:ext cx="2754360" cy="165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176560" y="5348160"/>
              <a:ext cx="458640" cy="276480"/>
              <a:chOff x="2176560" y="5348160"/>
              <a:chExt cx="458640" cy="276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206800" y="56246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76560" y="5348160"/>
                <a:ext cx="458640" cy="27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206800" y="3968640"/>
              <a:ext cx="4284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76560" y="3968640"/>
              <a:ext cx="458640" cy="27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89560" y="3966840"/>
              <a:ext cx="458640" cy="276120"/>
              <a:chOff x="5389560" y="3966840"/>
              <a:chExt cx="458640" cy="27612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5389560" y="396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5389560" y="3966840"/>
                <a:ext cx="45864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>
              <a:off x="5389200" y="5624640"/>
              <a:ext cx="42876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89560" y="5348160"/>
              <a:ext cx="458640" cy="27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3280" y="556272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3280" y="3906720"/>
              <a:ext cx="122400" cy="122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27640" y="390672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27640" y="5562720"/>
              <a:ext cx="122400" cy="122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345132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97160" y="419256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2520" y="3449520"/>
              <a:ext cx="114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2520" y="5605560"/>
              <a:ext cx="114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92840" y="345132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9284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3848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1000" y="41860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152800" y="6132600"/>
            <a:ext cx="37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edg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     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31920" y="39625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360" y="3724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20760" y="56149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200" y="5376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 - visu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058160" y="5925960"/>
            <a:ext cx="541080" cy="7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0240" y="5958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38760" y="4278240"/>
            <a:ext cx="2511720" cy="966960"/>
            <a:chOff x="6638760" y="4278240"/>
            <a:chExt cx="2511720" cy="966960"/>
          </a:xfrm>
        </p:grpSpPr>
        <p:sp>
          <p:nvSpPr>
            <p:cNvPr id="248" name=""/>
            <p:cNvSpPr/>
            <p:nvPr/>
          </p:nvSpPr>
          <p:spPr>
            <a:xfrm>
              <a:off x="7196040" y="4278240"/>
              <a:ext cx="19544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ctor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638760" y="4533840"/>
                  <a:ext cx="5731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2652840" y="1979640"/>
            <a:ext cx="3671640" cy="1777680"/>
            <a:chOff x="2652840" y="1979640"/>
            <a:chExt cx="3671640" cy="1777680"/>
          </a:xfrm>
        </p:grpSpPr>
        <p:sp>
          <p:nvSpPr>
            <p:cNvPr id="251" name=""/>
            <p:cNvSpPr/>
            <p:nvPr/>
          </p:nvSpPr>
          <p:spPr>
            <a:xfrm>
              <a:off x="3111120" y="36968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11120" y="2040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11120" y="204012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11120" y="204048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652840" y="3421080"/>
              <a:ext cx="458280" cy="275760"/>
              <a:chOff x="2652840" y="3421080"/>
              <a:chExt cx="458280" cy="275760"/>
            </a:xfrm>
          </p:grpSpPr>
          <p:sp>
            <p:nvSpPr>
              <p:cNvPr id="256" name=""/>
              <p:cNvSpPr/>
              <p:nvPr/>
            </p:nvSpPr>
            <p:spPr>
              <a:xfrm>
                <a:off x="2683080" y="369684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52840" y="342108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652840" y="2041200"/>
              <a:ext cx="458280" cy="275760"/>
              <a:chOff x="2652840" y="2041200"/>
              <a:chExt cx="458280" cy="275760"/>
            </a:xfrm>
          </p:grpSpPr>
          <p:sp>
            <p:nvSpPr>
              <p:cNvPr id="259" name=""/>
              <p:cNvSpPr/>
              <p:nvPr/>
            </p:nvSpPr>
            <p:spPr>
              <a:xfrm>
                <a:off x="2683080" y="204120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652840" y="204120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65840" y="2040480"/>
              <a:ext cx="458640" cy="275760"/>
              <a:chOff x="5865840" y="2040480"/>
              <a:chExt cx="458640" cy="2757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5865840" y="204048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5865840" y="20404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865840" y="3421080"/>
              <a:ext cx="458640" cy="275760"/>
              <a:chOff x="5865840" y="3421080"/>
              <a:chExt cx="458640" cy="2757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5865840" y="369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865840" y="34210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04992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92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428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0428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714760" y="15238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98800" y="1522440"/>
            <a:ext cx="11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68760" y="15238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73440" y="2265480"/>
            <a:ext cx="2568600" cy="2238480"/>
            <a:chOff x="3673440" y="2265480"/>
            <a:chExt cx="2568600" cy="2238480"/>
          </a:xfrm>
        </p:grpSpPr>
        <p:sp>
          <p:nvSpPr>
            <p:cNvPr id="275" name=""/>
            <p:cNvSpPr/>
            <p:nvPr/>
          </p:nvSpPr>
          <p:spPr>
            <a:xfrm>
              <a:off x="3673440" y="22654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98800" y="367848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8760" y="36799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714760" y="367992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2259000"/>
            <a:ext cx="35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70640" y="2581200"/>
            <a:ext cx="541440" cy="720720"/>
            <a:chOff x="7370640" y="2581200"/>
            <a:chExt cx="541440" cy="720720"/>
          </a:xfrm>
        </p:grpSpPr>
        <p:sp>
          <p:nvSpPr>
            <p:cNvPr id="282" name=""/>
            <p:cNvSpPr/>
            <p:nvPr/>
          </p:nvSpPr>
          <p:spPr>
            <a:xfrm>
              <a:off x="7370640" y="2581200"/>
              <a:ext cx="5414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2720" y="2612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688000" y="15224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78640" y="367812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61280" y="2583000"/>
            <a:ext cx="1231920" cy="720720"/>
            <a:chOff x="7361280" y="2583000"/>
            <a:chExt cx="1231920" cy="720720"/>
          </a:xfrm>
        </p:grpSpPr>
        <p:sp>
          <p:nvSpPr>
            <p:cNvPr id="287" name=""/>
            <p:cNvSpPr/>
            <p:nvPr/>
          </p:nvSpPr>
          <p:spPr>
            <a:xfrm>
              <a:off x="7361280" y="2583000"/>
              <a:ext cx="10904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42280" y="261468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+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6:54:25Z</dcterms:created>
  <dc:creator>vnk</dc:creator>
  <dc:description/>
  <dc:language>en-US</dc:language>
  <cp:lastModifiedBy>vnk</cp:lastModifiedBy>
  <dcterms:modified xsi:type="dcterms:W3CDTF">2005-12-06T23:42:10Z</dcterms:modified>
  <cp:revision>378</cp:revision>
  <dc:subject/>
  <dc:title>Advances in discrete energy minimisation for computer vision</dc:title>
</cp:coreProperties>
</file>