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wmf" ContentType="image/x-wmf"/>
  <Override PartName="/ppt/media/image9.wmf" ContentType="image/x-wmf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A0051-3544-48D7-9A88-0EF0120409E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ptimal solution is not chan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- it is easier to computer optimal solution for some reparameteris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ph cuts are itera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ptimal solution is not chan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- it is easier to computer optimal solution for some reparameteris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51BE8-4578-404F-ACBC-46BB22B56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50708-50DC-4766-BB98-AB0211111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C430F-6D57-43D0-BB70-174589756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E2961-267C-434E-96C2-832AC148C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EB85F-4603-46E3-8050-AB711492E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BE071-E173-4D5B-9BB0-D1A1284C8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3DB85-4556-4BF4-9E1B-E9136C841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1FE90-685D-4DCB-918E-056ED14DF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CE589-357A-4FA9-A301-2F82A1F39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3B636-C8E2-429C-938E-23F087CA0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476FB-AF86-437D-B80A-0B0BEB3FE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21937-01C1-4C93-9931-4C7C26E88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AEA05-F5EE-4614-AEE3-DFA218DC26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5.wmf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2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1360" y="475920"/>
            <a:ext cx="8832960" cy="28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lgorithms for MAP estimatio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 Markov Random Field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968640"/>
            <a:ext cx="64008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ladimir Kolmogoro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University College Lond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3500280"/>
            <a:ext cx="835344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06400" y="5789520"/>
            <a:ext cx="553140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utorial at GDR (Optimisation Discrète, Graph Cuts et Analyse d'Images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aris, 29 November 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te: these slides contain an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arameteris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1" name=""/>
          <p:cNvGrpSpPr/>
          <p:nvPr/>
        </p:nvGrpSpPr>
        <p:grpSpPr>
          <a:xfrm>
            <a:off x="2652840" y="1979640"/>
            <a:ext cx="3671640" cy="1777680"/>
            <a:chOff x="2652840" y="1979640"/>
            <a:chExt cx="3671640" cy="1777680"/>
          </a:xfrm>
        </p:grpSpPr>
        <p:sp>
          <p:nvSpPr>
            <p:cNvPr id="292" name=""/>
            <p:cNvSpPr/>
            <p:nvPr/>
          </p:nvSpPr>
          <p:spPr>
            <a:xfrm>
              <a:off x="3111120" y="3696840"/>
              <a:ext cx="2754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111120" y="2040480"/>
              <a:ext cx="2754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 flipV="1">
              <a:off x="3111120" y="2040120"/>
              <a:ext cx="2754360" cy="165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111120" y="2040480"/>
              <a:ext cx="2754360" cy="165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6" name=""/>
            <p:cNvGrpSpPr/>
            <p:nvPr/>
          </p:nvGrpSpPr>
          <p:grpSpPr>
            <a:xfrm>
              <a:off x="2652840" y="3421080"/>
              <a:ext cx="458280" cy="275760"/>
              <a:chOff x="2652840" y="3421080"/>
              <a:chExt cx="458280" cy="275760"/>
            </a:xfrm>
          </p:grpSpPr>
          <p:sp>
            <p:nvSpPr>
              <p:cNvPr id="297" name=""/>
              <p:cNvSpPr/>
              <p:nvPr/>
            </p:nvSpPr>
            <p:spPr>
              <a:xfrm>
                <a:off x="2683080" y="3696840"/>
                <a:ext cx="428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2652840" y="3421080"/>
                <a:ext cx="458280" cy="275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9" name=""/>
            <p:cNvGrpSpPr/>
            <p:nvPr/>
          </p:nvGrpSpPr>
          <p:grpSpPr>
            <a:xfrm>
              <a:off x="2652840" y="2041200"/>
              <a:ext cx="458280" cy="275760"/>
              <a:chOff x="2652840" y="2041200"/>
              <a:chExt cx="458280" cy="275760"/>
            </a:xfrm>
          </p:grpSpPr>
          <p:sp>
            <p:nvSpPr>
              <p:cNvPr id="300" name=""/>
              <p:cNvSpPr/>
              <p:nvPr/>
            </p:nvSpPr>
            <p:spPr>
              <a:xfrm>
                <a:off x="2683080" y="2041200"/>
                <a:ext cx="428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flipV="1">
                <a:off x="2652840" y="2041200"/>
                <a:ext cx="458280" cy="275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2" name=""/>
            <p:cNvGrpSpPr/>
            <p:nvPr/>
          </p:nvGrpSpPr>
          <p:grpSpPr>
            <a:xfrm>
              <a:off x="5865840" y="2040480"/>
              <a:ext cx="458640" cy="275760"/>
              <a:chOff x="5865840" y="2040480"/>
              <a:chExt cx="458640" cy="275760"/>
            </a:xfrm>
          </p:grpSpPr>
          <p:sp>
            <p:nvSpPr>
              <p:cNvPr id="303" name=""/>
              <p:cNvSpPr/>
              <p:nvPr/>
            </p:nvSpPr>
            <p:spPr>
              <a:xfrm flipH="1">
                <a:off x="5865840" y="2040480"/>
                <a:ext cx="428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 flipV="1">
                <a:off x="5865840" y="2040480"/>
                <a:ext cx="458640" cy="275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5" name=""/>
            <p:cNvGrpSpPr/>
            <p:nvPr/>
          </p:nvGrpSpPr>
          <p:grpSpPr>
            <a:xfrm>
              <a:off x="5865840" y="3421080"/>
              <a:ext cx="458640" cy="275760"/>
              <a:chOff x="5865840" y="3421080"/>
              <a:chExt cx="458640" cy="275760"/>
            </a:xfrm>
          </p:grpSpPr>
          <p:sp>
            <p:nvSpPr>
              <p:cNvPr id="306" name=""/>
              <p:cNvSpPr/>
              <p:nvPr/>
            </p:nvSpPr>
            <p:spPr>
              <a:xfrm flipH="1">
                <a:off x="5865840" y="3696840"/>
                <a:ext cx="428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flipH="1">
                <a:off x="5865840" y="3421080"/>
                <a:ext cx="458640" cy="275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8" name=""/>
            <p:cNvSpPr/>
            <p:nvPr/>
          </p:nvSpPr>
          <p:spPr>
            <a:xfrm>
              <a:off x="3049920" y="3635280"/>
              <a:ext cx="122040" cy="1220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3049920" y="1979640"/>
              <a:ext cx="122040" cy="1220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5804280" y="1979640"/>
              <a:ext cx="122040" cy="1220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5804280" y="3635280"/>
              <a:ext cx="122040" cy="1220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2" name=""/>
          <p:cNvSpPr/>
          <p:nvPr/>
        </p:nvSpPr>
        <p:spPr>
          <a:xfrm>
            <a:off x="2714760" y="1523880"/>
            <a:ext cx="77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898800" y="1522440"/>
            <a:ext cx="113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468760" y="1523880"/>
            <a:ext cx="77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5" name=""/>
          <p:cNvGrpSpPr/>
          <p:nvPr/>
        </p:nvGrpSpPr>
        <p:grpSpPr>
          <a:xfrm>
            <a:off x="3673440" y="2265480"/>
            <a:ext cx="2568600" cy="2238480"/>
            <a:chOff x="3673440" y="2265480"/>
            <a:chExt cx="2568600" cy="2238480"/>
          </a:xfrm>
        </p:grpSpPr>
        <p:sp>
          <p:nvSpPr>
            <p:cNvPr id="316" name=""/>
            <p:cNvSpPr/>
            <p:nvPr/>
          </p:nvSpPr>
          <p:spPr>
            <a:xfrm>
              <a:off x="3673440" y="2265480"/>
              <a:ext cx="357120" cy="825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898800" y="3678480"/>
              <a:ext cx="11397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468760" y="3679920"/>
              <a:ext cx="77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9" name=""/>
          <p:cNvSpPr/>
          <p:nvPr/>
        </p:nvSpPr>
        <p:spPr>
          <a:xfrm>
            <a:off x="2714760" y="3679920"/>
            <a:ext cx="77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967280" y="2259000"/>
            <a:ext cx="3571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4627440"/>
            <a:ext cx="8229600" cy="17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finition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is a reparameterisation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they define the same energ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2" name=""/>
              <p:cNvSpPr txBox="1"/>
              <p:nvPr/>
            </p:nvSpPr>
            <p:spPr>
              <a:xfrm>
                <a:off x="2146320" y="5575320"/>
                <a:ext cx="437688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|</m:t>
                    </m:r>
                    <m:sSup>
                      <m:e>
                        <m:r>
                          <m:t xml:space="preserve">θ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E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|</m:t>
                    </m:r>
                    <m:r>
                      <m:t xml:space="preserve">θ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 for any  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3" name=""/>
              <p:cNvSpPr txBox="1"/>
              <p:nvPr/>
            </p:nvSpPr>
            <p:spPr>
              <a:xfrm>
                <a:off x="6597720" y="4599000"/>
                <a:ext cx="119232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θ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≡</m:t>
                        </m:r>
                        <m:r>
                          <m:t xml:space="preserve">θ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4" name=""/>
              <p:cNvSpPr txBox="1"/>
              <p:nvPr/>
            </p:nvSpPr>
            <p:spPr>
              <a:xfrm>
                <a:off x="2455920" y="4640400"/>
                <a:ext cx="399960" cy="43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θ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5" name=""/>
              <p:cNvSpPr txBox="1"/>
              <p:nvPr/>
            </p:nvSpPr>
            <p:spPr>
              <a:xfrm>
                <a:off x="6149880" y="4618080"/>
                <a:ext cx="31932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26" name=""/>
          <p:cNvGrpSpPr/>
          <p:nvPr/>
        </p:nvGrpSpPr>
        <p:grpSpPr>
          <a:xfrm>
            <a:off x="3675240" y="2266920"/>
            <a:ext cx="2784240" cy="2238480"/>
            <a:chOff x="3675240" y="2266920"/>
            <a:chExt cx="2784240" cy="2238480"/>
          </a:xfrm>
        </p:grpSpPr>
        <p:sp>
          <p:nvSpPr>
            <p:cNvPr id="327" name=""/>
            <p:cNvSpPr/>
            <p:nvPr/>
          </p:nvSpPr>
          <p:spPr>
            <a:xfrm>
              <a:off x="3675240" y="2266920"/>
              <a:ext cx="674640" cy="825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4 </a:t>
              </a:r>
              <a:r>
                <a:rPr b="0" i="1" lang="en-US" sz="2400" spc="-1" strike="noStrike">
                  <a:solidFill>
                    <a:srgbClr val="ff3300"/>
                  </a:solidFill>
                  <a:latin typeface="Times New Roman"/>
                </a:rPr>
                <a:t>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065480" y="3679920"/>
              <a:ext cx="11397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1 </a:t>
              </a:r>
              <a:r>
                <a:rPr b="0" i="1" lang="en-US" sz="2400" spc="-1" strike="noStrike">
                  <a:solidFill>
                    <a:srgbClr val="ff3300"/>
                  </a:solidFill>
                  <a:latin typeface="Times New Roman"/>
                </a:rPr>
                <a:t>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686560" y="3681360"/>
              <a:ext cx="772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0 </a:t>
              </a:r>
              <a:r>
                <a:rPr b="0" i="1" lang="en-US" sz="2400" spc="-1" strike="noStrike">
                  <a:solidFill>
                    <a:srgbClr val="ff3300"/>
                  </a:solidFill>
                  <a:latin typeface="Times New Roman"/>
                </a:rPr>
                <a:t>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0" name=""/>
          <p:cNvSpPr/>
          <p:nvPr/>
        </p:nvSpPr>
        <p:spPr>
          <a:xfrm>
            <a:off x="471600" y="6140520"/>
            <a:ext cx="822960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flow, BP and TRW perform reparameteris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95280" y="1146240"/>
            <a:ext cx="835344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7370640" y="2581200"/>
            <a:ext cx="54144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7452720" y="26128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395280" y="3500280"/>
            <a:ext cx="835344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25440" y="3906720"/>
            <a:ext cx="8496360" cy="269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39840" y="542880"/>
            <a:ext cx="782640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Part I: Lower bound via</a:t>
            </a:r>
            <a:br>
              <a:rPr sz="4000"/>
            </a:b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posiform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76280" y="2478240"/>
            <a:ext cx="8331120" cy="10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GB" sz="4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 maxflow algorithm)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 rot="16200000">
            <a:off x="5776200" y="613440"/>
            <a:ext cx="411120" cy="4464000"/>
          </a:xfrm>
          <a:custGeom>
            <a:avLst/>
            <a:gdLst>
              <a:gd name="textAreaLeft" fmla="*/ 262800 w 411120"/>
              <a:gd name="textAreaRight" fmla="*/ 411480 w 411120"/>
              <a:gd name="textAreaTop" fmla="*/ 116280 h 4464000"/>
              <a:gd name="textAreaBottom" fmla="*/ 4347720 h 446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188680" y="3048120"/>
            <a:ext cx="177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n-neg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0" name=""/>
          <p:cNvGrpSpPr/>
          <p:nvPr/>
        </p:nvGrpSpPr>
        <p:grpSpPr>
          <a:xfrm>
            <a:off x="1768320" y="5013360"/>
            <a:ext cx="5218560" cy="1509840"/>
            <a:chOff x="1768320" y="5013360"/>
            <a:chExt cx="5218560" cy="1509840"/>
          </a:xfrm>
        </p:grpSpPr>
        <mc:AlternateContent>
          <mc:Choice xmlns:a14="http://schemas.microsoft.com/office/drawing/2010/main" Requires="a14">
            <p:sp>
              <p:nvSpPr>
                <p:cNvPr id="341" name=""/>
                <p:cNvSpPr txBox="1"/>
                <p:nvPr/>
              </p:nvSpPr>
              <p:spPr>
                <a:xfrm>
                  <a:off x="1979640" y="5013360"/>
                  <a:ext cx="911160" cy="655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θ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const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342" name=""/>
            <p:cNvSpPr/>
            <p:nvPr/>
          </p:nvSpPr>
          <p:spPr>
            <a:xfrm>
              <a:off x="3195720" y="5051520"/>
              <a:ext cx="3791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  lower bound on the energy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43" name=""/>
                <p:cNvSpPr txBox="1"/>
                <p:nvPr/>
              </p:nvSpPr>
              <p:spPr>
                <a:xfrm>
                  <a:off x="1768320" y="5869080"/>
                  <a:ext cx="4116600" cy="654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E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|</m:t>
                      </m:r>
                      <m:r>
                        <m:t xml:space="preserve">θ</m:t>
                      </m:r>
                      <m:r>
                        <m:t xml:space="preserve">)</m:t>
                      </m:r>
                      <m:r>
                        <m:t xml:space="preserve">≥</m:t>
                      </m:r>
                      <m:sSub>
                        <m:e>
                          <m:r>
                            <m:t xml:space="preserve">θ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const</m:t>
                          </m:r>
                        </m:sub>
                      </m:sSub>
                      <m:m>
                        <m:mr>
                          <m:e/>
                          <m:e/>
                        </m:mr>
                      </m:m>
                      <m:r>
                        <m:t xml:space="preserve">∀</m:t>
                      </m:r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44" name=""/>
          <p:cNvSpPr/>
          <p:nvPr/>
        </p:nvSpPr>
        <p:spPr>
          <a:xfrm>
            <a:off x="1150920" y="2959200"/>
            <a:ext cx="1785960" cy="609480"/>
          </a:xfrm>
          <a:prstGeom prst="wedgeRoundRectCallout">
            <a:avLst>
              <a:gd name="adj1" fmla="val 46620"/>
              <a:gd name="adj2" fmla="val -158074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6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Lower bound via posiforms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[Hammer, Hansen, Simeone’84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95280" y="1273320"/>
            <a:ext cx="835344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7" name=""/>
              <p:cNvSpPr txBox="1"/>
              <p:nvPr/>
            </p:nvSpPr>
            <p:spPr>
              <a:xfrm>
                <a:off x="801720" y="1596960"/>
                <a:ext cx="7473960" cy="101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|</m:t>
                    </m:r>
                    <m:r>
                      <m:t xml:space="preserve">θ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onst</m:t>
                        </m:r>
                      </m:sub>
                    </m:sSub>
                    <m:r>
                      <m:t xml:space="preserve">+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p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+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p</m:t>
                        </m:r>
                        <m:r>
                          <m:t xml:space="preserve">,</m:t>
                        </m:r>
                        <m:r>
                          <m:t xml:space="preserve">q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q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/>
          </p:nvPr>
        </p:nvSpPr>
        <p:spPr>
          <a:xfrm>
            <a:off x="214200" y="1068480"/>
            <a:ext cx="8988480" cy="54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aximisation algorithm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nsider functions of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binary variable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on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aximising lower bound for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submodular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funct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efinition of submodular fu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verview of min cut/max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eduction to max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lobal minimum of the ener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aximising lower bound for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non-submodular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eduction to max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More complicated grap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Par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of optimal 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title"/>
          </p:nvPr>
        </p:nvSpPr>
        <p:spPr>
          <a:xfrm>
            <a:off x="45720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 of part 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95280" y="905040"/>
            <a:ext cx="835344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/>
          </p:nvPr>
        </p:nvSpPr>
        <p:spPr>
          <a:xfrm>
            <a:off x="100080" y="1411200"/>
            <a:ext cx="898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Definition: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submodular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if every pairwise term satisf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an be converted to “canonical form”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title"/>
          </p:nvPr>
        </p:nvSpPr>
        <p:spPr>
          <a:xfrm>
            <a:off x="457200" y="6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ubmodular functions 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of binary variab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95280" y="1273320"/>
            <a:ext cx="835344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4" name=""/>
              <p:cNvSpPr txBox="1"/>
              <p:nvPr/>
            </p:nvSpPr>
            <p:spPr>
              <a:xfrm>
                <a:off x="1351080" y="2077920"/>
                <a:ext cx="657072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q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,0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q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1,1</m:t>
                    </m:r>
                    <m:r>
                      <m:t xml:space="preserve">)</m:t>
                    </m:r>
                    <m:r>
                      <m:t xml:space="preserve">≤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q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,1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q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1,0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55" name=""/>
          <p:cNvSpPr/>
          <p:nvPr/>
        </p:nvSpPr>
        <p:spPr>
          <a:xfrm>
            <a:off x="2716200" y="6369120"/>
            <a:ext cx="1962000" cy="1440"/>
          </a:xfrm>
          <a:prstGeom prst="line">
            <a:avLst/>
          </a:prstGeom>
          <a:ln w="316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16200" y="5192640"/>
            <a:ext cx="1962000" cy="1800"/>
          </a:xfrm>
          <a:prstGeom prst="line">
            <a:avLst/>
          </a:prstGeom>
          <a:ln w="316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 flipV="1">
            <a:off x="2716200" y="5192640"/>
            <a:ext cx="1962000" cy="117648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16200" y="5192640"/>
            <a:ext cx="1962000" cy="117648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673360" y="6326280"/>
            <a:ext cx="85680" cy="87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673360" y="5149800"/>
            <a:ext cx="85680" cy="87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480" bIns="15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635360" y="5149800"/>
            <a:ext cx="87480" cy="87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480" bIns="15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635360" y="6326280"/>
            <a:ext cx="87480" cy="87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681440" y="6369120"/>
            <a:ext cx="1962360" cy="1440"/>
          </a:xfrm>
          <a:prstGeom prst="line">
            <a:avLst/>
          </a:prstGeom>
          <a:ln w="316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681440" y="5192640"/>
            <a:ext cx="1962360" cy="1800"/>
          </a:xfrm>
          <a:prstGeom prst="line">
            <a:avLst/>
          </a:prstGeom>
          <a:ln w="316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 flipV="1">
            <a:off x="4681440" y="5192640"/>
            <a:ext cx="1962360" cy="117648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4681440" y="5192640"/>
            <a:ext cx="1962360" cy="117648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599160" y="5149800"/>
            <a:ext cx="87480" cy="87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480" bIns="15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599160" y="6326280"/>
            <a:ext cx="87480" cy="87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639880" y="6284880"/>
            <a:ext cx="160560" cy="1602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639880" y="5111640"/>
            <a:ext cx="160560" cy="160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603680" y="6284880"/>
            <a:ext cx="158760" cy="1602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4603680" y="5111640"/>
            <a:ext cx="158760" cy="160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561000" y="6284880"/>
            <a:ext cx="160560" cy="1602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561000" y="5111640"/>
            <a:ext cx="160560" cy="160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2544840" y="6361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28960" y="53420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152960" y="53420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4884840" y="53420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096240" y="53420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6492960" y="6361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513320" y="63500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2544840" y="4740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6492960" y="4740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513320" y="4729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6718320" y="3657600"/>
            <a:ext cx="1116000" cy="900000"/>
          </a:xfrm>
          <a:prstGeom prst="wedgeRectCallout">
            <a:avLst>
              <a:gd name="adj1" fmla="val -134921"/>
              <a:gd name="adj2" fmla="val 11895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/>
          <p:nvPr/>
        </p:nvSpPr>
        <p:spPr>
          <a:xfrm>
            <a:off x="324000" y="676440"/>
            <a:ext cx="8496000" cy="26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Overview of min cut/max flow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95280" y="3500280"/>
            <a:ext cx="835344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25440" y="3906720"/>
            <a:ext cx="8496360" cy="269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in Cut probl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5280" y="1413000"/>
            <a:ext cx="835344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2195640" y="3105000"/>
            <a:ext cx="395280" cy="395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140360" y="3105000"/>
            <a:ext cx="395280" cy="395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287280" y="3105000"/>
            <a:ext cx="395280" cy="395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 flipH="1">
            <a:off x="611280" y="3430440"/>
            <a:ext cx="18000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2448000" y="3141720"/>
            <a:ext cx="17636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2519280" y="3430440"/>
            <a:ext cx="17287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 flipH="1">
            <a:off x="539280" y="2025720"/>
            <a:ext cx="1692360" cy="1079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376360" y="3465360"/>
            <a:ext cx="14400" cy="1008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546280" y="1522440"/>
            <a:ext cx="84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ur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556000" y="461952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1260720" y="20829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278520" y="2144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370160" y="2709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1370160" y="3368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084840" y="2709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084840" y="3368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2365560" y="3765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241240" y="2660760"/>
            <a:ext cx="369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ed weighted grap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577960" y="2062080"/>
            <a:ext cx="1684440" cy="1059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09760" y="3141720"/>
            <a:ext cx="17938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195640" y="1701720"/>
            <a:ext cx="395280" cy="395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195640" y="4473720"/>
            <a:ext cx="395280" cy="395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in Cut probl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95280" y="1413000"/>
            <a:ext cx="835344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09760" y="3141720"/>
            <a:ext cx="17938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>
            <a:off x="611280" y="3430440"/>
            <a:ext cx="18000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448000" y="3141720"/>
            <a:ext cx="17636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>
            <a:off x="2519280" y="3430440"/>
            <a:ext cx="17287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>
            <a:off x="539280" y="2025720"/>
            <a:ext cx="1692360" cy="1079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2577960" y="2062080"/>
            <a:ext cx="1684440" cy="1059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H="1">
            <a:off x="2376360" y="3465360"/>
            <a:ext cx="14400" cy="1008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556000" y="461952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260720" y="20829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278520" y="2144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370160" y="2709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370160" y="3368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084840" y="2709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084840" y="3368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365560" y="3765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529240" y="2428920"/>
            <a:ext cx="349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 = {source, node 1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ff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 = {sink, node 2, node 3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6505560" y="1887480"/>
            <a:ext cx="108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287280" y="3105000"/>
            <a:ext cx="395280" cy="395280"/>
          </a:xfrm>
          <a:prstGeom prst="ellipse">
            <a:avLst/>
          </a:prstGeom>
          <a:solidFill>
            <a:srgbClr val="3333ff"/>
          </a:solidFill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95640" y="3105000"/>
            <a:ext cx="395280" cy="3952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4140360" y="3105000"/>
            <a:ext cx="395280" cy="3952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2546280" y="1522440"/>
            <a:ext cx="84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ur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1701720"/>
            <a:ext cx="395280" cy="395280"/>
          </a:xfrm>
          <a:prstGeom prst="rect">
            <a:avLst/>
          </a:prstGeom>
          <a:solidFill>
            <a:srgbClr val="3333ff"/>
          </a:solidFill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2195640" y="4473720"/>
            <a:ext cx="395280" cy="395280"/>
          </a:xfrm>
          <a:prstGeom prst="rect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in Cut probl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95280" y="1413000"/>
            <a:ext cx="835344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09760" y="3141720"/>
            <a:ext cx="1793880" cy="0"/>
          </a:xfrm>
          <a:prstGeom prst="line">
            <a:avLst/>
          </a:prstGeom>
          <a:ln w="57240">
            <a:solidFill>
              <a:srgbClr val="ff33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H="1">
            <a:off x="611280" y="3430440"/>
            <a:ext cx="18000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2448000" y="3141720"/>
            <a:ext cx="17636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 flipH="1">
            <a:off x="2519280" y="3430440"/>
            <a:ext cx="17287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 flipH="1">
            <a:off x="539280" y="2025720"/>
            <a:ext cx="1692360" cy="1079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2577960" y="2062080"/>
            <a:ext cx="1684440" cy="1059120"/>
          </a:xfrm>
          <a:prstGeom prst="line">
            <a:avLst/>
          </a:prstGeom>
          <a:ln w="57240">
            <a:solidFill>
              <a:srgbClr val="ff33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>
            <a:off x="2376360" y="3465360"/>
            <a:ext cx="14400" cy="1008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2556000" y="461952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1260720" y="20829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278520" y="2144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1370160" y="2709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0160" y="3368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084840" y="2709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3084840" y="3368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365560" y="3765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95280" y="1881360"/>
            <a:ext cx="3997440" cy="2842920"/>
          </a:xfrm>
          <a:custGeom>
            <a:avLst/>
            <a:gdLst/>
            <a:ahLst/>
            <a:rect l="l" t="t" r="r" b="b"/>
            <a:pathLst>
              <a:path w="2291" h="1519">
                <a:moveTo>
                  <a:pt x="0" y="1519"/>
                </a:moveTo>
                <a:cubicBezTo>
                  <a:pt x="134" y="1282"/>
                  <a:pt x="269" y="1046"/>
                  <a:pt x="431" y="884"/>
                </a:cubicBezTo>
                <a:cubicBezTo>
                  <a:pt x="593" y="722"/>
                  <a:pt x="790" y="608"/>
                  <a:pt x="975" y="544"/>
                </a:cubicBezTo>
                <a:cubicBezTo>
                  <a:pt x="1160" y="480"/>
                  <a:pt x="1364" y="537"/>
                  <a:pt x="1542" y="499"/>
                </a:cubicBezTo>
                <a:cubicBezTo>
                  <a:pt x="1720" y="461"/>
                  <a:pt x="1916" y="400"/>
                  <a:pt x="2041" y="317"/>
                </a:cubicBezTo>
                <a:cubicBezTo>
                  <a:pt x="2166" y="234"/>
                  <a:pt x="2228" y="117"/>
                  <a:pt x="2291" y="0"/>
                </a:cubicBezTo>
              </a:path>
            </a:pathLst>
          </a:custGeom>
          <a:noFill/>
          <a:ln w="25560">
            <a:solidFill>
              <a:srgbClr val="ff33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5529240" y="2428920"/>
            <a:ext cx="349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 = {source, node 1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ff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 = {sink, node 2, node 3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6505560" y="1887480"/>
            <a:ext cx="108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287280" y="3105000"/>
            <a:ext cx="395280" cy="395280"/>
          </a:xfrm>
          <a:prstGeom prst="ellipse">
            <a:avLst/>
          </a:prstGeom>
          <a:solidFill>
            <a:srgbClr val="3333ff"/>
          </a:solidFill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326520" y="5579640"/>
            <a:ext cx="85489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sk: Compute cut with minimum c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5543640" y="2997360"/>
            <a:ext cx="349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st(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) = 1 + 1 =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4140360" y="3105000"/>
            <a:ext cx="395280" cy="3952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3105000"/>
            <a:ext cx="395280" cy="3952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546280" y="1522440"/>
            <a:ext cx="84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ur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2195640" y="1701720"/>
            <a:ext cx="395280" cy="395280"/>
          </a:xfrm>
          <a:prstGeom prst="rect">
            <a:avLst/>
          </a:prstGeom>
          <a:solidFill>
            <a:srgbClr val="3333ff"/>
          </a:solidFill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2195640" y="4473720"/>
            <a:ext cx="395280" cy="395280"/>
          </a:xfrm>
          <a:prstGeom prst="rect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395280" y="1413000"/>
            <a:ext cx="835344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2195640" y="3105000"/>
            <a:ext cx="395280" cy="395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140360" y="3105000"/>
            <a:ext cx="395280" cy="395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287280" y="3105000"/>
            <a:ext cx="395280" cy="395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 flipH="1">
            <a:off x="611280" y="3430440"/>
            <a:ext cx="18000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2448000" y="3141720"/>
            <a:ext cx="17636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 flipH="1">
            <a:off x="2519280" y="3430440"/>
            <a:ext cx="17287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 flipH="1">
            <a:off x="539280" y="2025720"/>
            <a:ext cx="1692360" cy="1079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 flipH="1">
            <a:off x="2376360" y="3465360"/>
            <a:ext cx="14400" cy="1008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2556000" y="461952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1260720" y="20829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3278520" y="2144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370160" y="2709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1370160" y="3368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3084840" y="2709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084840" y="3368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2365560" y="3765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2577960" y="2062080"/>
            <a:ext cx="1684440" cy="1059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509760" y="3141720"/>
            <a:ext cx="17938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2546280" y="1522440"/>
            <a:ext cx="84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ur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2195640" y="1701720"/>
            <a:ext cx="395280" cy="395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2195640" y="4473720"/>
            <a:ext cx="395280" cy="395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xflow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1263960" y="5692680"/>
            <a:ext cx="221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value(flow)=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nergy fun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801720" y="1374840"/>
                <a:ext cx="7473960" cy="101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|</m:t>
                    </m:r>
                    <m:r>
                      <m:t xml:space="preserve">θ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onst</m:t>
                        </m:r>
                      </m:sub>
                    </m:sSub>
                    <m:r>
                      <m:t xml:space="preserve">+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p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+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p</m:t>
                        </m:r>
                        <m:r>
                          <m:t xml:space="preserve">,</m:t>
                        </m:r>
                        <m:r>
                          <m:t xml:space="preserve">q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q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grpSp>
        <p:nvGrpSpPr>
          <p:cNvPr id="54" name=""/>
          <p:cNvGrpSpPr/>
          <p:nvPr/>
        </p:nvGrpSpPr>
        <p:grpSpPr>
          <a:xfrm>
            <a:off x="1058760" y="3059280"/>
            <a:ext cx="1559160" cy="1198080"/>
            <a:chOff x="1058760" y="3059280"/>
            <a:chExt cx="1559160" cy="1198080"/>
          </a:xfrm>
        </p:grpSpPr>
        <p:sp>
          <p:nvSpPr>
            <p:cNvPr id="55" name=""/>
            <p:cNvSpPr/>
            <p:nvPr/>
          </p:nvSpPr>
          <p:spPr>
            <a:xfrm flipV="1">
              <a:off x="1108800" y="3118680"/>
              <a:ext cx="721800" cy="5414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747440" y="3059280"/>
              <a:ext cx="181440" cy="1810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 flipV="1">
              <a:off x="1830600" y="3118680"/>
              <a:ext cx="720720" cy="5414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108800" y="3659040"/>
              <a:ext cx="721800" cy="5414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>
              <a:off x="1830600" y="3659040"/>
              <a:ext cx="720720" cy="5414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747440" y="4076280"/>
              <a:ext cx="181440" cy="1810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058760" y="3567600"/>
              <a:ext cx="181440" cy="1814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436480" y="3567600"/>
              <a:ext cx="181440" cy="1814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743040" y="3440160"/>
            <a:ext cx="22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709640" y="2666880"/>
            <a:ext cx="22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053240" y="2817720"/>
            <a:ext cx="126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nary te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(dat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201000" y="2873520"/>
            <a:ext cx="152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rwise te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(coherenc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96880" y="4788000"/>
            <a:ext cx="8229600" cy="14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discrete variables (for example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0,1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re unary potential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p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re pairwise potential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rot="16200000">
            <a:off x="4406400" y="1748880"/>
            <a:ext cx="411480" cy="1697040"/>
          </a:xfrm>
          <a:custGeom>
            <a:avLst/>
            <a:gdLst>
              <a:gd name="textAreaLeft" fmla="*/ 262800 w 411480"/>
              <a:gd name="textAreaRight" fmla="*/ 411840 w 411480"/>
              <a:gd name="textAreaTop" fmla="*/ 43920 h 1697040"/>
              <a:gd name="textAreaBottom" fmla="*/ 1653120 h 169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6200000">
            <a:off x="6764400" y="1390680"/>
            <a:ext cx="411120" cy="2417760"/>
          </a:xfrm>
          <a:custGeom>
            <a:avLst/>
            <a:gdLst>
              <a:gd name="textAreaLeft" fmla="*/ 262800 w 411120"/>
              <a:gd name="textAreaRight" fmla="*/ 411480 w 411120"/>
              <a:gd name="textAreaTop" fmla="*/ 63000 h 2417760"/>
              <a:gd name="textAreaBottom" fmla="*/ 2354760 h 2417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1146240"/>
            <a:ext cx="835344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xflow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140360" y="3105000"/>
            <a:ext cx="395280" cy="395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>
            <a:off x="611280" y="3430440"/>
            <a:ext cx="18000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2448000" y="3141720"/>
            <a:ext cx="17636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 flipH="1">
            <a:off x="2519280" y="3430440"/>
            <a:ext cx="17287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>
            <a:off x="539280" y="2025720"/>
            <a:ext cx="1692360" cy="1079280"/>
          </a:xfrm>
          <a:prstGeom prst="line">
            <a:avLst/>
          </a:prstGeom>
          <a:ln w="57240">
            <a:solidFill>
              <a:srgbClr val="ff33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>
            <a:off x="2376360" y="3465360"/>
            <a:ext cx="14400" cy="1008360"/>
          </a:xfrm>
          <a:prstGeom prst="line">
            <a:avLst/>
          </a:prstGeom>
          <a:ln w="57240">
            <a:solidFill>
              <a:srgbClr val="ff33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2556000" y="461952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1260720" y="20829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3278520" y="2144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1370160" y="2709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1370160" y="3368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3084840" y="2709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084840" y="3368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2365560" y="3765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2577960" y="2062080"/>
            <a:ext cx="1684440" cy="1059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09760" y="3141720"/>
            <a:ext cx="1793880" cy="0"/>
          </a:xfrm>
          <a:prstGeom prst="line">
            <a:avLst/>
          </a:prstGeom>
          <a:ln w="57240">
            <a:solidFill>
              <a:srgbClr val="ff33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95280" y="1413000"/>
            <a:ext cx="835344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287280" y="3105000"/>
            <a:ext cx="395280" cy="395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2195640" y="3105000"/>
            <a:ext cx="395280" cy="395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1263960" y="5692680"/>
            <a:ext cx="221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value(flow)=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2546280" y="1522440"/>
            <a:ext cx="84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ur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2195640" y="1701720"/>
            <a:ext cx="395280" cy="395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2195640" y="4473720"/>
            <a:ext cx="395280" cy="395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xflow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4140360" y="3105000"/>
            <a:ext cx="395280" cy="395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 flipH="1">
            <a:off x="611280" y="3430440"/>
            <a:ext cx="18000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2448000" y="3141720"/>
            <a:ext cx="17636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 flipH="1">
            <a:off x="2519280" y="3430440"/>
            <a:ext cx="17287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 flipH="1">
            <a:off x="539280" y="2025720"/>
            <a:ext cx="1692360" cy="1079280"/>
          </a:xfrm>
          <a:prstGeom prst="line">
            <a:avLst/>
          </a:prstGeom>
          <a:ln w="57240">
            <a:solidFill>
              <a:srgbClr val="ff33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 flipH="1">
            <a:off x="2376360" y="3465360"/>
            <a:ext cx="14400" cy="1008360"/>
          </a:xfrm>
          <a:prstGeom prst="line">
            <a:avLst/>
          </a:prstGeom>
          <a:ln w="57240">
            <a:solidFill>
              <a:srgbClr val="ff33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556000" y="461952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1260720" y="20829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3278520" y="2144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1370160" y="2709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1370160" y="3368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3084840" y="2709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3084840" y="3368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2365560" y="3765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577960" y="2062080"/>
            <a:ext cx="1684440" cy="1059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509760" y="3141720"/>
            <a:ext cx="1793880" cy="0"/>
          </a:xfrm>
          <a:prstGeom prst="line">
            <a:avLst/>
          </a:prstGeom>
          <a:ln w="57240">
            <a:solidFill>
              <a:srgbClr val="ff33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395280" y="1413000"/>
            <a:ext cx="835344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287280" y="3105000"/>
            <a:ext cx="395280" cy="395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2195640" y="3105000"/>
            <a:ext cx="395280" cy="395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1263960" y="5692680"/>
            <a:ext cx="221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value(flow)=</a:t>
            </a:r>
            <a:r>
              <a:rPr b="0" i="1" lang="en-GB" sz="28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2546280" y="1522440"/>
            <a:ext cx="84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ur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2195640" y="1701720"/>
            <a:ext cx="395280" cy="395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2195640" y="4473720"/>
            <a:ext cx="395280" cy="395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xflow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 flipH="1">
            <a:off x="611280" y="3430440"/>
            <a:ext cx="18000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2448000" y="3141720"/>
            <a:ext cx="17636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 flipH="1">
            <a:off x="2519280" y="3430440"/>
            <a:ext cx="1728720" cy="0"/>
          </a:xfrm>
          <a:prstGeom prst="line">
            <a:avLst/>
          </a:prstGeom>
          <a:ln w="57240">
            <a:solidFill>
              <a:srgbClr val="ff33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 flipH="1">
            <a:off x="539280" y="2025720"/>
            <a:ext cx="1692360" cy="1079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 flipH="1">
            <a:off x="2376360" y="3465360"/>
            <a:ext cx="14400" cy="1008360"/>
          </a:xfrm>
          <a:prstGeom prst="line">
            <a:avLst/>
          </a:prstGeom>
          <a:ln w="57240">
            <a:solidFill>
              <a:srgbClr val="ff33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2556000" y="461952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1260720" y="20829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3278520" y="2144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1370160" y="2709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1370160" y="3368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3084840" y="2709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3084840" y="3368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2365560" y="3765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2577960" y="2062080"/>
            <a:ext cx="1684440" cy="1059120"/>
          </a:xfrm>
          <a:prstGeom prst="line">
            <a:avLst/>
          </a:prstGeom>
          <a:ln w="57240">
            <a:solidFill>
              <a:srgbClr val="ff33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509760" y="3141720"/>
            <a:ext cx="17938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395280" y="1413000"/>
            <a:ext cx="835344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287280" y="3105000"/>
            <a:ext cx="395280" cy="395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2195640" y="3105000"/>
            <a:ext cx="395280" cy="395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1263960" y="5692680"/>
            <a:ext cx="221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value(flow)=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4140360" y="3105000"/>
            <a:ext cx="395280" cy="395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2546280" y="1522440"/>
            <a:ext cx="84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ur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2195640" y="1701720"/>
            <a:ext cx="395280" cy="395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95640" y="4473720"/>
            <a:ext cx="395280" cy="395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xflow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H="1">
            <a:off x="611280" y="3430440"/>
            <a:ext cx="18000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2448000" y="3141720"/>
            <a:ext cx="17636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 flipH="1">
            <a:off x="2519280" y="3430440"/>
            <a:ext cx="1728720" cy="0"/>
          </a:xfrm>
          <a:prstGeom prst="line">
            <a:avLst/>
          </a:prstGeom>
          <a:ln w="57240">
            <a:solidFill>
              <a:srgbClr val="ff33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39280" y="2025720"/>
            <a:ext cx="1692360" cy="1079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 flipH="1">
            <a:off x="2376360" y="3465360"/>
            <a:ext cx="14400" cy="1008360"/>
          </a:xfrm>
          <a:prstGeom prst="line">
            <a:avLst/>
          </a:prstGeom>
          <a:ln w="57240">
            <a:solidFill>
              <a:srgbClr val="ff33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2556000" y="461952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1260720" y="20829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3278520" y="2144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1370160" y="2709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1370160" y="3368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3084840" y="2709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3084840" y="3368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2365560" y="3765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2577960" y="2062080"/>
            <a:ext cx="1684440" cy="1059120"/>
          </a:xfrm>
          <a:prstGeom prst="line">
            <a:avLst/>
          </a:prstGeom>
          <a:ln w="57240">
            <a:solidFill>
              <a:srgbClr val="ff33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509760" y="3141720"/>
            <a:ext cx="17938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395280" y="1413000"/>
            <a:ext cx="835344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287280" y="3105000"/>
            <a:ext cx="395280" cy="395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2195640" y="3105000"/>
            <a:ext cx="395280" cy="395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263960" y="5692680"/>
            <a:ext cx="221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value(flow)=</a:t>
            </a:r>
            <a:r>
              <a:rPr b="0" i="1" lang="en-GB" sz="2800" spc="-1" strike="noStrike">
                <a:solidFill>
                  <a:srgbClr val="ff33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4140360" y="3105000"/>
            <a:ext cx="395280" cy="395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2546280" y="1522440"/>
            <a:ext cx="84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ur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2195640" y="1701720"/>
            <a:ext cx="395280" cy="395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2195640" y="4473720"/>
            <a:ext cx="395280" cy="395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xflow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4140360" y="3105000"/>
            <a:ext cx="395280" cy="395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 flipH="1">
            <a:off x="611280" y="3430440"/>
            <a:ext cx="18000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2448000" y="3141720"/>
            <a:ext cx="17636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 flipH="1">
            <a:off x="2519280" y="3430440"/>
            <a:ext cx="17287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539280" y="2025720"/>
            <a:ext cx="1692360" cy="1079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 flipH="1">
            <a:off x="2376360" y="3465360"/>
            <a:ext cx="14400" cy="1008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2556000" y="461952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1260720" y="20829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3278520" y="2144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1370160" y="2709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1370160" y="3368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084840" y="2709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084840" y="3368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2365560" y="3765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2577960" y="2062080"/>
            <a:ext cx="1684440" cy="1059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509760" y="3141720"/>
            <a:ext cx="17938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395280" y="1413000"/>
            <a:ext cx="835344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87280" y="3105000"/>
            <a:ext cx="395280" cy="395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2195640" y="3105000"/>
            <a:ext cx="395280" cy="395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263960" y="5692680"/>
            <a:ext cx="221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value(flow)=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2546280" y="1522440"/>
            <a:ext cx="84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ur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2195640" y="1701720"/>
            <a:ext cx="395280" cy="395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2195640" y="4473720"/>
            <a:ext cx="395280" cy="395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"/>
          <p:cNvSpPr/>
          <p:nvPr/>
        </p:nvSpPr>
        <p:spPr>
          <a:xfrm>
            <a:off x="395280" y="1413000"/>
            <a:ext cx="835344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263960" y="5692680"/>
            <a:ext cx="221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value(flow)=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509760" y="3141720"/>
            <a:ext cx="1793880" cy="0"/>
          </a:xfrm>
          <a:prstGeom prst="line">
            <a:avLst/>
          </a:prstGeom>
          <a:ln w="57240">
            <a:solidFill>
              <a:srgbClr val="ff33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 flipH="1">
            <a:off x="611280" y="3430440"/>
            <a:ext cx="18000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2448000" y="3141720"/>
            <a:ext cx="17636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 flipH="1">
            <a:off x="2519280" y="3430440"/>
            <a:ext cx="17287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 flipH="1">
            <a:off x="539280" y="2025720"/>
            <a:ext cx="1692360" cy="1079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2577960" y="2062080"/>
            <a:ext cx="1684440" cy="1059120"/>
          </a:xfrm>
          <a:prstGeom prst="line">
            <a:avLst/>
          </a:prstGeom>
          <a:ln w="57240">
            <a:solidFill>
              <a:srgbClr val="ff33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 flipH="1">
            <a:off x="2376360" y="3465360"/>
            <a:ext cx="14400" cy="1008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2556000" y="461952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1260720" y="20829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278520" y="2144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1370160" y="2709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1370160" y="3368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084840" y="2709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084840" y="3368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365560" y="3765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395280" y="1881360"/>
            <a:ext cx="3997440" cy="2842920"/>
          </a:xfrm>
          <a:custGeom>
            <a:avLst/>
            <a:gdLst/>
            <a:ahLst/>
            <a:rect l="l" t="t" r="r" b="b"/>
            <a:pathLst>
              <a:path w="2291" h="1519">
                <a:moveTo>
                  <a:pt x="0" y="1519"/>
                </a:moveTo>
                <a:cubicBezTo>
                  <a:pt x="134" y="1282"/>
                  <a:pt x="269" y="1046"/>
                  <a:pt x="431" y="884"/>
                </a:cubicBezTo>
                <a:cubicBezTo>
                  <a:pt x="593" y="722"/>
                  <a:pt x="790" y="608"/>
                  <a:pt x="975" y="544"/>
                </a:cubicBezTo>
                <a:cubicBezTo>
                  <a:pt x="1160" y="480"/>
                  <a:pt x="1364" y="537"/>
                  <a:pt x="1542" y="499"/>
                </a:cubicBezTo>
                <a:cubicBezTo>
                  <a:pt x="1720" y="461"/>
                  <a:pt x="1916" y="400"/>
                  <a:pt x="2041" y="317"/>
                </a:cubicBezTo>
                <a:cubicBezTo>
                  <a:pt x="2166" y="234"/>
                  <a:pt x="2228" y="117"/>
                  <a:pt x="2291" y="0"/>
                </a:cubicBezTo>
              </a:path>
            </a:pathLst>
          </a:custGeom>
          <a:noFill/>
          <a:ln w="25560">
            <a:solidFill>
              <a:srgbClr val="ff33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87280" y="3105000"/>
            <a:ext cx="395280" cy="395280"/>
          </a:xfrm>
          <a:prstGeom prst="ellipse">
            <a:avLst/>
          </a:prstGeom>
          <a:solidFill>
            <a:srgbClr val="3333ff"/>
          </a:solidFill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4140360" y="3105000"/>
            <a:ext cx="395280" cy="3952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195640" y="3105000"/>
            <a:ext cx="395280" cy="3952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46280" y="1522440"/>
            <a:ext cx="84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ur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195640" y="1701720"/>
            <a:ext cx="395280" cy="395280"/>
          </a:xfrm>
          <a:prstGeom prst="rect">
            <a:avLst/>
          </a:prstGeom>
          <a:solidFill>
            <a:srgbClr val="3333ff"/>
          </a:solidFill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195640" y="4473720"/>
            <a:ext cx="395280" cy="395280"/>
          </a:xfrm>
          <a:prstGeom prst="rect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xflow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339840" y="758880"/>
            <a:ext cx="7826400" cy="22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Maximising lower bound for submodular functions:</a:t>
            </a:r>
            <a:br>
              <a:rPr sz="4000"/>
            </a:br>
            <a:br>
              <a:rPr sz="4000"/>
            </a:b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Reduction to maxflo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395280" y="3500280"/>
            <a:ext cx="835344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325440" y="3906720"/>
            <a:ext cx="8496360" cy="269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"/>
          <p:cNvSpPr/>
          <p:nvPr/>
        </p:nvSpPr>
        <p:spPr>
          <a:xfrm>
            <a:off x="4960800" y="3879720"/>
            <a:ext cx="1962360" cy="1800"/>
          </a:xfrm>
          <a:prstGeom prst="line">
            <a:avLst/>
          </a:prstGeom>
          <a:ln w="316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4960800" y="2703600"/>
            <a:ext cx="1962360" cy="1440"/>
          </a:xfrm>
          <a:prstGeom prst="line">
            <a:avLst/>
          </a:prstGeom>
          <a:ln w="316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 flipV="1">
            <a:off x="4960800" y="2703240"/>
            <a:ext cx="1962360" cy="11761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4960800" y="2703600"/>
            <a:ext cx="1962360" cy="11761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4917960" y="3836880"/>
            <a:ext cx="85680" cy="87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480" bIns="15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4917960" y="2660760"/>
            <a:ext cx="85680" cy="87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6880320" y="2660760"/>
            <a:ext cx="87120" cy="87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6880320" y="3836880"/>
            <a:ext cx="87120" cy="87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480" bIns="15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6926400" y="3879720"/>
            <a:ext cx="1962000" cy="1800"/>
          </a:xfrm>
          <a:prstGeom prst="line">
            <a:avLst/>
          </a:prstGeom>
          <a:ln w="316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6926400" y="2703600"/>
            <a:ext cx="1962000" cy="1440"/>
          </a:xfrm>
          <a:prstGeom prst="line">
            <a:avLst/>
          </a:prstGeom>
          <a:ln w="316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 flipV="1">
            <a:off x="6926400" y="2703240"/>
            <a:ext cx="1962000" cy="11761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6926400" y="2703600"/>
            <a:ext cx="1962000" cy="11761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8844120" y="2660760"/>
            <a:ext cx="87120" cy="87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8844120" y="3836880"/>
            <a:ext cx="87120" cy="87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480" bIns="15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4884840" y="3795840"/>
            <a:ext cx="160200" cy="1602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4884840" y="2622600"/>
            <a:ext cx="160200" cy="1602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6848640" y="3795840"/>
            <a:ext cx="158760" cy="1602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848640" y="2622600"/>
            <a:ext cx="158760" cy="1602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8805960" y="3795840"/>
            <a:ext cx="160200" cy="1602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8805960" y="2622600"/>
            <a:ext cx="160200" cy="1602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4789800" y="3871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173920" y="2852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6397920" y="2852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7129800" y="2852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8340840" y="2852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737920" y="3871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6758280" y="3860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4789800" y="2251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8737920" y="2251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6758280" y="2239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395280" y="1413000"/>
            <a:ext cx="835344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195640" y="3105000"/>
            <a:ext cx="395280" cy="395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140360" y="3105000"/>
            <a:ext cx="395280" cy="395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287280" y="3105000"/>
            <a:ext cx="395280" cy="395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 flipH="1">
            <a:off x="611280" y="3430440"/>
            <a:ext cx="18000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2448000" y="3141720"/>
            <a:ext cx="17636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 flipH="1">
            <a:off x="2519280" y="3430440"/>
            <a:ext cx="17287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 flipH="1">
            <a:off x="539280" y="2025720"/>
            <a:ext cx="1692360" cy="1079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 flipH="1">
            <a:off x="2376360" y="3465360"/>
            <a:ext cx="14400" cy="1008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2556000" y="461952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1260720" y="20829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3278520" y="2144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1370160" y="2709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1370160" y="3368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3084840" y="2709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3084840" y="3368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2365560" y="3765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2577960" y="2062080"/>
            <a:ext cx="1684440" cy="1059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509760" y="3141720"/>
            <a:ext cx="17938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2546280" y="1522440"/>
            <a:ext cx="84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ur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2195640" y="1701720"/>
            <a:ext cx="395280" cy="395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2195640" y="4473720"/>
            <a:ext cx="395280" cy="395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1263960" y="5692680"/>
            <a:ext cx="221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value(flow)=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6659640" y="4687920"/>
            <a:ext cx="54144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6741720" y="47196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13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Maxflow algorithm                                           and reparameteris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"/>
          <p:cNvSpPr/>
          <p:nvPr/>
        </p:nvSpPr>
        <p:spPr>
          <a:xfrm>
            <a:off x="4140360" y="3105000"/>
            <a:ext cx="395280" cy="395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 flipH="1">
            <a:off x="611280" y="3430440"/>
            <a:ext cx="18000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2448000" y="3141720"/>
            <a:ext cx="17636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 flipH="1">
            <a:off x="2519280" y="3430440"/>
            <a:ext cx="17287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 flipH="1">
            <a:off x="539280" y="2025720"/>
            <a:ext cx="1692360" cy="1079280"/>
          </a:xfrm>
          <a:prstGeom prst="line">
            <a:avLst/>
          </a:prstGeom>
          <a:ln w="57240">
            <a:solidFill>
              <a:srgbClr val="ff33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 flipH="1">
            <a:off x="2376360" y="3465360"/>
            <a:ext cx="14400" cy="1008360"/>
          </a:xfrm>
          <a:prstGeom prst="line">
            <a:avLst/>
          </a:prstGeom>
          <a:ln w="57240">
            <a:solidFill>
              <a:srgbClr val="ff33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2556000" y="461952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260720" y="20829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3278520" y="2144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370160" y="2709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370160" y="3368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3084840" y="2709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3084840" y="3368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365560" y="3765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577960" y="2062080"/>
            <a:ext cx="1684440" cy="1059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509760" y="3141720"/>
            <a:ext cx="1793880" cy="0"/>
          </a:xfrm>
          <a:prstGeom prst="line">
            <a:avLst/>
          </a:prstGeom>
          <a:ln w="57240">
            <a:solidFill>
              <a:srgbClr val="ff33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395280" y="1413000"/>
            <a:ext cx="835344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87280" y="3105000"/>
            <a:ext cx="395280" cy="395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95640" y="3105000"/>
            <a:ext cx="395280" cy="395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1263960" y="5692680"/>
            <a:ext cx="221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value(flow)=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4960800" y="3879720"/>
            <a:ext cx="1962360" cy="1800"/>
          </a:xfrm>
          <a:prstGeom prst="line">
            <a:avLst/>
          </a:prstGeom>
          <a:ln w="316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4960800" y="2703600"/>
            <a:ext cx="1962360" cy="1440"/>
          </a:xfrm>
          <a:prstGeom prst="line">
            <a:avLst/>
          </a:prstGeom>
          <a:ln w="316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 flipV="1">
            <a:off x="4960800" y="2703240"/>
            <a:ext cx="1962360" cy="11761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4960800" y="2703600"/>
            <a:ext cx="1962360" cy="11761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4917960" y="3836880"/>
            <a:ext cx="85680" cy="87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480" bIns="15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4917960" y="2660760"/>
            <a:ext cx="85680" cy="87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6880320" y="2660760"/>
            <a:ext cx="87120" cy="87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6880320" y="3836880"/>
            <a:ext cx="87120" cy="87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480" bIns="15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6926400" y="3879720"/>
            <a:ext cx="1962000" cy="1800"/>
          </a:xfrm>
          <a:prstGeom prst="line">
            <a:avLst/>
          </a:prstGeom>
          <a:ln w="316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6926400" y="2703600"/>
            <a:ext cx="1962000" cy="1440"/>
          </a:xfrm>
          <a:prstGeom prst="line">
            <a:avLst/>
          </a:prstGeom>
          <a:ln w="316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 flipV="1">
            <a:off x="6926400" y="2703240"/>
            <a:ext cx="1962000" cy="11761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926400" y="2703600"/>
            <a:ext cx="1962000" cy="11761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8844120" y="2660760"/>
            <a:ext cx="87120" cy="87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8844120" y="3836880"/>
            <a:ext cx="87120" cy="87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480" bIns="15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4884840" y="3795840"/>
            <a:ext cx="160200" cy="1602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4884840" y="2622600"/>
            <a:ext cx="160200" cy="1602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848640" y="3795840"/>
            <a:ext cx="158760" cy="1602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848640" y="2622600"/>
            <a:ext cx="158760" cy="1602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8805960" y="3795840"/>
            <a:ext cx="160200" cy="1602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8805960" y="2622600"/>
            <a:ext cx="160200" cy="1602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4789800" y="3871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5173920" y="2852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397920" y="2852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7129800" y="2852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8340840" y="2852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8737920" y="3871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6758280" y="3860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4789800" y="2251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8737920" y="2251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6758280" y="2239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6659640" y="4687920"/>
            <a:ext cx="54144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6741720" y="47196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2546280" y="1522440"/>
            <a:ext cx="84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ur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2195640" y="1701720"/>
            <a:ext cx="395280" cy="395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2195640" y="4473720"/>
            <a:ext cx="395280" cy="395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13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Maxflow algorithm                                           and reparameteris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"/>
          <p:cNvSpPr/>
          <p:nvPr/>
        </p:nvSpPr>
        <p:spPr>
          <a:xfrm>
            <a:off x="4140360" y="3105000"/>
            <a:ext cx="395280" cy="395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 flipH="1">
            <a:off x="611280" y="3430440"/>
            <a:ext cx="18000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2448000" y="3141720"/>
            <a:ext cx="17636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 flipH="1">
            <a:off x="2519280" y="3430440"/>
            <a:ext cx="17287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 flipH="1">
            <a:off x="539280" y="2025720"/>
            <a:ext cx="1692360" cy="1079280"/>
          </a:xfrm>
          <a:prstGeom prst="line">
            <a:avLst/>
          </a:prstGeom>
          <a:ln w="57240">
            <a:solidFill>
              <a:srgbClr val="ff33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 flipH="1">
            <a:off x="2376360" y="3465360"/>
            <a:ext cx="14400" cy="1008360"/>
          </a:xfrm>
          <a:prstGeom prst="line">
            <a:avLst/>
          </a:prstGeom>
          <a:ln w="57240">
            <a:solidFill>
              <a:srgbClr val="ff33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2556000" y="461952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1260720" y="20829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3278520" y="2144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1370160" y="2709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1370160" y="3368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3084840" y="2709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3084840" y="3368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2365560" y="3765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2577960" y="2062080"/>
            <a:ext cx="1684440" cy="1059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509760" y="3141720"/>
            <a:ext cx="1793880" cy="0"/>
          </a:xfrm>
          <a:prstGeom prst="line">
            <a:avLst/>
          </a:prstGeom>
          <a:ln w="57240">
            <a:solidFill>
              <a:srgbClr val="ff33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395280" y="1413000"/>
            <a:ext cx="835344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287280" y="3105000"/>
            <a:ext cx="395280" cy="395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2195640" y="3105000"/>
            <a:ext cx="395280" cy="395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1263960" y="5692680"/>
            <a:ext cx="221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value(flow)=</a:t>
            </a:r>
            <a:r>
              <a:rPr b="0" i="1" lang="en-GB" sz="28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4960800" y="3879720"/>
            <a:ext cx="1962360" cy="1800"/>
          </a:xfrm>
          <a:prstGeom prst="line">
            <a:avLst/>
          </a:prstGeom>
          <a:ln w="316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4960800" y="2703600"/>
            <a:ext cx="1962360" cy="1440"/>
          </a:xfrm>
          <a:prstGeom prst="line">
            <a:avLst/>
          </a:prstGeom>
          <a:ln w="316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 flipV="1">
            <a:off x="4960800" y="2703240"/>
            <a:ext cx="1962360" cy="11761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4960800" y="2703600"/>
            <a:ext cx="1962360" cy="11761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4917960" y="3836880"/>
            <a:ext cx="85680" cy="87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480" bIns="15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4917960" y="2660760"/>
            <a:ext cx="85680" cy="87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6880320" y="2660760"/>
            <a:ext cx="87120" cy="87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6880320" y="3836880"/>
            <a:ext cx="87120" cy="87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480" bIns="15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6926400" y="3879720"/>
            <a:ext cx="1962000" cy="1800"/>
          </a:xfrm>
          <a:prstGeom prst="line">
            <a:avLst/>
          </a:prstGeom>
          <a:ln w="316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6926400" y="2703600"/>
            <a:ext cx="1962000" cy="1440"/>
          </a:xfrm>
          <a:prstGeom prst="line">
            <a:avLst/>
          </a:prstGeom>
          <a:ln w="316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 flipV="1">
            <a:off x="6926400" y="2703240"/>
            <a:ext cx="1962000" cy="11761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6926400" y="2703600"/>
            <a:ext cx="1962000" cy="11761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8844120" y="2660760"/>
            <a:ext cx="87120" cy="87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8844120" y="3836880"/>
            <a:ext cx="87120" cy="87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480" bIns="15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4884840" y="3795840"/>
            <a:ext cx="160200" cy="1602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4884840" y="2622600"/>
            <a:ext cx="160200" cy="1602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6848640" y="3795840"/>
            <a:ext cx="158760" cy="1602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6848640" y="2622600"/>
            <a:ext cx="158760" cy="1602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8805960" y="3795840"/>
            <a:ext cx="160200" cy="1602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8805960" y="2622600"/>
            <a:ext cx="160200" cy="1602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4789800" y="3871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5173920" y="2852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6397920" y="2852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7129800" y="2852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8340840" y="2852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8737920" y="3871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6758280" y="3860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4789800" y="2251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8737920" y="2251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6758280" y="2239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6659640" y="4687920"/>
            <a:ext cx="54144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6741720" y="47196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2546280" y="1522440"/>
            <a:ext cx="84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ur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2195640" y="1701720"/>
            <a:ext cx="395280" cy="395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2195640" y="4473720"/>
            <a:ext cx="395280" cy="395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13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Maxflow algorithm                                           and reparameteris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-160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inimisation algorith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01600" y="988560"/>
            <a:ext cx="8856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n Cut / Max Flow [Ford&amp;Fulkerson ‘56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Grieg, Porteous, Seheult ‘89] : non-iterative (binary variabl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Boykov, Veksler, Zabih ‘99] : iterative - alpha-expansion, alpha-beta swap,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multi-valued variabl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+ If applicable, gives very accurate resul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–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Can be applied to a restricted class of fun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P – Max-product Belief Propagation [Pearl ‘86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+ Can be applied to any energy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–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In vision results are usually worse than that of graph cu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–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Does not always conver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W - Max-product Tree-reweighted Message Passing       [Wainwright, Jaakkola, Willsky ‘02] , [Kolmogorov ‘0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+ Can be applied to any energy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+ For stereo finds lower energy than graph cut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+ Convergence guarantees for the algorithm in [Kolmogorov ’05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95280" y="917640"/>
            <a:ext cx="835344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"/>
          <p:cNvSpPr/>
          <p:nvPr/>
        </p:nvSpPr>
        <p:spPr>
          <a:xfrm flipH="1">
            <a:off x="611280" y="3430440"/>
            <a:ext cx="18000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2448000" y="3141720"/>
            <a:ext cx="17636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 flipH="1">
            <a:off x="2519280" y="3430440"/>
            <a:ext cx="1728720" cy="0"/>
          </a:xfrm>
          <a:prstGeom prst="line">
            <a:avLst/>
          </a:prstGeom>
          <a:ln w="57240">
            <a:solidFill>
              <a:srgbClr val="ff33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 flipH="1">
            <a:off x="539280" y="2025720"/>
            <a:ext cx="1692360" cy="1079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 flipH="1">
            <a:off x="2376360" y="3465360"/>
            <a:ext cx="14400" cy="1008360"/>
          </a:xfrm>
          <a:prstGeom prst="line">
            <a:avLst/>
          </a:prstGeom>
          <a:ln w="57240">
            <a:solidFill>
              <a:srgbClr val="ff33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2556000" y="461952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1260720" y="20829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3278520" y="2144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1370160" y="2709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1370160" y="3368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3084840" y="2709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3084840" y="3368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2365560" y="3765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2577960" y="2062080"/>
            <a:ext cx="1684440" cy="1059120"/>
          </a:xfrm>
          <a:prstGeom prst="line">
            <a:avLst/>
          </a:prstGeom>
          <a:ln w="57240">
            <a:solidFill>
              <a:srgbClr val="ff33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509760" y="3141720"/>
            <a:ext cx="17938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395280" y="1413000"/>
            <a:ext cx="835344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287280" y="3105000"/>
            <a:ext cx="395280" cy="395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2195640" y="3105000"/>
            <a:ext cx="395280" cy="395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1263960" y="5692680"/>
            <a:ext cx="221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value(flow)=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4140360" y="3105000"/>
            <a:ext cx="395280" cy="395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4960800" y="3879720"/>
            <a:ext cx="1962360" cy="1800"/>
          </a:xfrm>
          <a:prstGeom prst="line">
            <a:avLst/>
          </a:prstGeom>
          <a:ln w="316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4960800" y="2703600"/>
            <a:ext cx="1962360" cy="1440"/>
          </a:xfrm>
          <a:prstGeom prst="line">
            <a:avLst/>
          </a:prstGeom>
          <a:ln w="316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 flipV="1">
            <a:off x="4960800" y="2703240"/>
            <a:ext cx="1962360" cy="11761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4960800" y="2703600"/>
            <a:ext cx="1962360" cy="11761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4917960" y="3836880"/>
            <a:ext cx="85680" cy="87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480" bIns="15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4917960" y="2660760"/>
            <a:ext cx="85680" cy="87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6880320" y="2660760"/>
            <a:ext cx="87120" cy="87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6880320" y="3836880"/>
            <a:ext cx="87120" cy="87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480" bIns="15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6926400" y="3879720"/>
            <a:ext cx="1962000" cy="1800"/>
          </a:xfrm>
          <a:prstGeom prst="line">
            <a:avLst/>
          </a:prstGeom>
          <a:ln w="316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6926400" y="2703600"/>
            <a:ext cx="1962000" cy="1440"/>
          </a:xfrm>
          <a:prstGeom prst="line">
            <a:avLst/>
          </a:prstGeom>
          <a:ln w="316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 flipV="1">
            <a:off x="6926400" y="2703240"/>
            <a:ext cx="1962000" cy="11761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6926400" y="2703600"/>
            <a:ext cx="1962000" cy="11761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8844120" y="2660760"/>
            <a:ext cx="87120" cy="87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8844120" y="3836880"/>
            <a:ext cx="87120" cy="87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480" bIns="15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4884840" y="3795840"/>
            <a:ext cx="160200" cy="1602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4884840" y="2622600"/>
            <a:ext cx="160200" cy="1602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6848640" y="3795840"/>
            <a:ext cx="158760" cy="1602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6848640" y="2622600"/>
            <a:ext cx="158760" cy="1602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8805960" y="3795840"/>
            <a:ext cx="160200" cy="1602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8805960" y="2622600"/>
            <a:ext cx="160200" cy="1602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4789800" y="3871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5173920" y="2852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6397920" y="2852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7129800" y="2852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8340840" y="2852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8737920" y="3871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6758280" y="3860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4789800" y="2251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8737920" y="2251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6758280" y="2239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6659640" y="4687920"/>
            <a:ext cx="54144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6741720" y="47196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2546280" y="1522440"/>
            <a:ext cx="84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ur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2195640" y="1701720"/>
            <a:ext cx="395280" cy="395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2195640" y="4473720"/>
            <a:ext cx="395280" cy="395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13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Maxflow algorithm                                           and reparameteris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"/>
          <p:cNvSpPr/>
          <p:nvPr/>
        </p:nvSpPr>
        <p:spPr>
          <a:xfrm flipH="1">
            <a:off x="611280" y="3430440"/>
            <a:ext cx="18000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2448000" y="3141720"/>
            <a:ext cx="17636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 flipH="1">
            <a:off x="2519280" y="3430440"/>
            <a:ext cx="1728720" cy="0"/>
          </a:xfrm>
          <a:prstGeom prst="line">
            <a:avLst/>
          </a:prstGeom>
          <a:ln w="57240">
            <a:solidFill>
              <a:srgbClr val="ff33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 flipH="1">
            <a:off x="539280" y="2025720"/>
            <a:ext cx="1692360" cy="1079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 flipH="1">
            <a:off x="2376360" y="3465360"/>
            <a:ext cx="14400" cy="1008360"/>
          </a:xfrm>
          <a:prstGeom prst="line">
            <a:avLst/>
          </a:prstGeom>
          <a:ln w="57240">
            <a:solidFill>
              <a:srgbClr val="ff33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2556000" y="461952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1260720" y="20829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3278520" y="2144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1370160" y="2709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1370160" y="3368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3084840" y="2709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3084840" y="3368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2365560" y="3765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2577960" y="2062080"/>
            <a:ext cx="1684440" cy="1059120"/>
          </a:xfrm>
          <a:prstGeom prst="line">
            <a:avLst/>
          </a:prstGeom>
          <a:ln w="57240">
            <a:solidFill>
              <a:srgbClr val="ff33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09760" y="3141720"/>
            <a:ext cx="17938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395280" y="1413000"/>
            <a:ext cx="835344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287280" y="3105000"/>
            <a:ext cx="395280" cy="395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2195640" y="3105000"/>
            <a:ext cx="395280" cy="395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1263960" y="5692680"/>
            <a:ext cx="221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value(flow)=</a:t>
            </a:r>
            <a:r>
              <a:rPr b="0" i="1" lang="en-GB" sz="2800" spc="-1" strike="noStrike">
                <a:solidFill>
                  <a:srgbClr val="ff33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4140360" y="3105000"/>
            <a:ext cx="395280" cy="395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4960800" y="3879720"/>
            <a:ext cx="1962360" cy="1800"/>
          </a:xfrm>
          <a:prstGeom prst="line">
            <a:avLst/>
          </a:prstGeom>
          <a:ln w="316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4960800" y="2703600"/>
            <a:ext cx="1962360" cy="1440"/>
          </a:xfrm>
          <a:prstGeom prst="line">
            <a:avLst/>
          </a:prstGeom>
          <a:ln w="316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 flipV="1">
            <a:off x="4960800" y="2703240"/>
            <a:ext cx="1962360" cy="11761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4960800" y="2703600"/>
            <a:ext cx="1962360" cy="11761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4917960" y="3836880"/>
            <a:ext cx="85680" cy="87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480" bIns="15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4917960" y="2660760"/>
            <a:ext cx="85680" cy="87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6880320" y="2660760"/>
            <a:ext cx="87120" cy="87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6880320" y="3836880"/>
            <a:ext cx="87120" cy="87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480" bIns="15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6926400" y="3879720"/>
            <a:ext cx="1962000" cy="1800"/>
          </a:xfrm>
          <a:prstGeom prst="line">
            <a:avLst/>
          </a:prstGeom>
          <a:ln w="316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6926400" y="2703600"/>
            <a:ext cx="1962000" cy="1440"/>
          </a:xfrm>
          <a:prstGeom prst="line">
            <a:avLst/>
          </a:prstGeom>
          <a:ln w="316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 flipV="1">
            <a:off x="6926400" y="2703240"/>
            <a:ext cx="1962000" cy="11761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6926400" y="2703600"/>
            <a:ext cx="1962000" cy="11761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8844120" y="2660760"/>
            <a:ext cx="87120" cy="87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8844120" y="3836880"/>
            <a:ext cx="87120" cy="87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480" bIns="15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4884840" y="3795840"/>
            <a:ext cx="160200" cy="1602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4884840" y="2622600"/>
            <a:ext cx="160200" cy="1602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6848640" y="3795840"/>
            <a:ext cx="158760" cy="1602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6848640" y="2622600"/>
            <a:ext cx="158760" cy="1602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8805960" y="3795840"/>
            <a:ext cx="160200" cy="1602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8805960" y="2622600"/>
            <a:ext cx="160200" cy="1602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4789800" y="3871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5173920" y="2852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6397920" y="2852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7129800" y="2852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8340840" y="2852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8737920" y="3871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6758280" y="3860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4789800" y="2251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8737920" y="2251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6758280" y="2239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6659640" y="4687920"/>
            <a:ext cx="54144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6741720" y="47196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2546280" y="1522440"/>
            <a:ext cx="84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ur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2195640" y="1701720"/>
            <a:ext cx="395280" cy="395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2195640" y="4473720"/>
            <a:ext cx="395280" cy="395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457200" y="13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Maxflow algorithm                                           and reparameteris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4140360" y="3105000"/>
            <a:ext cx="395280" cy="395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 flipH="1">
            <a:off x="611280" y="3430440"/>
            <a:ext cx="18000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2448000" y="3141720"/>
            <a:ext cx="17636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 flipH="1">
            <a:off x="2519280" y="3430440"/>
            <a:ext cx="17287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 flipH="1">
            <a:off x="539280" y="2025720"/>
            <a:ext cx="1692360" cy="1079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 flipH="1">
            <a:off x="2376360" y="3465360"/>
            <a:ext cx="14400" cy="1008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2556000" y="461952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1260720" y="20829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278520" y="2144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1370160" y="2709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1370160" y="3368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4840" y="2709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084840" y="3368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2365560" y="3765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2577960" y="2062080"/>
            <a:ext cx="1684440" cy="1059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09760" y="3141720"/>
            <a:ext cx="17938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395280" y="1413000"/>
            <a:ext cx="835344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287280" y="3105000"/>
            <a:ext cx="395280" cy="395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2195640" y="3105000"/>
            <a:ext cx="395280" cy="395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1263960" y="5692680"/>
            <a:ext cx="221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value(flow)=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4960800" y="3879720"/>
            <a:ext cx="1962360" cy="1800"/>
          </a:xfrm>
          <a:prstGeom prst="line">
            <a:avLst/>
          </a:prstGeom>
          <a:ln w="316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4960800" y="2703600"/>
            <a:ext cx="1962360" cy="1440"/>
          </a:xfrm>
          <a:prstGeom prst="line">
            <a:avLst/>
          </a:prstGeom>
          <a:ln w="316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 flipV="1">
            <a:off x="4960800" y="2703240"/>
            <a:ext cx="1962360" cy="11761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4960800" y="2703600"/>
            <a:ext cx="1962360" cy="11761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4917960" y="3836880"/>
            <a:ext cx="85680" cy="87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480" bIns="15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4917960" y="2660760"/>
            <a:ext cx="85680" cy="87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6880320" y="2660760"/>
            <a:ext cx="87120" cy="87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6880320" y="3836880"/>
            <a:ext cx="87120" cy="87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480" bIns="15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6926400" y="3879720"/>
            <a:ext cx="1962000" cy="1800"/>
          </a:xfrm>
          <a:prstGeom prst="line">
            <a:avLst/>
          </a:prstGeom>
          <a:ln w="316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6926400" y="2703600"/>
            <a:ext cx="1962000" cy="1440"/>
          </a:xfrm>
          <a:prstGeom prst="line">
            <a:avLst/>
          </a:prstGeom>
          <a:ln w="316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flipV="1">
            <a:off x="6926400" y="2703240"/>
            <a:ext cx="1962000" cy="11761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6926400" y="2703600"/>
            <a:ext cx="1962000" cy="11761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8844120" y="2660760"/>
            <a:ext cx="87120" cy="87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8844120" y="3836880"/>
            <a:ext cx="87120" cy="87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480" bIns="15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4884840" y="3795840"/>
            <a:ext cx="160200" cy="1602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4884840" y="2622600"/>
            <a:ext cx="160200" cy="1602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6848640" y="3795840"/>
            <a:ext cx="158760" cy="1602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6848640" y="2622600"/>
            <a:ext cx="158760" cy="1602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8805960" y="3795840"/>
            <a:ext cx="160200" cy="1602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8805960" y="2622600"/>
            <a:ext cx="160200" cy="1602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789800" y="3871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5173920" y="2852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6397920" y="2852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7129800" y="2852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8340840" y="2852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8737920" y="3871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6758280" y="3860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4789800" y="2251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8737920" y="2251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6758280" y="2239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6659640" y="4687920"/>
            <a:ext cx="54144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6741720" y="47196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2546280" y="1522440"/>
            <a:ext cx="84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ur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2195640" y="1701720"/>
            <a:ext cx="395280" cy="395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2195640" y="4473720"/>
            <a:ext cx="395280" cy="395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457200" y="13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Maxflow algorithm                                           and reparameteris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"/>
          <p:cNvSpPr/>
          <p:nvPr/>
        </p:nvSpPr>
        <p:spPr>
          <a:xfrm>
            <a:off x="395280" y="1413000"/>
            <a:ext cx="835344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1263960" y="5692680"/>
            <a:ext cx="221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value(flow)=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4960800" y="3879720"/>
            <a:ext cx="1962360" cy="18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4960800" y="2703600"/>
            <a:ext cx="196236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 flipV="1">
            <a:off x="4960800" y="2703240"/>
            <a:ext cx="1962360" cy="11761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4960800" y="2703600"/>
            <a:ext cx="1962360" cy="1176120"/>
          </a:xfrm>
          <a:prstGeom prst="line">
            <a:avLst/>
          </a:prstGeom>
          <a:ln w="316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917960" y="3836880"/>
            <a:ext cx="85680" cy="87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480" bIns="15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4917960" y="2660760"/>
            <a:ext cx="85680" cy="87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6880320" y="2660760"/>
            <a:ext cx="87120" cy="87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6880320" y="3836880"/>
            <a:ext cx="87120" cy="87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480" bIns="15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6926400" y="3879720"/>
            <a:ext cx="1962000" cy="1800"/>
          </a:xfrm>
          <a:prstGeom prst="line">
            <a:avLst/>
          </a:prstGeom>
          <a:ln w="316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6926400" y="2703600"/>
            <a:ext cx="196200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 flipV="1">
            <a:off x="6926400" y="2703240"/>
            <a:ext cx="1962000" cy="11761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6926400" y="2703600"/>
            <a:ext cx="1962000" cy="11761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8844120" y="2660760"/>
            <a:ext cx="87120" cy="87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8844120" y="3836880"/>
            <a:ext cx="87120" cy="87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480" bIns="15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4884840" y="3795840"/>
            <a:ext cx="160200" cy="1602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4884840" y="2622600"/>
            <a:ext cx="160200" cy="1602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6848640" y="3795840"/>
            <a:ext cx="158760" cy="1602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6848640" y="2622600"/>
            <a:ext cx="158760" cy="1602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8805960" y="3795840"/>
            <a:ext cx="160200" cy="1602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8805960" y="2622600"/>
            <a:ext cx="160200" cy="1602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5173920" y="2852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8737920" y="3871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6758280" y="3860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4789800" y="2251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0" name=""/>
              <p:cNvSpPr txBox="1"/>
              <p:nvPr/>
            </p:nvSpPr>
            <p:spPr>
              <a:xfrm>
                <a:off x="5994360" y="6232680"/>
                <a:ext cx="178596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0,1,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01" name=""/>
          <p:cNvSpPr/>
          <p:nvPr/>
        </p:nvSpPr>
        <p:spPr>
          <a:xfrm>
            <a:off x="4836960" y="5591160"/>
            <a:ext cx="413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imum of the energ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6659640" y="4687920"/>
            <a:ext cx="54144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6741720" y="47196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7740720" y="3805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509760" y="3141720"/>
            <a:ext cx="1793880" cy="0"/>
          </a:xfrm>
          <a:prstGeom prst="line">
            <a:avLst/>
          </a:prstGeom>
          <a:ln w="57240">
            <a:solidFill>
              <a:srgbClr val="ff33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 flipH="1">
            <a:off x="611280" y="3430440"/>
            <a:ext cx="18000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2448000" y="3141720"/>
            <a:ext cx="17636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 flipH="1">
            <a:off x="2519280" y="3430440"/>
            <a:ext cx="17287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 flipH="1">
            <a:off x="539280" y="2025720"/>
            <a:ext cx="1692360" cy="1079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2577960" y="2062080"/>
            <a:ext cx="1684440" cy="1059120"/>
          </a:xfrm>
          <a:prstGeom prst="line">
            <a:avLst/>
          </a:prstGeom>
          <a:ln w="57240">
            <a:solidFill>
              <a:srgbClr val="ff33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 flipH="1">
            <a:off x="2376360" y="3465360"/>
            <a:ext cx="14400" cy="1008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2556000" y="461952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1260720" y="20829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3278520" y="2144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1370160" y="2709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1370160" y="3368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3084840" y="2709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3084840" y="3368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2365560" y="3765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395280" y="1881360"/>
            <a:ext cx="3997440" cy="2842920"/>
          </a:xfrm>
          <a:custGeom>
            <a:avLst/>
            <a:gdLst/>
            <a:ahLst/>
            <a:rect l="l" t="t" r="r" b="b"/>
            <a:pathLst>
              <a:path w="2291" h="1519">
                <a:moveTo>
                  <a:pt x="0" y="1519"/>
                </a:moveTo>
                <a:cubicBezTo>
                  <a:pt x="134" y="1282"/>
                  <a:pt x="269" y="1046"/>
                  <a:pt x="431" y="884"/>
                </a:cubicBezTo>
                <a:cubicBezTo>
                  <a:pt x="593" y="722"/>
                  <a:pt x="790" y="608"/>
                  <a:pt x="975" y="544"/>
                </a:cubicBezTo>
                <a:cubicBezTo>
                  <a:pt x="1160" y="480"/>
                  <a:pt x="1364" y="537"/>
                  <a:pt x="1542" y="499"/>
                </a:cubicBezTo>
                <a:cubicBezTo>
                  <a:pt x="1720" y="461"/>
                  <a:pt x="1916" y="400"/>
                  <a:pt x="2041" y="317"/>
                </a:cubicBezTo>
                <a:cubicBezTo>
                  <a:pt x="2166" y="234"/>
                  <a:pt x="2228" y="117"/>
                  <a:pt x="2291" y="0"/>
                </a:cubicBezTo>
              </a:path>
            </a:pathLst>
          </a:custGeom>
          <a:noFill/>
          <a:ln w="25560">
            <a:solidFill>
              <a:srgbClr val="ff33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287280" y="3105000"/>
            <a:ext cx="395280" cy="395280"/>
          </a:xfrm>
          <a:prstGeom prst="ellipse">
            <a:avLst/>
          </a:prstGeom>
          <a:solidFill>
            <a:srgbClr val="3333ff"/>
          </a:solidFill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4140360" y="3105000"/>
            <a:ext cx="395280" cy="3952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2195640" y="3105000"/>
            <a:ext cx="395280" cy="3952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2546280" y="1522440"/>
            <a:ext cx="84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ur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2195640" y="1701720"/>
            <a:ext cx="395280" cy="395280"/>
          </a:xfrm>
          <a:prstGeom prst="rect">
            <a:avLst/>
          </a:prstGeom>
          <a:solidFill>
            <a:srgbClr val="3333ff"/>
          </a:solidFill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2195640" y="4473720"/>
            <a:ext cx="395280" cy="395280"/>
          </a:xfrm>
          <a:prstGeom prst="rect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457200" y="13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Maxflow algorithm                                           and reparameteris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"/>
          <p:cNvSpPr/>
          <p:nvPr/>
        </p:nvSpPr>
        <p:spPr>
          <a:xfrm>
            <a:off x="339840" y="758880"/>
            <a:ext cx="7826400" cy="22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Maximising lower bound for non-submodular function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395280" y="3500280"/>
            <a:ext cx="835344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325440" y="3906720"/>
            <a:ext cx="8496360" cy="269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-13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rbitrary functions of binary variab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395280" y="968400"/>
            <a:ext cx="835344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100080" y="3516480"/>
            <a:ext cx="8596080" cy="311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n be solved via maxflow [Boros,Hammer,Sun’91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pecially constructed grap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ives solution to LP relaxation: for each node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0, 1/2, 1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4" name=""/>
          <p:cNvGrpSpPr/>
          <p:nvPr/>
        </p:nvGrpSpPr>
        <p:grpSpPr>
          <a:xfrm>
            <a:off x="6835680" y="4233960"/>
            <a:ext cx="2155680" cy="1961640"/>
            <a:chOff x="6835680" y="4233960"/>
            <a:chExt cx="2155680" cy="1961640"/>
          </a:xfrm>
        </p:grpSpPr>
        <p:sp>
          <p:nvSpPr>
            <p:cNvPr id="1035" name=""/>
            <p:cNvSpPr/>
            <p:nvPr/>
          </p:nvSpPr>
          <p:spPr>
            <a:xfrm>
              <a:off x="7170120" y="6190200"/>
              <a:ext cx="182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 flipV="1">
              <a:off x="7170120" y="4384800"/>
              <a:ext cx="11520" cy="1810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6835680" y="423396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8" name=""/>
          <p:cNvGrpSpPr/>
          <p:nvPr/>
        </p:nvGrpSpPr>
        <p:grpSpPr>
          <a:xfrm>
            <a:off x="7480080" y="4438440"/>
            <a:ext cx="1484640" cy="1068480"/>
            <a:chOff x="7480080" y="4438440"/>
            <a:chExt cx="1484640" cy="1068480"/>
          </a:xfrm>
        </p:grpSpPr>
        <p:sp>
          <p:nvSpPr>
            <p:cNvPr id="1039" name=""/>
            <p:cNvSpPr/>
            <p:nvPr/>
          </p:nvSpPr>
          <p:spPr>
            <a:xfrm>
              <a:off x="7875720" y="5283360"/>
              <a:ext cx="120600" cy="120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8718840" y="4979880"/>
              <a:ext cx="120600" cy="120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7507440" y="4803840"/>
              <a:ext cx="120600" cy="120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8844120" y="4565520"/>
              <a:ext cx="120600" cy="1191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7560000" y="4864320"/>
              <a:ext cx="372960" cy="488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 flipV="1">
              <a:off x="8415720" y="5049360"/>
              <a:ext cx="363240" cy="45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 flipV="1">
              <a:off x="8778960" y="4614840"/>
              <a:ext cx="131760" cy="434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 flipH="1" flipV="1">
              <a:off x="7480080" y="4482720"/>
              <a:ext cx="7956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 flipV="1">
              <a:off x="8910720" y="4438440"/>
              <a:ext cx="27000" cy="150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7929720" y="5353200"/>
              <a:ext cx="2494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8182080" y="5506920"/>
              <a:ext cx="239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0" name=""/>
          <p:cNvSpPr/>
          <p:nvPr/>
        </p:nvSpPr>
        <p:spPr>
          <a:xfrm>
            <a:off x="7327800" y="621360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P relax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 rot="16200000">
            <a:off x="5776200" y="35640"/>
            <a:ext cx="411120" cy="4464000"/>
          </a:xfrm>
          <a:custGeom>
            <a:avLst/>
            <a:gdLst>
              <a:gd name="textAreaLeft" fmla="*/ 262800 w 411120"/>
              <a:gd name="textAreaRight" fmla="*/ 411480 w 411120"/>
              <a:gd name="textAreaTop" fmla="*/ 116280 h 4464000"/>
              <a:gd name="textAreaBottom" fmla="*/ 4347720 h 446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5188680" y="2470320"/>
            <a:ext cx="177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n-neg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1150920" y="2381400"/>
            <a:ext cx="1785960" cy="609480"/>
          </a:xfrm>
          <a:prstGeom prst="wedgeRoundRectCallout">
            <a:avLst>
              <a:gd name="adj1" fmla="val 46620"/>
              <a:gd name="adj2" fmla="val -158074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4" name=""/>
              <p:cNvSpPr txBox="1"/>
              <p:nvPr/>
            </p:nvSpPr>
            <p:spPr>
              <a:xfrm>
                <a:off x="801720" y="1019160"/>
                <a:ext cx="7473960" cy="101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|</m:t>
                    </m:r>
                    <m:r>
                      <m:t xml:space="preserve">θ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onst</m:t>
                        </m:r>
                      </m:sub>
                    </m:sSub>
                    <m:r>
                      <m:t xml:space="preserve">+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p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+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p</m:t>
                        </m:r>
                        <m:r>
                          <m:t xml:space="preserve">,</m:t>
                        </m:r>
                        <m:r>
                          <m:t xml:space="preserve">q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q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"/>
          <p:cNvSpPr/>
          <p:nvPr/>
        </p:nvSpPr>
        <p:spPr>
          <a:xfrm>
            <a:off x="2428920" y="1305000"/>
            <a:ext cx="1927080" cy="2825640"/>
          </a:xfrm>
          <a:custGeom>
            <a:avLst/>
            <a:gdLst/>
            <a:ahLst/>
            <a:rect l="l" t="t" r="r" b="b"/>
            <a:pathLst>
              <a:path w="1214" h="1780">
                <a:moveTo>
                  <a:pt x="238" y="1727"/>
                </a:moveTo>
                <a:cubicBezTo>
                  <a:pt x="340" y="1780"/>
                  <a:pt x="545" y="1712"/>
                  <a:pt x="647" y="1637"/>
                </a:cubicBezTo>
                <a:cubicBezTo>
                  <a:pt x="749" y="1562"/>
                  <a:pt x="772" y="1380"/>
                  <a:pt x="851" y="1274"/>
                </a:cubicBezTo>
                <a:cubicBezTo>
                  <a:pt x="930" y="1168"/>
                  <a:pt x="1063" y="1099"/>
                  <a:pt x="1123" y="1001"/>
                </a:cubicBezTo>
                <a:cubicBezTo>
                  <a:pt x="1183" y="903"/>
                  <a:pt x="1214" y="816"/>
                  <a:pt x="1214" y="684"/>
                </a:cubicBezTo>
                <a:cubicBezTo>
                  <a:pt x="1214" y="552"/>
                  <a:pt x="1187" y="314"/>
                  <a:pt x="1123" y="208"/>
                </a:cubicBezTo>
                <a:cubicBezTo>
                  <a:pt x="1059" y="102"/>
                  <a:pt x="964" y="75"/>
                  <a:pt x="828" y="49"/>
                </a:cubicBezTo>
                <a:cubicBezTo>
                  <a:pt x="692" y="23"/>
                  <a:pt x="435" y="0"/>
                  <a:pt x="306" y="49"/>
                </a:cubicBezTo>
                <a:cubicBezTo>
                  <a:pt x="177" y="98"/>
                  <a:pt x="102" y="132"/>
                  <a:pt x="57" y="344"/>
                </a:cubicBezTo>
                <a:cubicBezTo>
                  <a:pt x="12" y="556"/>
                  <a:pt x="0" y="1092"/>
                  <a:pt x="34" y="1319"/>
                </a:cubicBezTo>
                <a:cubicBezTo>
                  <a:pt x="68" y="1546"/>
                  <a:pt x="136" y="1674"/>
                  <a:pt x="238" y="1727"/>
                </a:cubicBezTo>
                <a:close/>
              </a:path>
            </a:pathLst>
          </a:custGeom>
          <a:solidFill>
            <a:srgbClr val="ccffff">
              <a:alpha val="34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457200" y="-13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rbitrary functions of binary variab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395280" y="968400"/>
            <a:ext cx="835344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3772080" y="1773360"/>
            <a:ext cx="223560" cy="223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2916360" y="1773360"/>
            <a:ext cx="223560" cy="223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2916360" y="2629080"/>
            <a:ext cx="223560" cy="223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3780000" y="2629080"/>
            <a:ext cx="223560" cy="223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4635360" y="1773360"/>
            <a:ext cx="223920" cy="223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4643280" y="2629080"/>
            <a:ext cx="223920" cy="223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2916360" y="3492360"/>
            <a:ext cx="223560" cy="223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3780000" y="3492360"/>
            <a:ext cx="223560" cy="223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4643280" y="3492360"/>
            <a:ext cx="223920" cy="223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2735280" y="1881360"/>
            <a:ext cx="230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2735280" y="2744640"/>
            <a:ext cx="230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2735280" y="3608280"/>
            <a:ext cx="230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 flipV="1">
            <a:off x="3887640" y="159192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 flipV="1">
            <a:off x="4751280" y="159192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 flipV="1">
            <a:off x="3024360" y="159192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2689560" y="13971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2689560" y="22874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3529080" y="13971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3529080" y="22874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2676600" y="3176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3891960" y="317664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4789080" y="317664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4791960" y="231300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4791960" y="148428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2592360" y="4869000"/>
            <a:ext cx="5580000" cy="1260360"/>
          </a:xfrm>
          <a:prstGeom prst="wedgeRoundRectCallout">
            <a:avLst>
              <a:gd name="adj1" fmla="val -37425"/>
              <a:gd name="adj2" fmla="val -112342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 of optimal sol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Hammer, Hansen, Simeone’84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"/>
          <p:cNvSpPr/>
          <p:nvPr/>
        </p:nvSpPr>
        <p:spPr>
          <a:xfrm>
            <a:off x="339840" y="542880"/>
            <a:ext cx="782640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art II: Lower bound via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nvex combination of tre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395280" y="3500280"/>
            <a:ext cx="835344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325440" y="3906720"/>
            <a:ext cx="8496360" cy="269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476280" y="2478240"/>
            <a:ext cx="8331120" cy="10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GB" sz="4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 tree-reweighted message passing)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/>
          </p:nvPr>
        </p:nvSpPr>
        <p:spPr>
          <a:xfrm>
            <a:off x="457200" y="12780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Goal: compute minimum of the energy for </a:t>
            </a:r>
            <a:r>
              <a:rPr b="0" i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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n general, intractable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btaining lower boun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plit </a:t>
            </a:r>
            <a:r>
              <a:rPr b="0" i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into several components: </a:t>
            </a:r>
            <a:r>
              <a:rPr b="0" i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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0" i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</a:t>
            </a:r>
            <a:r>
              <a:rPr b="0" i="1" lang="en-GB" sz="2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</a:t>
            </a:r>
            <a:r>
              <a:rPr b="0" i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0" i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</a:t>
            </a:r>
            <a:r>
              <a:rPr b="0" i="1" lang="en-GB" sz="2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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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ute minimum for each compone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bine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</a:t>
            </a:r>
            <a:r>
              <a:rPr b="0" i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GB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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</a:t>
            </a:r>
            <a:r>
              <a:rPr b="0" i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GB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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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o get a bound on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</a:t>
            </a:r>
            <a:r>
              <a:rPr b="0" i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e trees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8" name=""/>
              <p:cNvSpPr txBox="1"/>
              <p:nvPr/>
            </p:nvSpPr>
            <p:spPr>
              <a:xfrm>
                <a:off x="3117960" y="1793880"/>
                <a:ext cx="3458880" cy="74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Φ</m:t>
                    </m:r>
                    <m:r>
                      <m:t xml:space="preserve">(</m:t>
                    </m:r>
                    <m:r>
                      <m:t xml:space="preserve">θ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e>
                      <m:lim>
                        <m:r>
                          <m:t xml:space="preserve">x</m:t>
                        </m:r>
                      </m:lim>
                    </m:limLow>
                    <m:r>
                      <m:t xml:space="preserve">E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|</m:t>
                    </m:r>
                    <m:r>
                      <m:t xml:space="preserve">θ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89" name=""/>
          <p:cNvSpPr/>
          <p:nvPr/>
        </p:nvSpPr>
        <p:spPr>
          <a:xfrm>
            <a:off x="395280" y="1184400"/>
            <a:ext cx="835344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0" name=""/>
              <p:cNvSpPr txBox="1"/>
              <p:nvPr/>
            </p:nvSpPr>
            <p:spPr>
              <a:xfrm>
                <a:off x="2925720" y="4707000"/>
                <a:ext cx="3581280" cy="75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Φ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θ</m:t>
                        </m:r>
                      </m:e>
                      <m:sup>
                        <m:r>
                          <m:t xml:space="preserve">i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e>
                      <m:lim>
                        <m:r>
                          <m:t xml:space="preserve">x</m:t>
                        </m:r>
                      </m:lim>
                    </m:limLow>
                    <m:r>
                      <m:t xml:space="preserve">E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|</m:t>
                    </m:r>
                    <m:sSup>
                      <m:e>
                        <m:r>
                          <m:t xml:space="preserve">θ</m:t>
                        </m:r>
                      </m:e>
                      <m:sup>
                        <m:r>
                          <m:t xml:space="preserve">i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91" name="PlaceHolder 2"/>
          <p:cNvSpPr>
            <a:spLocks noGrp="1"/>
          </p:cNvSpPr>
          <p:nvPr>
            <p:ph type="title"/>
          </p:nvPr>
        </p:nvSpPr>
        <p:spPr>
          <a:xfrm>
            <a:off x="457200" y="-38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Convex combination of trees [Wainwright, Jaakkola, Willsky ’02]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2" name=""/>
          <p:cNvGrpSpPr/>
          <p:nvPr/>
        </p:nvGrpSpPr>
        <p:grpSpPr>
          <a:xfrm>
            <a:off x="1006560" y="2168640"/>
            <a:ext cx="1558440" cy="1198080"/>
            <a:chOff x="1006560" y="2168640"/>
            <a:chExt cx="1558440" cy="1198080"/>
          </a:xfrm>
        </p:grpSpPr>
        <p:sp>
          <p:nvSpPr>
            <p:cNvPr id="1093" name=""/>
            <p:cNvSpPr/>
            <p:nvPr/>
          </p:nvSpPr>
          <p:spPr>
            <a:xfrm flipV="1">
              <a:off x="1056600" y="2228040"/>
              <a:ext cx="721440" cy="5414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1695240" y="2168640"/>
              <a:ext cx="181080" cy="1810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 flipH="1" flipV="1">
              <a:off x="1778040" y="2228040"/>
              <a:ext cx="720360" cy="5414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1056600" y="2768400"/>
              <a:ext cx="721440" cy="5414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 flipH="1">
              <a:off x="1778040" y="2768400"/>
              <a:ext cx="720360" cy="5414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1695240" y="3185640"/>
              <a:ext cx="181080" cy="1810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1006560" y="2676960"/>
              <a:ext cx="181080" cy="1814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2383920" y="2676960"/>
              <a:ext cx="181080" cy="1814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1" name=""/>
          <p:cNvGrpSpPr/>
          <p:nvPr/>
        </p:nvGrpSpPr>
        <p:grpSpPr>
          <a:xfrm>
            <a:off x="3887640" y="2179800"/>
            <a:ext cx="1559160" cy="690480"/>
            <a:chOff x="3887640" y="2179800"/>
            <a:chExt cx="1559160" cy="690480"/>
          </a:xfrm>
        </p:grpSpPr>
        <p:sp>
          <p:nvSpPr>
            <p:cNvPr id="1102" name=""/>
            <p:cNvSpPr/>
            <p:nvPr/>
          </p:nvSpPr>
          <p:spPr>
            <a:xfrm flipV="1">
              <a:off x="3937680" y="2239560"/>
              <a:ext cx="722160" cy="5414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4576320" y="2179800"/>
              <a:ext cx="181440" cy="1818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 flipH="1" flipV="1">
              <a:off x="4659480" y="2239560"/>
              <a:ext cx="720360" cy="5414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3887640" y="2688840"/>
              <a:ext cx="181440" cy="1814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5265360" y="2688840"/>
              <a:ext cx="181440" cy="1814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7" name=""/>
          <p:cNvGrpSpPr/>
          <p:nvPr/>
        </p:nvGrpSpPr>
        <p:grpSpPr>
          <a:xfrm>
            <a:off x="6838920" y="2687760"/>
            <a:ext cx="1558440" cy="690120"/>
            <a:chOff x="6838920" y="2687760"/>
            <a:chExt cx="1558440" cy="690120"/>
          </a:xfrm>
        </p:grpSpPr>
        <p:sp>
          <p:nvSpPr>
            <p:cNvPr id="1108" name=""/>
            <p:cNvSpPr/>
            <p:nvPr/>
          </p:nvSpPr>
          <p:spPr>
            <a:xfrm>
              <a:off x="6888960" y="2778840"/>
              <a:ext cx="721800" cy="5421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 flipH="1">
              <a:off x="7610760" y="2778840"/>
              <a:ext cx="720360" cy="5421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7527600" y="3196440"/>
              <a:ext cx="181080" cy="1814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6838920" y="2687760"/>
              <a:ext cx="181080" cy="1814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8216280" y="2687760"/>
              <a:ext cx="181080" cy="1814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113" name=""/>
              <p:cNvSpPr txBox="1"/>
              <p:nvPr/>
            </p:nvSpPr>
            <p:spPr>
              <a:xfrm>
                <a:off x="1563840" y="3686040"/>
                <a:ext cx="34416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4" name=""/>
              <p:cNvSpPr txBox="1"/>
              <p:nvPr/>
            </p:nvSpPr>
            <p:spPr>
              <a:xfrm>
                <a:off x="3022560" y="3772080"/>
                <a:ext cx="344520" cy="31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5" name=""/>
              <p:cNvSpPr txBox="1"/>
              <p:nvPr/>
            </p:nvSpPr>
            <p:spPr>
              <a:xfrm>
                <a:off x="7199280" y="3392640"/>
                <a:ext cx="930240" cy="107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t xml:space="preserve">θ</m:t>
                        </m:r>
                      </m:e>
                      <m:sup>
                        <m:r>
                          <m:t xml:space="preserve">T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6" name=""/>
              <p:cNvSpPr txBox="1"/>
              <p:nvPr/>
            </p:nvSpPr>
            <p:spPr>
              <a:xfrm>
                <a:off x="4175280" y="3398760"/>
                <a:ext cx="861840" cy="107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t xml:space="preserve">θ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7" name=""/>
              <p:cNvSpPr txBox="1"/>
              <p:nvPr/>
            </p:nvSpPr>
            <p:spPr>
              <a:xfrm>
                <a:off x="6100920" y="3745080"/>
                <a:ext cx="3790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8" name=""/>
          <p:cNvSpPr/>
          <p:nvPr/>
        </p:nvSpPr>
        <p:spPr>
          <a:xfrm>
            <a:off x="937800" y="1522440"/>
            <a:ext cx="167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3689640" y="1531800"/>
            <a:ext cx="168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6642360" y="1531800"/>
            <a:ext cx="180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1" name=""/>
              <p:cNvSpPr txBox="1"/>
              <p:nvPr/>
            </p:nvSpPr>
            <p:spPr>
              <a:xfrm>
                <a:off x="1236600" y="4944960"/>
                <a:ext cx="961920" cy="55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Φ</m:t>
                    </m:r>
                    <m:r>
                      <m:t xml:space="preserve">(</m:t>
                    </m:r>
                    <m:r>
                      <m:t xml:space="preserve">θ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2" name=""/>
              <p:cNvSpPr txBox="1"/>
              <p:nvPr/>
            </p:nvSpPr>
            <p:spPr>
              <a:xfrm>
                <a:off x="4175280" y="4687920"/>
                <a:ext cx="1511280" cy="106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Φ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θ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3" name=""/>
              <p:cNvSpPr txBox="1"/>
              <p:nvPr/>
            </p:nvSpPr>
            <p:spPr>
              <a:xfrm>
                <a:off x="7199280" y="4687920"/>
                <a:ext cx="1546200" cy="106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Φ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θ</m:t>
                        </m:r>
                      </m:e>
                      <m:sup>
                        <m:r>
                          <m:t xml:space="preserve">T</m:t>
                        </m:r>
                        <m:r>
                          <m:t xml:space="preserve">'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4" name=""/>
              <p:cNvSpPr txBox="1"/>
              <p:nvPr/>
            </p:nvSpPr>
            <p:spPr>
              <a:xfrm>
                <a:off x="6100920" y="5032440"/>
                <a:ext cx="379080" cy="37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5" name=""/>
              <p:cNvSpPr txBox="1"/>
              <p:nvPr/>
            </p:nvSpPr>
            <p:spPr>
              <a:xfrm>
                <a:off x="3022560" y="5019840"/>
                <a:ext cx="344520" cy="41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126" name=""/>
          <p:cNvSpPr/>
          <p:nvPr/>
        </p:nvSpPr>
        <p:spPr>
          <a:xfrm rot="16200000">
            <a:off x="6231600" y="3578760"/>
            <a:ext cx="411120" cy="4660920"/>
          </a:xfrm>
          <a:custGeom>
            <a:avLst/>
            <a:gdLst>
              <a:gd name="textAreaLeft" fmla="*/ 262800 w 411120"/>
              <a:gd name="textAreaRight" fmla="*/ 411480 w 411120"/>
              <a:gd name="textAreaTop" fmla="*/ 121320 h 4660920"/>
              <a:gd name="textAreaBottom" fmla="*/ 4539600 h 4660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4389480" y="6164280"/>
            <a:ext cx="418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wer bound on the ener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1706400" y="5977080"/>
            <a:ext cx="1785960" cy="609480"/>
          </a:xfrm>
          <a:prstGeom prst="wedgeRoundRectCallout">
            <a:avLst>
              <a:gd name="adj1" fmla="val 84134"/>
              <a:gd name="adj2" fmla="val -71875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395280" y="1179360"/>
            <a:ext cx="835344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457200" y="-38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vex combination of tre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cont’d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-20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in idea: LP relax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66840" y="912960"/>
            <a:ext cx="8726400" cy="36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Minimize energ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under constra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0,1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general, NP-hard problem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elax discreteness constraints: allow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0,1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esults in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linear program.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n be solved in polynomial tim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879480"/>
            <a:ext cx="835344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69040" y="6191280"/>
            <a:ext cx="24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ergy fun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discrete variab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605560" y="620244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P relax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7360" y="4187880"/>
            <a:ext cx="2155680" cy="1961640"/>
            <a:chOff x="747360" y="4187880"/>
            <a:chExt cx="2155680" cy="1961640"/>
          </a:xfrm>
        </p:grpSpPr>
        <p:sp>
          <p:nvSpPr>
            <p:cNvPr id="80" name=""/>
            <p:cNvSpPr/>
            <p:nvPr/>
          </p:nvSpPr>
          <p:spPr>
            <a:xfrm>
              <a:off x="1082160" y="6144120"/>
              <a:ext cx="1820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flipV="1">
              <a:off x="1082160" y="4338720"/>
              <a:ext cx="11520" cy="1810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47360" y="418788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" name=""/>
          <p:cNvGrpSpPr/>
          <p:nvPr/>
        </p:nvGrpSpPr>
        <p:grpSpPr>
          <a:xfrm>
            <a:off x="3904920" y="4189320"/>
            <a:ext cx="2155680" cy="1961640"/>
            <a:chOff x="3904920" y="4189320"/>
            <a:chExt cx="2155680" cy="1961640"/>
          </a:xfrm>
        </p:grpSpPr>
        <p:sp>
          <p:nvSpPr>
            <p:cNvPr id="84" name=""/>
            <p:cNvSpPr/>
            <p:nvPr/>
          </p:nvSpPr>
          <p:spPr>
            <a:xfrm>
              <a:off x="4239720" y="6145920"/>
              <a:ext cx="1820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flipV="1">
              <a:off x="4239720" y="4339800"/>
              <a:ext cx="11520" cy="1811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904920" y="418932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6322680" y="4187880"/>
            <a:ext cx="2155680" cy="1961640"/>
            <a:chOff x="6322680" y="4187880"/>
            <a:chExt cx="2155680" cy="1961640"/>
          </a:xfrm>
        </p:grpSpPr>
        <p:sp>
          <p:nvSpPr>
            <p:cNvPr id="88" name=""/>
            <p:cNvSpPr/>
            <p:nvPr/>
          </p:nvSpPr>
          <p:spPr>
            <a:xfrm>
              <a:off x="6657480" y="6144120"/>
              <a:ext cx="1820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V="1">
              <a:off x="6657480" y="4338720"/>
              <a:ext cx="11520" cy="1810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322680" y="418788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4521240" y="4393800"/>
            <a:ext cx="1484280" cy="965520"/>
            <a:chOff x="4521240" y="4393800"/>
            <a:chExt cx="1484280" cy="965520"/>
          </a:xfrm>
        </p:grpSpPr>
        <p:sp>
          <p:nvSpPr>
            <p:cNvPr id="92" name=""/>
            <p:cNvSpPr/>
            <p:nvPr/>
          </p:nvSpPr>
          <p:spPr>
            <a:xfrm>
              <a:off x="4916520" y="5238720"/>
              <a:ext cx="120600" cy="120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759280" y="4935600"/>
              <a:ext cx="120960" cy="120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548240" y="4759200"/>
              <a:ext cx="120600" cy="120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84920" y="4521240"/>
              <a:ext cx="120600" cy="1191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00440" y="4819680"/>
              <a:ext cx="373320" cy="488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V="1">
              <a:off x="5553000" y="5005440"/>
              <a:ext cx="266760" cy="30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 flipV="1">
              <a:off x="5819760" y="4570560"/>
              <a:ext cx="131760" cy="434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flipH="1" flipV="1">
              <a:off x="4521240" y="4438800"/>
              <a:ext cx="7920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flipV="1">
              <a:off x="5951520" y="4393800"/>
              <a:ext cx="27000" cy="150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70520" y="5308560"/>
              <a:ext cx="57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1384200" y="4519440"/>
            <a:ext cx="1457280" cy="838440"/>
            <a:chOff x="1384200" y="4519440"/>
            <a:chExt cx="1457280" cy="838440"/>
          </a:xfrm>
        </p:grpSpPr>
        <p:sp>
          <p:nvSpPr>
            <p:cNvPr id="103" name=""/>
            <p:cNvSpPr/>
            <p:nvPr/>
          </p:nvSpPr>
          <p:spPr>
            <a:xfrm>
              <a:off x="1752480" y="5237280"/>
              <a:ext cx="120600" cy="120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595600" y="4933800"/>
              <a:ext cx="120600" cy="120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384200" y="4757760"/>
              <a:ext cx="120600" cy="120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720880" y="4519440"/>
              <a:ext cx="120600" cy="1191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6967080" y="4392360"/>
            <a:ext cx="1484640" cy="1068480"/>
            <a:chOff x="6967080" y="4392360"/>
            <a:chExt cx="1484640" cy="1068480"/>
          </a:xfrm>
        </p:grpSpPr>
        <p:sp>
          <p:nvSpPr>
            <p:cNvPr id="108" name=""/>
            <p:cNvSpPr/>
            <p:nvPr/>
          </p:nvSpPr>
          <p:spPr>
            <a:xfrm>
              <a:off x="7362720" y="5237280"/>
              <a:ext cx="120600" cy="120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205840" y="4933800"/>
              <a:ext cx="120600" cy="120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994440" y="4757760"/>
              <a:ext cx="120600" cy="120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8331120" y="4519440"/>
              <a:ext cx="120600" cy="1191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047000" y="4818240"/>
              <a:ext cx="372960" cy="488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flipV="1">
              <a:off x="7902720" y="5003280"/>
              <a:ext cx="363240" cy="45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flipV="1">
              <a:off x="8265960" y="4568760"/>
              <a:ext cx="131760" cy="434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flipH="1" flipV="1">
              <a:off x="6967080" y="4436640"/>
              <a:ext cx="7956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flipV="1">
              <a:off x="8397720" y="4392360"/>
              <a:ext cx="27000" cy="150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416720" y="5307120"/>
              <a:ext cx="2494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669080" y="5460840"/>
              <a:ext cx="239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4964400" y="436392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gh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220160" y="4371840"/>
            <a:ext cx="99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 tigh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457200" y="-20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W algorith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PlaceHolder 2"/>
          <p:cNvSpPr>
            <a:spLocks noGrp="1"/>
          </p:cNvSpPr>
          <p:nvPr>
            <p:ph/>
          </p:nvPr>
        </p:nvSpPr>
        <p:spPr>
          <a:xfrm>
            <a:off x="457200" y="1010880"/>
            <a:ext cx="8447040" cy="56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: find reparameterisation maximizing lower bou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y sequence of different reparameterisation opera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de averag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dinary BP on tr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der of operation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ffects performance dramatical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orithm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Wainwright et al. ’02]: parallel sche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y not conver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Kolmogorov’05]: specific sequential sche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wer bound does not decrease, convergence guarant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395280" y="912960"/>
            <a:ext cx="835344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de averag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5" name=""/>
          <p:cNvGrpSpPr/>
          <p:nvPr/>
        </p:nvGrpSpPr>
        <p:grpSpPr>
          <a:xfrm>
            <a:off x="5148360" y="2206440"/>
            <a:ext cx="360360" cy="1657440"/>
            <a:chOff x="5148360" y="2206440"/>
            <a:chExt cx="360360" cy="1657440"/>
          </a:xfrm>
        </p:grpSpPr>
        <p:sp>
          <p:nvSpPr>
            <p:cNvPr id="1136" name=""/>
            <p:cNvSpPr/>
            <p:nvPr/>
          </p:nvSpPr>
          <p:spPr>
            <a:xfrm>
              <a:off x="5221440" y="2386080"/>
              <a:ext cx="142920" cy="142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5221440" y="3505320"/>
              <a:ext cx="142920" cy="142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5148360" y="220680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5148360" y="386388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 flipV="1">
              <a:off x="5508720" y="2206440"/>
              <a:ext cx="0" cy="165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1" name=""/>
          <p:cNvGrpSpPr/>
          <p:nvPr/>
        </p:nvGrpSpPr>
        <p:grpSpPr>
          <a:xfrm>
            <a:off x="5652720" y="2206440"/>
            <a:ext cx="360360" cy="1657440"/>
            <a:chOff x="5652720" y="2206440"/>
            <a:chExt cx="360360" cy="1657440"/>
          </a:xfrm>
        </p:grpSpPr>
        <p:sp>
          <p:nvSpPr>
            <p:cNvPr id="1142" name=""/>
            <p:cNvSpPr/>
            <p:nvPr/>
          </p:nvSpPr>
          <p:spPr>
            <a:xfrm flipH="1">
              <a:off x="5796720" y="2386080"/>
              <a:ext cx="142920" cy="142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 flipH="1">
              <a:off x="5796720" y="3505320"/>
              <a:ext cx="142920" cy="142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 flipH="1">
              <a:off x="5652720" y="220680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 flipH="1">
              <a:off x="5652720" y="386388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 flipV="1">
              <a:off x="5652720" y="2206440"/>
              <a:ext cx="0" cy="165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7" name=""/>
          <p:cNvSpPr/>
          <p:nvPr/>
        </p:nvSpPr>
        <p:spPr>
          <a:xfrm>
            <a:off x="4526280" y="2254320"/>
            <a:ext cx="103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4526280" y="3384720"/>
            <a:ext cx="103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5605920" y="2254320"/>
            <a:ext cx="103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5605920" y="3384720"/>
            <a:ext cx="103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1" name=""/>
          <p:cNvGrpSpPr/>
          <p:nvPr/>
        </p:nvGrpSpPr>
        <p:grpSpPr>
          <a:xfrm>
            <a:off x="1006560" y="5440320"/>
            <a:ext cx="7390800" cy="1209240"/>
            <a:chOff x="1006560" y="5440320"/>
            <a:chExt cx="7390800" cy="1209240"/>
          </a:xfrm>
        </p:grpSpPr>
        <p:grpSp>
          <p:nvGrpSpPr>
            <p:cNvPr id="1152" name=""/>
            <p:cNvGrpSpPr/>
            <p:nvPr/>
          </p:nvGrpSpPr>
          <p:grpSpPr>
            <a:xfrm>
              <a:off x="1006560" y="5440320"/>
              <a:ext cx="1558440" cy="1198080"/>
              <a:chOff x="1006560" y="5440320"/>
              <a:chExt cx="1558440" cy="1198080"/>
            </a:xfrm>
          </p:grpSpPr>
          <p:sp>
            <p:nvSpPr>
              <p:cNvPr id="1153" name=""/>
              <p:cNvSpPr/>
              <p:nvPr/>
            </p:nvSpPr>
            <p:spPr>
              <a:xfrm flipV="1">
                <a:off x="1056600" y="5499720"/>
                <a:ext cx="721440" cy="54144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>
                <a:off x="1695240" y="5440320"/>
                <a:ext cx="181080" cy="1810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 flipH="1" flipV="1">
                <a:off x="1778040" y="5499720"/>
                <a:ext cx="720360" cy="54144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>
                <a:off x="1056600" y="6040080"/>
                <a:ext cx="721440" cy="54144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 flipH="1">
                <a:off x="1778040" y="6040080"/>
                <a:ext cx="720360" cy="54144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>
                <a:off x="1695240" y="6457320"/>
                <a:ext cx="181080" cy="1810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>
                <a:off x="1006560" y="5948640"/>
                <a:ext cx="181080" cy="1814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>
                <a:off x="2383920" y="5948640"/>
                <a:ext cx="181080" cy="1814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61" name=""/>
            <p:cNvGrpSpPr/>
            <p:nvPr/>
          </p:nvGrpSpPr>
          <p:grpSpPr>
            <a:xfrm>
              <a:off x="3887640" y="5451480"/>
              <a:ext cx="1559160" cy="690480"/>
              <a:chOff x="3887640" y="5451480"/>
              <a:chExt cx="1559160" cy="690480"/>
            </a:xfrm>
          </p:grpSpPr>
          <p:sp>
            <p:nvSpPr>
              <p:cNvPr id="1162" name=""/>
              <p:cNvSpPr/>
              <p:nvPr/>
            </p:nvSpPr>
            <p:spPr>
              <a:xfrm flipV="1">
                <a:off x="3937680" y="5511240"/>
                <a:ext cx="722160" cy="54144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>
                <a:off x="4576320" y="5451480"/>
                <a:ext cx="181440" cy="1818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 flipH="1" flipV="1">
                <a:off x="4659480" y="5511240"/>
                <a:ext cx="720360" cy="54144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>
                <a:off x="3887640" y="5960520"/>
                <a:ext cx="181440" cy="1814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>
                <a:off x="5265360" y="5960520"/>
                <a:ext cx="181440" cy="1814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67" name=""/>
            <p:cNvGrpSpPr/>
            <p:nvPr/>
          </p:nvGrpSpPr>
          <p:grpSpPr>
            <a:xfrm>
              <a:off x="6838920" y="5959440"/>
              <a:ext cx="1558440" cy="690120"/>
              <a:chOff x="6838920" y="5959440"/>
              <a:chExt cx="1558440" cy="690120"/>
            </a:xfrm>
          </p:grpSpPr>
          <p:sp>
            <p:nvSpPr>
              <p:cNvPr id="1168" name=""/>
              <p:cNvSpPr/>
              <p:nvPr/>
            </p:nvSpPr>
            <p:spPr>
              <a:xfrm>
                <a:off x="6888960" y="6050520"/>
                <a:ext cx="721800" cy="54216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 flipH="1">
                <a:off x="7610760" y="6050520"/>
                <a:ext cx="720360" cy="54216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>
                <a:off x="7527600" y="6468120"/>
                <a:ext cx="181080" cy="1814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>
                <a:off x="6838920" y="5959440"/>
                <a:ext cx="181080" cy="1814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>
                <a:off x="8216280" y="5959440"/>
                <a:ext cx="181080" cy="1814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1173" name=""/>
                <p:cNvSpPr txBox="1"/>
                <p:nvPr/>
              </p:nvSpPr>
              <p:spPr>
                <a:xfrm>
                  <a:off x="3022560" y="5857920"/>
                  <a:ext cx="344520" cy="311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74" name=""/>
                <p:cNvSpPr txBox="1"/>
                <p:nvPr/>
              </p:nvSpPr>
              <p:spPr>
                <a:xfrm>
                  <a:off x="6029280" y="5830920"/>
                  <a:ext cx="379440" cy="38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+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175" name=""/>
          <p:cNvSpPr/>
          <p:nvPr/>
        </p:nvSpPr>
        <p:spPr>
          <a:xfrm>
            <a:off x="912960" y="5848200"/>
            <a:ext cx="360360" cy="36036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3792600" y="5869080"/>
            <a:ext cx="360360" cy="36036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6745320" y="5859360"/>
            <a:ext cx="360360" cy="36036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 flipV="1">
            <a:off x="4048200" y="3860280"/>
            <a:ext cx="1263600" cy="2046600"/>
          </a:xfrm>
          <a:prstGeom prst="line">
            <a:avLst/>
          </a:prstGeom>
          <a:ln w="38160">
            <a:solidFill>
              <a:srgbClr val="ff33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 flipH="1" flipV="1">
            <a:off x="5832000" y="3868200"/>
            <a:ext cx="1001880" cy="2001960"/>
          </a:xfrm>
          <a:prstGeom prst="line">
            <a:avLst/>
          </a:prstGeom>
          <a:ln w="38160">
            <a:solidFill>
              <a:srgbClr val="ff33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395280" y="1146240"/>
            <a:ext cx="835344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de averag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2" name=""/>
          <p:cNvGrpSpPr/>
          <p:nvPr/>
        </p:nvGrpSpPr>
        <p:grpSpPr>
          <a:xfrm>
            <a:off x="5148360" y="2206440"/>
            <a:ext cx="360360" cy="1657440"/>
            <a:chOff x="5148360" y="2206440"/>
            <a:chExt cx="360360" cy="1657440"/>
          </a:xfrm>
        </p:grpSpPr>
        <p:sp>
          <p:nvSpPr>
            <p:cNvPr id="1183" name=""/>
            <p:cNvSpPr/>
            <p:nvPr/>
          </p:nvSpPr>
          <p:spPr>
            <a:xfrm>
              <a:off x="5221440" y="2386080"/>
              <a:ext cx="142920" cy="142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5221440" y="3505320"/>
              <a:ext cx="142920" cy="142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5148360" y="220680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5148360" y="386388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 flipV="1">
              <a:off x="5508720" y="2206440"/>
              <a:ext cx="0" cy="165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8" name=""/>
          <p:cNvGrpSpPr/>
          <p:nvPr/>
        </p:nvGrpSpPr>
        <p:grpSpPr>
          <a:xfrm>
            <a:off x="5652720" y="2206440"/>
            <a:ext cx="360360" cy="1657440"/>
            <a:chOff x="5652720" y="2206440"/>
            <a:chExt cx="360360" cy="1657440"/>
          </a:xfrm>
        </p:grpSpPr>
        <p:sp>
          <p:nvSpPr>
            <p:cNvPr id="1189" name=""/>
            <p:cNvSpPr/>
            <p:nvPr/>
          </p:nvSpPr>
          <p:spPr>
            <a:xfrm flipH="1">
              <a:off x="5796720" y="2386080"/>
              <a:ext cx="142920" cy="142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 flipH="1">
              <a:off x="5796720" y="3505320"/>
              <a:ext cx="142920" cy="142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 flipH="1">
              <a:off x="5652720" y="220680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 flipH="1">
              <a:off x="5652720" y="386388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 flipV="1">
              <a:off x="5652720" y="2206440"/>
              <a:ext cx="0" cy="165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4" name=""/>
          <p:cNvSpPr/>
          <p:nvPr/>
        </p:nvSpPr>
        <p:spPr>
          <a:xfrm>
            <a:off x="4526280" y="2254320"/>
            <a:ext cx="103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4297320" y="3384720"/>
            <a:ext cx="129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0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5605920" y="2254320"/>
            <a:ext cx="103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5605560" y="3384720"/>
            <a:ext cx="129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0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8" name=""/>
          <p:cNvGrpSpPr/>
          <p:nvPr/>
        </p:nvGrpSpPr>
        <p:grpSpPr>
          <a:xfrm>
            <a:off x="1006560" y="5440320"/>
            <a:ext cx="7390800" cy="1209240"/>
            <a:chOff x="1006560" y="5440320"/>
            <a:chExt cx="7390800" cy="1209240"/>
          </a:xfrm>
        </p:grpSpPr>
        <p:grpSp>
          <p:nvGrpSpPr>
            <p:cNvPr id="1199" name=""/>
            <p:cNvGrpSpPr/>
            <p:nvPr/>
          </p:nvGrpSpPr>
          <p:grpSpPr>
            <a:xfrm>
              <a:off x="1006560" y="5440320"/>
              <a:ext cx="1558440" cy="1198080"/>
              <a:chOff x="1006560" y="5440320"/>
              <a:chExt cx="1558440" cy="1198080"/>
            </a:xfrm>
          </p:grpSpPr>
          <p:sp>
            <p:nvSpPr>
              <p:cNvPr id="1200" name=""/>
              <p:cNvSpPr/>
              <p:nvPr/>
            </p:nvSpPr>
            <p:spPr>
              <a:xfrm flipV="1">
                <a:off x="1056600" y="5499720"/>
                <a:ext cx="721440" cy="54144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>
                <a:off x="1695240" y="5440320"/>
                <a:ext cx="181080" cy="1810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 flipH="1" flipV="1">
                <a:off x="1778040" y="5499720"/>
                <a:ext cx="720360" cy="54144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1056600" y="6040080"/>
                <a:ext cx="721440" cy="54144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 flipH="1">
                <a:off x="1778040" y="6040080"/>
                <a:ext cx="720360" cy="54144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>
                <a:off x="1695240" y="6457320"/>
                <a:ext cx="181080" cy="1810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>
                <a:off x="1006560" y="5948640"/>
                <a:ext cx="181080" cy="1814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2383920" y="5948640"/>
                <a:ext cx="181080" cy="1814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08" name=""/>
            <p:cNvGrpSpPr/>
            <p:nvPr/>
          </p:nvGrpSpPr>
          <p:grpSpPr>
            <a:xfrm>
              <a:off x="3887640" y="5451480"/>
              <a:ext cx="1559160" cy="690480"/>
              <a:chOff x="3887640" y="5451480"/>
              <a:chExt cx="1559160" cy="690480"/>
            </a:xfrm>
          </p:grpSpPr>
          <p:sp>
            <p:nvSpPr>
              <p:cNvPr id="1209" name=""/>
              <p:cNvSpPr/>
              <p:nvPr/>
            </p:nvSpPr>
            <p:spPr>
              <a:xfrm flipV="1">
                <a:off x="3937680" y="5511240"/>
                <a:ext cx="722160" cy="54144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>
                <a:off x="4576320" y="5451480"/>
                <a:ext cx="181440" cy="1818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 flipH="1" flipV="1">
                <a:off x="4659480" y="5511240"/>
                <a:ext cx="720360" cy="54144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3887640" y="5960520"/>
                <a:ext cx="181440" cy="1814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>
                <a:off x="5265360" y="5960520"/>
                <a:ext cx="181440" cy="1814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14" name=""/>
            <p:cNvGrpSpPr/>
            <p:nvPr/>
          </p:nvGrpSpPr>
          <p:grpSpPr>
            <a:xfrm>
              <a:off x="6838920" y="5959440"/>
              <a:ext cx="1558440" cy="690120"/>
              <a:chOff x="6838920" y="5959440"/>
              <a:chExt cx="1558440" cy="690120"/>
            </a:xfrm>
          </p:grpSpPr>
          <p:sp>
            <p:nvSpPr>
              <p:cNvPr id="1215" name=""/>
              <p:cNvSpPr/>
              <p:nvPr/>
            </p:nvSpPr>
            <p:spPr>
              <a:xfrm>
                <a:off x="6888960" y="6050520"/>
                <a:ext cx="721800" cy="54216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 flipH="1">
                <a:off x="7610760" y="6050520"/>
                <a:ext cx="720360" cy="54216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>
                <a:off x="7527600" y="6468120"/>
                <a:ext cx="181080" cy="1814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>
                <a:off x="6838920" y="5959440"/>
                <a:ext cx="181080" cy="1814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>
                <a:off x="8216280" y="5959440"/>
                <a:ext cx="181080" cy="1814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1220" name=""/>
                <p:cNvSpPr txBox="1"/>
                <p:nvPr/>
              </p:nvSpPr>
              <p:spPr>
                <a:xfrm>
                  <a:off x="3022560" y="5857920"/>
                  <a:ext cx="344520" cy="311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221" name=""/>
                <p:cNvSpPr txBox="1"/>
                <p:nvPr/>
              </p:nvSpPr>
              <p:spPr>
                <a:xfrm>
                  <a:off x="6029280" y="5830920"/>
                  <a:ext cx="379440" cy="38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+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222" name=""/>
          <p:cNvSpPr/>
          <p:nvPr/>
        </p:nvSpPr>
        <p:spPr>
          <a:xfrm>
            <a:off x="912960" y="5848200"/>
            <a:ext cx="360360" cy="36036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3792600" y="5869080"/>
            <a:ext cx="360360" cy="36036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6745320" y="5859360"/>
            <a:ext cx="360360" cy="36036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 flipV="1">
            <a:off x="4048200" y="3860280"/>
            <a:ext cx="1263600" cy="2046600"/>
          </a:xfrm>
          <a:prstGeom prst="line">
            <a:avLst/>
          </a:prstGeom>
          <a:ln w="38160">
            <a:solidFill>
              <a:srgbClr val="ff33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 flipH="1" flipV="1">
            <a:off x="5832000" y="3868200"/>
            <a:ext cx="1001880" cy="2001960"/>
          </a:xfrm>
          <a:prstGeom prst="line">
            <a:avLst/>
          </a:prstGeom>
          <a:ln w="38160">
            <a:solidFill>
              <a:srgbClr val="ff33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395280" y="1146240"/>
            <a:ext cx="835344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/>
          </p:nvPr>
        </p:nvSpPr>
        <p:spPr>
          <a:xfrm>
            <a:off x="257040" y="1366920"/>
            <a:ext cx="8375760" cy="311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end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quivalent to reparameterising node and edge para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wo passes (forward and backwar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 type="title"/>
          </p:nvPr>
        </p:nvSpPr>
        <p:spPr>
          <a:xfrm>
            <a:off x="257040" y="2520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lief propagation (BP) on tre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0" name=""/>
          <p:cNvGrpSpPr/>
          <p:nvPr/>
        </p:nvGrpSpPr>
        <p:grpSpPr>
          <a:xfrm>
            <a:off x="1006560" y="5440320"/>
            <a:ext cx="7390800" cy="1209240"/>
            <a:chOff x="1006560" y="5440320"/>
            <a:chExt cx="7390800" cy="1209240"/>
          </a:xfrm>
        </p:grpSpPr>
        <p:grpSp>
          <p:nvGrpSpPr>
            <p:cNvPr id="1231" name=""/>
            <p:cNvGrpSpPr/>
            <p:nvPr/>
          </p:nvGrpSpPr>
          <p:grpSpPr>
            <a:xfrm>
              <a:off x="1006560" y="5440320"/>
              <a:ext cx="1558440" cy="1198080"/>
              <a:chOff x="1006560" y="5440320"/>
              <a:chExt cx="1558440" cy="1198080"/>
            </a:xfrm>
          </p:grpSpPr>
          <p:sp>
            <p:nvSpPr>
              <p:cNvPr id="1232" name=""/>
              <p:cNvSpPr/>
              <p:nvPr/>
            </p:nvSpPr>
            <p:spPr>
              <a:xfrm flipV="1">
                <a:off x="1056600" y="5499720"/>
                <a:ext cx="721440" cy="54144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>
                <a:off x="1695240" y="5440320"/>
                <a:ext cx="181080" cy="1810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4" name=""/>
              <p:cNvSpPr/>
              <p:nvPr/>
            </p:nvSpPr>
            <p:spPr>
              <a:xfrm flipH="1" flipV="1">
                <a:off x="1778040" y="5499720"/>
                <a:ext cx="720360" cy="54144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5" name=""/>
              <p:cNvSpPr/>
              <p:nvPr/>
            </p:nvSpPr>
            <p:spPr>
              <a:xfrm>
                <a:off x="1056600" y="6040080"/>
                <a:ext cx="721440" cy="54144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6" name=""/>
              <p:cNvSpPr/>
              <p:nvPr/>
            </p:nvSpPr>
            <p:spPr>
              <a:xfrm flipH="1">
                <a:off x="1778040" y="6040080"/>
                <a:ext cx="720360" cy="54144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7" name=""/>
              <p:cNvSpPr/>
              <p:nvPr/>
            </p:nvSpPr>
            <p:spPr>
              <a:xfrm>
                <a:off x="1695240" y="6457320"/>
                <a:ext cx="181080" cy="1810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8" name=""/>
              <p:cNvSpPr/>
              <p:nvPr/>
            </p:nvSpPr>
            <p:spPr>
              <a:xfrm>
                <a:off x="1006560" y="5948640"/>
                <a:ext cx="181080" cy="1814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9" name=""/>
              <p:cNvSpPr/>
              <p:nvPr/>
            </p:nvSpPr>
            <p:spPr>
              <a:xfrm>
                <a:off x="2383920" y="5948640"/>
                <a:ext cx="181080" cy="1814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0" name=""/>
            <p:cNvGrpSpPr/>
            <p:nvPr/>
          </p:nvGrpSpPr>
          <p:grpSpPr>
            <a:xfrm>
              <a:off x="3887640" y="5451480"/>
              <a:ext cx="1559160" cy="690480"/>
              <a:chOff x="3887640" y="5451480"/>
              <a:chExt cx="1559160" cy="690480"/>
            </a:xfrm>
          </p:grpSpPr>
          <p:sp>
            <p:nvSpPr>
              <p:cNvPr id="1241" name=""/>
              <p:cNvSpPr/>
              <p:nvPr/>
            </p:nvSpPr>
            <p:spPr>
              <a:xfrm flipV="1">
                <a:off x="3937680" y="5511240"/>
                <a:ext cx="722160" cy="54144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>
                <a:off x="4576320" y="5451480"/>
                <a:ext cx="181440" cy="1818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 flipH="1" flipV="1">
                <a:off x="4659480" y="5511240"/>
                <a:ext cx="720360" cy="54144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4" name=""/>
              <p:cNvSpPr/>
              <p:nvPr/>
            </p:nvSpPr>
            <p:spPr>
              <a:xfrm>
                <a:off x="3887640" y="5960520"/>
                <a:ext cx="181440" cy="1814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>
                <a:off x="5265360" y="5960520"/>
                <a:ext cx="181440" cy="1814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6" name=""/>
            <p:cNvGrpSpPr/>
            <p:nvPr/>
          </p:nvGrpSpPr>
          <p:grpSpPr>
            <a:xfrm>
              <a:off x="6838920" y="5959440"/>
              <a:ext cx="1558440" cy="690120"/>
              <a:chOff x="6838920" y="5959440"/>
              <a:chExt cx="1558440" cy="690120"/>
            </a:xfrm>
          </p:grpSpPr>
          <p:sp>
            <p:nvSpPr>
              <p:cNvPr id="1247" name=""/>
              <p:cNvSpPr/>
              <p:nvPr/>
            </p:nvSpPr>
            <p:spPr>
              <a:xfrm>
                <a:off x="6888960" y="6050520"/>
                <a:ext cx="721800" cy="54216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8" name=""/>
              <p:cNvSpPr/>
              <p:nvPr/>
            </p:nvSpPr>
            <p:spPr>
              <a:xfrm flipH="1">
                <a:off x="7610760" y="6050520"/>
                <a:ext cx="720360" cy="54216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9" name=""/>
              <p:cNvSpPr/>
              <p:nvPr/>
            </p:nvSpPr>
            <p:spPr>
              <a:xfrm>
                <a:off x="7527600" y="6468120"/>
                <a:ext cx="181080" cy="1814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0" name=""/>
              <p:cNvSpPr/>
              <p:nvPr/>
            </p:nvSpPr>
            <p:spPr>
              <a:xfrm>
                <a:off x="6838920" y="5959440"/>
                <a:ext cx="181080" cy="1814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1" name=""/>
              <p:cNvSpPr/>
              <p:nvPr/>
            </p:nvSpPr>
            <p:spPr>
              <a:xfrm>
                <a:off x="8216280" y="5959440"/>
                <a:ext cx="181080" cy="1814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1252" name=""/>
                <p:cNvSpPr txBox="1"/>
                <p:nvPr/>
              </p:nvSpPr>
              <p:spPr>
                <a:xfrm>
                  <a:off x="3022560" y="5857920"/>
                  <a:ext cx="344520" cy="311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253" name=""/>
                <p:cNvSpPr txBox="1"/>
                <p:nvPr/>
              </p:nvSpPr>
              <p:spPr>
                <a:xfrm>
                  <a:off x="6029280" y="5830920"/>
                  <a:ext cx="379440" cy="38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+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254" name=""/>
          <p:cNvSpPr/>
          <p:nvPr/>
        </p:nvSpPr>
        <p:spPr>
          <a:xfrm flipV="1">
            <a:off x="3960720" y="5489280"/>
            <a:ext cx="506520" cy="361800"/>
          </a:xfrm>
          <a:prstGeom prst="line">
            <a:avLst/>
          </a:prstGeom>
          <a:ln w="2844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4871880" y="5506920"/>
            <a:ext cx="478080" cy="349200"/>
          </a:xfrm>
          <a:prstGeom prst="line">
            <a:avLst/>
          </a:prstGeom>
          <a:ln w="2844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4768920" y="5762520"/>
            <a:ext cx="379440" cy="292320"/>
          </a:xfrm>
          <a:prstGeom prst="line">
            <a:avLst/>
          </a:prstGeom>
          <a:ln w="28440">
            <a:solidFill>
              <a:srgbClr val="ff3300"/>
            </a:solidFill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 flipV="1">
            <a:off x="4186080" y="5757480"/>
            <a:ext cx="374760" cy="276120"/>
          </a:xfrm>
          <a:prstGeom prst="line">
            <a:avLst/>
          </a:prstGeom>
          <a:ln w="28440">
            <a:solidFill>
              <a:srgbClr val="ff3300"/>
            </a:solidFill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395280" y="1146240"/>
            <a:ext cx="835344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257040" y="2520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lief propagation (BP) on tre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0" name=""/>
              <p:cNvSpPr txBox="1"/>
              <p:nvPr/>
            </p:nvSpPr>
            <p:spPr>
              <a:xfrm>
                <a:off x="4413240" y="3502080"/>
                <a:ext cx="4419720" cy="78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e>
                      <m:li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lim>
                    </m:limLow>
                    <m:r>
                      <m:t xml:space="preserve">E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|</m:t>
                    </m:r>
                    <m:r>
                      <m:t xml:space="preserve">θ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const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261" name=""/>
          <p:cNvGrpSpPr/>
          <p:nvPr/>
        </p:nvGrpSpPr>
        <p:grpSpPr>
          <a:xfrm>
            <a:off x="640080" y="3279600"/>
            <a:ext cx="3609720" cy="2615400"/>
            <a:chOff x="640080" y="3279600"/>
            <a:chExt cx="3609720" cy="2615400"/>
          </a:xfrm>
        </p:grpSpPr>
        <p:sp>
          <p:nvSpPr>
            <p:cNvPr id="1262" name=""/>
            <p:cNvSpPr/>
            <p:nvPr/>
          </p:nvSpPr>
          <p:spPr>
            <a:xfrm flipH="1">
              <a:off x="1098720" y="5452920"/>
              <a:ext cx="2754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 flipH="1">
              <a:off x="1098720" y="3795480"/>
              <a:ext cx="2754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 flipH="1" flipV="1">
              <a:off x="1098720" y="3795480"/>
              <a:ext cx="2754360" cy="1657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 flipH="1">
              <a:off x="1098720" y="3795480"/>
              <a:ext cx="2754360" cy="1657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66" name=""/>
            <p:cNvGrpSpPr/>
            <p:nvPr/>
          </p:nvGrpSpPr>
          <p:grpSpPr>
            <a:xfrm>
              <a:off x="640080" y="3795120"/>
              <a:ext cx="459000" cy="276120"/>
              <a:chOff x="640080" y="3795120"/>
              <a:chExt cx="459000" cy="276120"/>
            </a:xfrm>
          </p:grpSpPr>
          <p:sp>
            <p:nvSpPr>
              <p:cNvPr id="1267" name=""/>
              <p:cNvSpPr/>
              <p:nvPr/>
            </p:nvSpPr>
            <p:spPr>
              <a:xfrm>
                <a:off x="670320" y="3795120"/>
                <a:ext cx="428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8" name=""/>
              <p:cNvSpPr/>
              <p:nvPr/>
            </p:nvSpPr>
            <p:spPr>
              <a:xfrm flipV="1">
                <a:off x="640080" y="3795120"/>
                <a:ext cx="459000" cy="276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69" name=""/>
            <p:cNvGrpSpPr/>
            <p:nvPr/>
          </p:nvGrpSpPr>
          <p:grpSpPr>
            <a:xfrm>
              <a:off x="640080" y="5176440"/>
              <a:ext cx="459000" cy="276480"/>
              <a:chOff x="640080" y="5176440"/>
              <a:chExt cx="459000" cy="276480"/>
            </a:xfrm>
          </p:grpSpPr>
          <p:sp>
            <p:nvSpPr>
              <p:cNvPr id="1270" name=""/>
              <p:cNvSpPr/>
              <p:nvPr/>
            </p:nvSpPr>
            <p:spPr>
              <a:xfrm>
                <a:off x="670320" y="5452920"/>
                <a:ext cx="428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1" name=""/>
              <p:cNvSpPr/>
              <p:nvPr/>
            </p:nvSpPr>
            <p:spPr>
              <a:xfrm>
                <a:off x="640080" y="5176440"/>
                <a:ext cx="459000" cy="276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72" name=""/>
            <p:cNvSpPr/>
            <p:nvPr/>
          </p:nvSpPr>
          <p:spPr>
            <a:xfrm flipH="1">
              <a:off x="3792600" y="5391000"/>
              <a:ext cx="122400" cy="1220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 flipH="1">
              <a:off x="3792600" y="3735000"/>
              <a:ext cx="122400" cy="122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 flipH="1">
              <a:off x="1038240" y="3735000"/>
              <a:ext cx="122400" cy="122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 flipH="1">
              <a:off x="1038240" y="5391000"/>
              <a:ext cx="122400" cy="1220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 flipH="1">
              <a:off x="3476520" y="3279600"/>
              <a:ext cx="772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 flipH="1">
              <a:off x="3476520" y="5435280"/>
              <a:ext cx="772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278" name=""/>
              <p:cNvSpPr txBox="1"/>
              <p:nvPr/>
            </p:nvSpPr>
            <p:spPr>
              <a:xfrm>
                <a:off x="4446720" y="5141880"/>
                <a:ext cx="4354560" cy="78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e>
                      <m:li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</m:lim>
                    </m:limLow>
                    <m:r>
                      <m:t xml:space="preserve">E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|</m:t>
                    </m:r>
                    <m:r>
                      <m:t xml:space="preserve">θ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cons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9" name=""/>
          <p:cNvSpPr/>
          <p:nvPr/>
        </p:nvSpPr>
        <p:spPr>
          <a:xfrm>
            <a:off x="453960" y="1392120"/>
            <a:ext cx="8325000" cy="9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Key property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(Wainwright et al.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pon termination </a:t>
            </a:r>
            <a:r>
              <a:rPr b="0" i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gives min-marginals for node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395280" y="1146240"/>
            <a:ext cx="835344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PlaceHolder 1"/>
          <p:cNvSpPr>
            <a:spLocks noGrp="1"/>
          </p:cNvSpPr>
          <p:nvPr>
            <p:ph type="title"/>
          </p:nvPr>
        </p:nvSpPr>
        <p:spPr>
          <a:xfrm>
            <a:off x="457200" y="-2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RW algorithm of Wainwright et al.   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ith tree-based updates (TRW-T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PlaceHolder 2"/>
          <p:cNvSpPr>
            <a:spLocks noGrp="1"/>
          </p:cNvSpPr>
          <p:nvPr>
            <p:ph/>
          </p:nvPr>
        </p:nvSpPr>
        <p:spPr>
          <a:xfrm>
            <a:off x="654120" y="1984320"/>
            <a:ext cx="3517920" cy="7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un BP on </a:t>
            </a:r>
            <a:r>
              <a:rPr b="0" i="1" lang="en-US" sz="3200" spc="-1" strike="noStrike">
                <a:solidFill>
                  <a:srgbClr val="ff3300"/>
                </a:solidFill>
                <a:latin typeface="Times New Roman"/>
              </a:rPr>
              <a:t>al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re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500040" y="1870200"/>
            <a:ext cx="3641760" cy="80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4446720" y="1757520"/>
            <a:ext cx="504720" cy="485640"/>
          </a:xfrm>
          <a:prstGeom prst="rightArrow">
            <a:avLst>
              <a:gd name="adj1" fmla="val 50000"/>
              <a:gd name="adj2" fmla="val 25982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5305320" y="1978200"/>
            <a:ext cx="351792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verage” </a:t>
            </a:r>
            <a:r>
              <a:rPr b="0" i="1" lang="en-US" sz="3200" spc="-1" strike="noStrike">
                <a:solidFill>
                  <a:srgbClr val="ff3300"/>
                </a:solidFill>
                <a:latin typeface="Times New Roman"/>
              </a:rPr>
              <a:t>al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no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5180040" y="1863720"/>
            <a:ext cx="3728880" cy="80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7" name=""/>
          <p:cNvGrpSpPr/>
          <p:nvPr/>
        </p:nvGrpSpPr>
        <p:grpSpPr>
          <a:xfrm>
            <a:off x="1006560" y="5440320"/>
            <a:ext cx="7390800" cy="1209240"/>
            <a:chOff x="1006560" y="5440320"/>
            <a:chExt cx="7390800" cy="1209240"/>
          </a:xfrm>
        </p:grpSpPr>
        <p:grpSp>
          <p:nvGrpSpPr>
            <p:cNvPr id="1288" name=""/>
            <p:cNvGrpSpPr/>
            <p:nvPr/>
          </p:nvGrpSpPr>
          <p:grpSpPr>
            <a:xfrm>
              <a:off x="1006560" y="5440320"/>
              <a:ext cx="1558440" cy="1198080"/>
              <a:chOff x="1006560" y="5440320"/>
              <a:chExt cx="1558440" cy="1198080"/>
            </a:xfrm>
          </p:grpSpPr>
          <p:sp>
            <p:nvSpPr>
              <p:cNvPr id="1289" name=""/>
              <p:cNvSpPr/>
              <p:nvPr/>
            </p:nvSpPr>
            <p:spPr>
              <a:xfrm flipV="1">
                <a:off x="1056600" y="5499720"/>
                <a:ext cx="721440" cy="54144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0" name=""/>
              <p:cNvSpPr/>
              <p:nvPr/>
            </p:nvSpPr>
            <p:spPr>
              <a:xfrm>
                <a:off x="1695240" y="5440320"/>
                <a:ext cx="181080" cy="1810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1" name=""/>
              <p:cNvSpPr/>
              <p:nvPr/>
            </p:nvSpPr>
            <p:spPr>
              <a:xfrm flipH="1" flipV="1">
                <a:off x="1778040" y="5499720"/>
                <a:ext cx="720360" cy="54144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2" name=""/>
              <p:cNvSpPr/>
              <p:nvPr/>
            </p:nvSpPr>
            <p:spPr>
              <a:xfrm>
                <a:off x="1056600" y="6040080"/>
                <a:ext cx="721440" cy="54144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3" name=""/>
              <p:cNvSpPr/>
              <p:nvPr/>
            </p:nvSpPr>
            <p:spPr>
              <a:xfrm flipH="1">
                <a:off x="1778040" y="6040080"/>
                <a:ext cx="720360" cy="54144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4" name=""/>
              <p:cNvSpPr/>
              <p:nvPr/>
            </p:nvSpPr>
            <p:spPr>
              <a:xfrm>
                <a:off x="1695240" y="6457320"/>
                <a:ext cx="181080" cy="1810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5" name=""/>
              <p:cNvSpPr/>
              <p:nvPr/>
            </p:nvSpPr>
            <p:spPr>
              <a:xfrm>
                <a:off x="1006560" y="5948640"/>
                <a:ext cx="181080" cy="1814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6" name=""/>
              <p:cNvSpPr/>
              <p:nvPr/>
            </p:nvSpPr>
            <p:spPr>
              <a:xfrm>
                <a:off x="2383920" y="5948640"/>
                <a:ext cx="181080" cy="1814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97" name=""/>
            <p:cNvGrpSpPr/>
            <p:nvPr/>
          </p:nvGrpSpPr>
          <p:grpSpPr>
            <a:xfrm>
              <a:off x="3887640" y="5451480"/>
              <a:ext cx="1559160" cy="690480"/>
              <a:chOff x="3887640" y="5451480"/>
              <a:chExt cx="1559160" cy="690480"/>
            </a:xfrm>
          </p:grpSpPr>
          <p:sp>
            <p:nvSpPr>
              <p:cNvPr id="1298" name=""/>
              <p:cNvSpPr/>
              <p:nvPr/>
            </p:nvSpPr>
            <p:spPr>
              <a:xfrm flipV="1">
                <a:off x="3937680" y="5511240"/>
                <a:ext cx="722160" cy="54144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9" name=""/>
              <p:cNvSpPr/>
              <p:nvPr/>
            </p:nvSpPr>
            <p:spPr>
              <a:xfrm>
                <a:off x="4576320" y="5451480"/>
                <a:ext cx="181440" cy="1818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0" name=""/>
              <p:cNvSpPr/>
              <p:nvPr/>
            </p:nvSpPr>
            <p:spPr>
              <a:xfrm flipH="1" flipV="1">
                <a:off x="4659480" y="5511240"/>
                <a:ext cx="720360" cy="54144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1" name=""/>
              <p:cNvSpPr/>
              <p:nvPr/>
            </p:nvSpPr>
            <p:spPr>
              <a:xfrm>
                <a:off x="3887640" y="5960520"/>
                <a:ext cx="181440" cy="1814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2" name=""/>
              <p:cNvSpPr/>
              <p:nvPr/>
            </p:nvSpPr>
            <p:spPr>
              <a:xfrm>
                <a:off x="5265360" y="5960520"/>
                <a:ext cx="181440" cy="1814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03" name=""/>
            <p:cNvGrpSpPr/>
            <p:nvPr/>
          </p:nvGrpSpPr>
          <p:grpSpPr>
            <a:xfrm>
              <a:off x="6838920" y="5959440"/>
              <a:ext cx="1558440" cy="690120"/>
              <a:chOff x="6838920" y="5959440"/>
              <a:chExt cx="1558440" cy="690120"/>
            </a:xfrm>
          </p:grpSpPr>
          <p:sp>
            <p:nvSpPr>
              <p:cNvPr id="1304" name=""/>
              <p:cNvSpPr/>
              <p:nvPr/>
            </p:nvSpPr>
            <p:spPr>
              <a:xfrm>
                <a:off x="6888960" y="6050520"/>
                <a:ext cx="721800" cy="54216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5" name=""/>
              <p:cNvSpPr/>
              <p:nvPr/>
            </p:nvSpPr>
            <p:spPr>
              <a:xfrm flipH="1">
                <a:off x="7610760" y="6050520"/>
                <a:ext cx="720360" cy="54216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6" name=""/>
              <p:cNvSpPr/>
              <p:nvPr/>
            </p:nvSpPr>
            <p:spPr>
              <a:xfrm>
                <a:off x="7527600" y="6468120"/>
                <a:ext cx="181080" cy="1814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7" name=""/>
              <p:cNvSpPr/>
              <p:nvPr/>
            </p:nvSpPr>
            <p:spPr>
              <a:xfrm>
                <a:off x="6838920" y="5959440"/>
                <a:ext cx="181080" cy="1814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8" name=""/>
              <p:cNvSpPr/>
              <p:nvPr/>
            </p:nvSpPr>
            <p:spPr>
              <a:xfrm>
                <a:off x="8216280" y="5959440"/>
                <a:ext cx="181080" cy="1814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1309" name=""/>
                <p:cNvSpPr txBox="1"/>
                <p:nvPr/>
              </p:nvSpPr>
              <p:spPr>
                <a:xfrm>
                  <a:off x="3022560" y="5857920"/>
                  <a:ext cx="344520" cy="311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310" name=""/>
                <p:cNvSpPr txBox="1"/>
                <p:nvPr/>
              </p:nvSpPr>
              <p:spPr>
                <a:xfrm>
                  <a:off x="6029280" y="5830920"/>
                  <a:ext cx="379440" cy="38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+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311" name=""/>
          <p:cNvSpPr/>
          <p:nvPr/>
        </p:nvSpPr>
        <p:spPr>
          <a:xfrm flipH="1">
            <a:off x="4432320" y="2265480"/>
            <a:ext cx="504720" cy="485640"/>
          </a:xfrm>
          <a:prstGeom prst="rightArrow">
            <a:avLst>
              <a:gd name="adj1" fmla="val 50000"/>
              <a:gd name="adj2" fmla="val 25982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369720" y="3309840"/>
            <a:ext cx="8774280" cy="12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converges, gives (local) maximum of lower bou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Not guaranteed to converg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ower bound may go dow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-2343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-2343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395280" y="1184400"/>
            <a:ext cx="835344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title"/>
          </p:nvPr>
        </p:nvSpPr>
        <p:spPr>
          <a:xfrm>
            <a:off x="457200" y="-51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equential TRW algorithm (TRW-S)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[Kolmogorov’05]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PlaceHolder 2"/>
          <p:cNvSpPr>
            <a:spLocks noGrp="1"/>
          </p:cNvSpPr>
          <p:nvPr>
            <p:ph/>
          </p:nvPr>
        </p:nvSpPr>
        <p:spPr>
          <a:xfrm>
            <a:off x="736560" y="3528720"/>
            <a:ext cx="344160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un BP on all trees containing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671400" y="3414600"/>
            <a:ext cx="346104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4559400" y="3587760"/>
            <a:ext cx="504720" cy="485640"/>
          </a:xfrm>
          <a:prstGeom prst="rightArrow">
            <a:avLst>
              <a:gd name="adj1" fmla="val 50000"/>
              <a:gd name="adj2" fmla="val 25982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 flipH="1" rot="18426000">
            <a:off x="3063240" y="2682720"/>
            <a:ext cx="504720" cy="486360"/>
          </a:xfrm>
          <a:prstGeom prst="rightArrow">
            <a:avLst>
              <a:gd name="adj1" fmla="val 50000"/>
              <a:gd name="adj2" fmla="val 25944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5562720" y="3522600"/>
            <a:ext cx="35179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verage” nod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5437080" y="3408480"/>
            <a:ext cx="3322800" cy="80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3495600" y="1774800"/>
            <a:ext cx="35179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ick nod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3370320" y="1674720"/>
            <a:ext cx="2335320" cy="80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 rot="14334000">
            <a:off x="5565600" y="2652120"/>
            <a:ext cx="504720" cy="485640"/>
          </a:xfrm>
          <a:prstGeom prst="rightArrow">
            <a:avLst>
              <a:gd name="adj1" fmla="val 50000"/>
              <a:gd name="adj2" fmla="val 25982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4" name=""/>
          <p:cNvGrpSpPr/>
          <p:nvPr/>
        </p:nvGrpSpPr>
        <p:grpSpPr>
          <a:xfrm>
            <a:off x="1006560" y="5440320"/>
            <a:ext cx="7390800" cy="1209240"/>
            <a:chOff x="1006560" y="5440320"/>
            <a:chExt cx="7390800" cy="1209240"/>
          </a:xfrm>
        </p:grpSpPr>
        <p:grpSp>
          <p:nvGrpSpPr>
            <p:cNvPr id="1325" name=""/>
            <p:cNvGrpSpPr/>
            <p:nvPr/>
          </p:nvGrpSpPr>
          <p:grpSpPr>
            <a:xfrm>
              <a:off x="1006560" y="5440320"/>
              <a:ext cx="1558440" cy="1198080"/>
              <a:chOff x="1006560" y="5440320"/>
              <a:chExt cx="1558440" cy="1198080"/>
            </a:xfrm>
          </p:grpSpPr>
          <p:sp>
            <p:nvSpPr>
              <p:cNvPr id="1326" name=""/>
              <p:cNvSpPr/>
              <p:nvPr/>
            </p:nvSpPr>
            <p:spPr>
              <a:xfrm flipV="1">
                <a:off x="1056600" y="5499720"/>
                <a:ext cx="721440" cy="54144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7" name=""/>
              <p:cNvSpPr/>
              <p:nvPr/>
            </p:nvSpPr>
            <p:spPr>
              <a:xfrm>
                <a:off x="1695240" y="5440320"/>
                <a:ext cx="181080" cy="1810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8" name=""/>
              <p:cNvSpPr/>
              <p:nvPr/>
            </p:nvSpPr>
            <p:spPr>
              <a:xfrm flipH="1" flipV="1">
                <a:off x="1778040" y="5499720"/>
                <a:ext cx="720360" cy="54144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9" name=""/>
              <p:cNvSpPr/>
              <p:nvPr/>
            </p:nvSpPr>
            <p:spPr>
              <a:xfrm>
                <a:off x="1056600" y="6040080"/>
                <a:ext cx="721440" cy="54144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0" name=""/>
              <p:cNvSpPr/>
              <p:nvPr/>
            </p:nvSpPr>
            <p:spPr>
              <a:xfrm flipH="1">
                <a:off x="1778040" y="6040080"/>
                <a:ext cx="720360" cy="54144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1" name=""/>
              <p:cNvSpPr/>
              <p:nvPr/>
            </p:nvSpPr>
            <p:spPr>
              <a:xfrm>
                <a:off x="1695240" y="6457320"/>
                <a:ext cx="181080" cy="1810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2" name=""/>
              <p:cNvSpPr/>
              <p:nvPr/>
            </p:nvSpPr>
            <p:spPr>
              <a:xfrm>
                <a:off x="1006560" y="5948640"/>
                <a:ext cx="181080" cy="1814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3" name=""/>
              <p:cNvSpPr/>
              <p:nvPr/>
            </p:nvSpPr>
            <p:spPr>
              <a:xfrm>
                <a:off x="2383920" y="5948640"/>
                <a:ext cx="181080" cy="1814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34" name=""/>
            <p:cNvGrpSpPr/>
            <p:nvPr/>
          </p:nvGrpSpPr>
          <p:grpSpPr>
            <a:xfrm>
              <a:off x="3887640" y="5451480"/>
              <a:ext cx="1559160" cy="690480"/>
              <a:chOff x="3887640" y="5451480"/>
              <a:chExt cx="1559160" cy="690480"/>
            </a:xfrm>
          </p:grpSpPr>
          <p:sp>
            <p:nvSpPr>
              <p:cNvPr id="1335" name=""/>
              <p:cNvSpPr/>
              <p:nvPr/>
            </p:nvSpPr>
            <p:spPr>
              <a:xfrm flipV="1">
                <a:off x="3937680" y="5511240"/>
                <a:ext cx="722160" cy="54144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6" name=""/>
              <p:cNvSpPr/>
              <p:nvPr/>
            </p:nvSpPr>
            <p:spPr>
              <a:xfrm>
                <a:off x="4576320" y="5451480"/>
                <a:ext cx="181440" cy="1818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7" name=""/>
              <p:cNvSpPr/>
              <p:nvPr/>
            </p:nvSpPr>
            <p:spPr>
              <a:xfrm flipH="1" flipV="1">
                <a:off x="4659480" y="5511240"/>
                <a:ext cx="720360" cy="54144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8" name=""/>
              <p:cNvSpPr/>
              <p:nvPr/>
            </p:nvSpPr>
            <p:spPr>
              <a:xfrm>
                <a:off x="3887640" y="5960520"/>
                <a:ext cx="181440" cy="1814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9" name=""/>
              <p:cNvSpPr/>
              <p:nvPr/>
            </p:nvSpPr>
            <p:spPr>
              <a:xfrm>
                <a:off x="5265360" y="5960520"/>
                <a:ext cx="181440" cy="1814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40" name=""/>
            <p:cNvGrpSpPr/>
            <p:nvPr/>
          </p:nvGrpSpPr>
          <p:grpSpPr>
            <a:xfrm>
              <a:off x="6838920" y="5959440"/>
              <a:ext cx="1558440" cy="690120"/>
              <a:chOff x="6838920" y="5959440"/>
              <a:chExt cx="1558440" cy="690120"/>
            </a:xfrm>
          </p:grpSpPr>
          <p:sp>
            <p:nvSpPr>
              <p:cNvPr id="1341" name=""/>
              <p:cNvSpPr/>
              <p:nvPr/>
            </p:nvSpPr>
            <p:spPr>
              <a:xfrm>
                <a:off x="6888960" y="6050520"/>
                <a:ext cx="721800" cy="54216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2" name=""/>
              <p:cNvSpPr/>
              <p:nvPr/>
            </p:nvSpPr>
            <p:spPr>
              <a:xfrm flipH="1">
                <a:off x="7610760" y="6050520"/>
                <a:ext cx="720360" cy="54216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3" name=""/>
              <p:cNvSpPr/>
              <p:nvPr/>
            </p:nvSpPr>
            <p:spPr>
              <a:xfrm>
                <a:off x="7527600" y="6468120"/>
                <a:ext cx="181080" cy="1814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4" name=""/>
              <p:cNvSpPr/>
              <p:nvPr/>
            </p:nvSpPr>
            <p:spPr>
              <a:xfrm>
                <a:off x="6838920" y="5959440"/>
                <a:ext cx="181080" cy="1814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5" name=""/>
              <p:cNvSpPr/>
              <p:nvPr/>
            </p:nvSpPr>
            <p:spPr>
              <a:xfrm>
                <a:off x="8216280" y="5959440"/>
                <a:ext cx="181080" cy="1814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1346" name=""/>
                <p:cNvSpPr txBox="1"/>
                <p:nvPr/>
              </p:nvSpPr>
              <p:spPr>
                <a:xfrm>
                  <a:off x="3022560" y="5857920"/>
                  <a:ext cx="344520" cy="311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347" name=""/>
                <p:cNvSpPr txBox="1"/>
                <p:nvPr/>
              </p:nvSpPr>
              <p:spPr>
                <a:xfrm>
                  <a:off x="6029280" y="5830920"/>
                  <a:ext cx="379440" cy="38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+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348" name=""/>
          <p:cNvSpPr/>
          <p:nvPr/>
        </p:nvSpPr>
        <p:spPr>
          <a:xfrm>
            <a:off x="395280" y="1184400"/>
            <a:ext cx="835344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in property of TRW-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PlaceHolder 2"/>
          <p:cNvSpPr>
            <a:spLocks noGrp="1"/>
          </p:cNvSpPr>
          <p:nvPr>
            <p:ph/>
          </p:nvPr>
        </p:nvSpPr>
        <p:spPr>
          <a:xfrm>
            <a:off x="457200" y="1289160"/>
            <a:ext cx="8229600" cy="17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orem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ower bound never decreas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of sketch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1" name=""/>
              <p:cNvSpPr txBox="1"/>
              <p:nvPr/>
            </p:nvSpPr>
            <p:spPr>
              <a:xfrm>
                <a:off x="1633680" y="3887640"/>
                <a:ext cx="2714400" cy="55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Φ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θ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const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352" name=""/>
          <p:cNvGrpSpPr/>
          <p:nvPr/>
        </p:nvGrpSpPr>
        <p:grpSpPr>
          <a:xfrm>
            <a:off x="4857840" y="2385720"/>
            <a:ext cx="360360" cy="1657440"/>
            <a:chOff x="4857840" y="2385720"/>
            <a:chExt cx="360360" cy="1657440"/>
          </a:xfrm>
        </p:grpSpPr>
        <p:sp>
          <p:nvSpPr>
            <p:cNvPr id="1353" name=""/>
            <p:cNvSpPr/>
            <p:nvPr/>
          </p:nvSpPr>
          <p:spPr>
            <a:xfrm>
              <a:off x="4930920" y="2565360"/>
              <a:ext cx="142920" cy="142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4930920" y="3684600"/>
              <a:ext cx="142920" cy="142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4857840" y="238608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4857840" y="404316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 flipV="1">
              <a:off x="5218200" y="2385720"/>
              <a:ext cx="0" cy="165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8" name=""/>
          <p:cNvGrpSpPr/>
          <p:nvPr/>
        </p:nvGrpSpPr>
        <p:grpSpPr>
          <a:xfrm>
            <a:off x="5362200" y="2385720"/>
            <a:ext cx="360360" cy="1657440"/>
            <a:chOff x="5362200" y="2385720"/>
            <a:chExt cx="360360" cy="1657440"/>
          </a:xfrm>
        </p:grpSpPr>
        <p:sp>
          <p:nvSpPr>
            <p:cNvPr id="1359" name=""/>
            <p:cNvSpPr/>
            <p:nvPr/>
          </p:nvSpPr>
          <p:spPr>
            <a:xfrm flipH="1">
              <a:off x="5506200" y="2565360"/>
              <a:ext cx="142920" cy="142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 flipH="1">
              <a:off x="5506200" y="3684600"/>
              <a:ext cx="142920" cy="142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 flipH="1">
              <a:off x="5362200" y="238608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 flipH="1">
              <a:off x="5362200" y="404316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 flipV="1">
              <a:off x="5362200" y="2385720"/>
              <a:ext cx="0" cy="165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4" name=""/>
          <p:cNvSpPr/>
          <p:nvPr/>
        </p:nvSpPr>
        <p:spPr>
          <a:xfrm>
            <a:off x="4235760" y="2433600"/>
            <a:ext cx="103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4235760" y="3564000"/>
            <a:ext cx="103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5315400" y="2433600"/>
            <a:ext cx="103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5315400" y="3564000"/>
            <a:ext cx="103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8" name=""/>
          <p:cNvGrpSpPr/>
          <p:nvPr/>
        </p:nvGrpSpPr>
        <p:grpSpPr>
          <a:xfrm>
            <a:off x="716040" y="5619600"/>
            <a:ext cx="7390800" cy="1209240"/>
            <a:chOff x="716040" y="5619600"/>
            <a:chExt cx="7390800" cy="1209240"/>
          </a:xfrm>
        </p:grpSpPr>
        <p:grpSp>
          <p:nvGrpSpPr>
            <p:cNvPr id="1369" name=""/>
            <p:cNvGrpSpPr/>
            <p:nvPr/>
          </p:nvGrpSpPr>
          <p:grpSpPr>
            <a:xfrm>
              <a:off x="716040" y="5619600"/>
              <a:ext cx="1558440" cy="1198080"/>
              <a:chOff x="716040" y="5619600"/>
              <a:chExt cx="1558440" cy="1198080"/>
            </a:xfrm>
          </p:grpSpPr>
          <p:sp>
            <p:nvSpPr>
              <p:cNvPr id="1370" name=""/>
              <p:cNvSpPr/>
              <p:nvPr/>
            </p:nvSpPr>
            <p:spPr>
              <a:xfrm flipV="1">
                <a:off x="766080" y="5679000"/>
                <a:ext cx="721440" cy="54144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1" name=""/>
              <p:cNvSpPr/>
              <p:nvPr/>
            </p:nvSpPr>
            <p:spPr>
              <a:xfrm>
                <a:off x="1404720" y="5619600"/>
                <a:ext cx="181080" cy="1810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2" name=""/>
              <p:cNvSpPr/>
              <p:nvPr/>
            </p:nvSpPr>
            <p:spPr>
              <a:xfrm flipH="1" flipV="1">
                <a:off x="1487520" y="5679000"/>
                <a:ext cx="720360" cy="54144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3" name=""/>
              <p:cNvSpPr/>
              <p:nvPr/>
            </p:nvSpPr>
            <p:spPr>
              <a:xfrm>
                <a:off x="766080" y="6219360"/>
                <a:ext cx="721440" cy="54144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4" name=""/>
              <p:cNvSpPr/>
              <p:nvPr/>
            </p:nvSpPr>
            <p:spPr>
              <a:xfrm flipH="1">
                <a:off x="1487520" y="6219360"/>
                <a:ext cx="720360" cy="54144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5" name=""/>
              <p:cNvSpPr/>
              <p:nvPr/>
            </p:nvSpPr>
            <p:spPr>
              <a:xfrm>
                <a:off x="1404720" y="6636600"/>
                <a:ext cx="181080" cy="1810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6" name=""/>
              <p:cNvSpPr/>
              <p:nvPr/>
            </p:nvSpPr>
            <p:spPr>
              <a:xfrm>
                <a:off x="716040" y="6127920"/>
                <a:ext cx="181080" cy="1814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7" name=""/>
              <p:cNvSpPr/>
              <p:nvPr/>
            </p:nvSpPr>
            <p:spPr>
              <a:xfrm>
                <a:off x="2093400" y="6127920"/>
                <a:ext cx="181080" cy="1814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78" name=""/>
            <p:cNvGrpSpPr/>
            <p:nvPr/>
          </p:nvGrpSpPr>
          <p:grpSpPr>
            <a:xfrm>
              <a:off x="3597120" y="5630760"/>
              <a:ext cx="1559160" cy="690480"/>
              <a:chOff x="3597120" y="5630760"/>
              <a:chExt cx="1559160" cy="690480"/>
            </a:xfrm>
          </p:grpSpPr>
          <p:sp>
            <p:nvSpPr>
              <p:cNvPr id="1379" name=""/>
              <p:cNvSpPr/>
              <p:nvPr/>
            </p:nvSpPr>
            <p:spPr>
              <a:xfrm flipV="1">
                <a:off x="3647160" y="5690520"/>
                <a:ext cx="722160" cy="54144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0" name=""/>
              <p:cNvSpPr/>
              <p:nvPr/>
            </p:nvSpPr>
            <p:spPr>
              <a:xfrm>
                <a:off x="4285800" y="5630760"/>
                <a:ext cx="181440" cy="1818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1" name=""/>
              <p:cNvSpPr/>
              <p:nvPr/>
            </p:nvSpPr>
            <p:spPr>
              <a:xfrm flipH="1" flipV="1">
                <a:off x="4368960" y="5690520"/>
                <a:ext cx="720360" cy="54144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2" name=""/>
              <p:cNvSpPr/>
              <p:nvPr/>
            </p:nvSpPr>
            <p:spPr>
              <a:xfrm>
                <a:off x="3597120" y="6139800"/>
                <a:ext cx="181440" cy="1814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3" name=""/>
              <p:cNvSpPr/>
              <p:nvPr/>
            </p:nvSpPr>
            <p:spPr>
              <a:xfrm>
                <a:off x="4974840" y="6139800"/>
                <a:ext cx="181440" cy="1814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84" name=""/>
            <p:cNvGrpSpPr/>
            <p:nvPr/>
          </p:nvGrpSpPr>
          <p:grpSpPr>
            <a:xfrm>
              <a:off x="6548400" y="6138720"/>
              <a:ext cx="1558440" cy="690120"/>
              <a:chOff x="6548400" y="6138720"/>
              <a:chExt cx="1558440" cy="690120"/>
            </a:xfrm>
          </p:grpSpPr>
          <p:sp>
            <p:nvSpPr>
              <p:cNvPr id="1385" name=""/>
              <p:cNvSpPr/>
              <p:nvPr/>
            </p:nvSpPr>
            <p:spPr>
              <a:xfrm>
                <a:off x="6598440" y="6229800"/>
                <a:ext cx="721800" cy="54216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6" name=""/>
              <p:cNvSpPr/>
              <p:nvPr/>
            </p:nvSpPr>
            <p:spPr>
              <a:xfrm flipH="1">
                <a:off x="7320240" y="6229800"/>
                <a:ext cx="720360" cy="54216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7" name=""/>
              <p:cNvSpPr/>
              <p:nvPr/>
            </p:nvSpPr>
            <p:spPr>
              <a:xfrm>
                <a:off x="7237080" y="6647400"/>
                <a:ext cx="181080" cy="1814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8" name=""/>
              <p:cNvSpPr/>
              <p:nvPr/>
            </p:nvSpPr>
            <p:spPr>
              <a:xfrm>
                <a:off x="6548400" y="6138720"/>
                <a:ext cx="181080" cy="1814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9" name=""/>
              <p:cNvSpPr/>
              <p:nvPr/>
            </p:nvSpPr>
            <p:spPr>
              <a:xfrm>
                <a:off x="7925760" y="6138720"/>
                <a:ext cx="181080" cy="1814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1390" name=""/>
                <p:cNvSpPr txBox="1"/>
                <p:nvPr/>
              </p:nvSpPr>
              <p:spPr>
                <a:xfrm>
                  <a:off x="2732040" y="6037200"/>
                  <a:ext cx="344520" cy="311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391" name=""/>
                <p:cNvSpPr txBox="1"/>
                <p:nvPr/>
              </p:nvSpPr>
              <p:spPr>
                <a:xfrm>
                  <a:off x="5738760" y="6010200"/>
                  <a:ext cx="379440" cy="38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+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392" name=""/>
          <p:cNvSpPr/>
          <p:nvPr/>
        </p:nvSpPr>
        <p:spPr>
          <a:xfrm>
            <a:off x="622440" y="6027840"/>
            <a:ext cx="360360" cy="36036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"/>
          <p:cNvSpPr/>
          <p:nvPr/>
        </p:nvSpPr>
        <p:spPr>
          <a:xfrm>
            <a:off x="3502080" y="6048360"/>
            <a:ext cx="360360" cy="36036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>
            <a:off x="6454800" y="6039000"/>
            <a:ext cx="360360" cy="36036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"/>
          <p:cNvSpPr/>
          <p:nvPr/>
        </p:nvSpPr>
        <p:spPr>
          <a:xfrm flipV="1">
            <a:off x="3757680" y="4040280"/>
            <a:ext cx="1263600" cy="2046240"/>
          </a:xfrm>
          <a:prstGeom prst="line">
            <a:avLst/>
          </a:prstGeom>
          <a:ln w="38160">
            <a:solidFill>
              <a:srgbClr val="ff33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 flipH="1" flipV="1">
            <a:off x="5541480" y="4048200"/>
            <a:ext cx="1001880" cy="2001600"/>
          </a:xfrm>
          <a:prstGeom prst="line">
            <a:avLst/>
          </a:prstGeom>
          <a:ln w="38160">
            <a:solidFill>
              <a:srgbClr val="ff33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7" name=""/>
              <p:cNvSpPr txBox="1"/>
              <p:nvPr/>
            </p:nvSpPr>
            <p:spPr>
              <a:xfrm>
                <a:off x="6105600" y="3909960"/>
                <a:ext cx="282240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Φ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θ</m:t>
                        </m:r>
                      </m:e>
                      <m:sup>
                        <m:r>
                          <m:t xml:space="preserve">T</m:t>
                        </m:r>
                        <m:r>
                          <m:t xml:space="preserve">'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const</m:t>
                    </m:r>
                    <m:r>
                      <m:t xml:space="preserve">'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98" name=""/>
          <p:cNvSpPr/>
          <p:nvPr/>
        </p:nvSpPr>
        <p:spPr>
          <a:xfrm>
            <a:off x="395280" y="1146240"/>
            <a:ext cx="835344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in property of TRW-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0" name=""/>
              <p:cNvSpPr txBox="1"/>
              <p:nvPr/>
            </p:nvSpPr>
            <p:spPr>
              <a:xfrm>
                <a:off x="1446120" y="3887640"/>
                <a:ext cx="2989440" cy="55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Φ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θ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const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401" name=""/>
          <p:cNvGrpSpPr/>
          <p:nvPr/>
        </p:nvGrpSpPr>
        <p:grpSpPr>
          <a:xfrm>
            <a:off x="4857840" y="2385720"/>
            <a:ext cx="360360" cy="1657440"/>
            <a:chOff x="4857840" y="2385720"/>
            <a:chExt cx="360360" cy="1657440"/>
          </a:xfrm>
        </p:grpSpPr>
        <p:sp>
          <p:nvSpPr>
            <p:cNvPr id="1402" name=""/>
            <p:cNvSpPr/>
            <p:nvPr/>
          </p:nvSpPr>
          <p:spPr>
            <a:xfrm>
              <a:off x="4930920" y="2565360"/>
              <a:ext cx="142920" cy="142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4930920" y="3684600"/>
              <a:ext cx="142920" cy="142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4857840" y="238608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4857840" y="404316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 flipV="1">
              <a:off x="5218200" y="2385720"/>
              <a:ext cx="0" cy="165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07" name=""/>
          <p:cNvGrpSpPr/>
          <p:nvPr/>
        </p:nvGrpSpPr>
        <p:grpSpPr>
          <a:xfrm>
            <a:off x="5362200" y="2385720"/>
            <a:ext cx="360360" cy="1657440"/>
            <a:chOff x="5362200" y="2385720"/>
            <a:chExt cx="360360" cy="1657440"/>
          </a:xfrm>
        </p:grpSpPr>
        <p:sp>
          <p:nvSpPr>
            <p:cNvPr id="1408" name=""/>
            <p:cNvSpPr/>
            <p:nvPr/>
          </p:nvSpPr>
          <p:spPr>
            <a:xfrm flipH="1">
              <a:off x="5506200" y="2565360"/>
              <a:ext cx="142920" cy="142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 flipH="1">
              <a:off x="5506200" y="3684600"/>
              <a:ext cx="142920" cy="142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 flipH="1">
              <a:off x="5362200" y="238608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 flipH="1">
              <a:off x="5362200" y="404316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 flipV="1">
              <a:off x="5362200" y="2385720"/>
              <a:ext cx="0" cy="165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13" name=""/>
          <p:cNvSpPr/>
          <p:nvPr/>
        </p:nvSpPr>
        <p:spPr>
          <a:xfrm>
            <a:off x="4235760" y="2433600"/>
            <a:ext cx="103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>
            <a:off x="4019760" y="3564000"/>
            <a:ext cx="129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0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"/>
          <p:cNvSpPr/>
          <p:nvPr/>
        </p:nvSpPr>
        <p:spPr>
          <a:xfrm>
            <a:off x="5315400" y="2433600"/>
            <a:ext cx="103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>
            <a:off x="5315040" y="3564000"/>
            <a:ext cx="129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0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7" name=""/>
          <p:cNvGrpSpPr/>
          <p:nvPr/>
        </p:nvGrpSpPr>
        <p:grpSpPr>
          <a:xfrm>
            <a:off x="716040" y="5619600"/>
            <a:ext cx="7390800" cy="1209240"/>
            <a:chOff x="716040" y="5619600"/>
            <a:chExt cx="7390800" cy="1209240"/>
          </a:xfrm>
        </p:grpSpPr>
        <p:grpSp>
          <p:nvGrpSpPr>
            <p:cNvPr id="1418" name=""/>
            <p:cNvGrpSpPr/>
            <p:nvPr/>
          </p:nvGrpSpPr>
          <p:grpSpPr>
            <a:xfrm>
              <a:off x="716040" y="5619600"/>
              <a:ext cx="1558440" cy="1198080"/>
              <a:chOff x="716040" y="5619600"/>
              <a:chExt cx="1558440" cy="1198080"/>
            </a:xfrm>
          </p:grpSpPr>
          <p:sp>
            <p:nvSpPr>
              <p:cNvPr id="1419" name=""/>
              <p:cNvSpPr/>
              <p:nvPr/>
            </p:nvSpPr>
            <p:spPr>
              <a:xfrm flipV="1">
                <a:off x="766080" y="5679000"/>
                <a:ext cx="721440" cy="54144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0" name=""/>
              <p:cNvSpPr/>
              <p:nvPr/>
            </p:nvSpPr>
            <p:spPr>
              <a:xfrm>
                <a:off x="1404720" y="5619600"/>
                <a:ext cx="181080" cy="1810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1" name=""/>
              <p:cNvSpPr/>
              <p:nvPr/>
            </p:nvSpPr>
            <p:spPr>
              <a:xfrm flipH="1" flipV="1">
                <a:off x="1487520" y="5679000"/>
                <a:ext cx="720360" cy="54144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2" name=""/>
              <p:cNvSpPr/>
              <p:nvPr/>
            </p:nvSpPr>
            <p:spPr>
              <a:xfrm>
                <a:off x="766080" y="6219360"/>
                <a:ext cx="721440" cy="54144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3" name=""/>
              <p:cNvSpPr/>
              <p:nvPr/>
            </p:nvSpPr>
            <p:spPr>
              <a:xfrm flipH="1">
                <a:off x="1487520" y="6219360"/>
                <a:ext cx="720360" cy="54144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4" name=""/>
              <p:cNvSpPr/>
              <p:nvPr/>
            </p:nvSpPr>
            <p:spPr>
              <a:xfrm>
                <a:off x="1404720" y="6636600"/>
                <a:ext cx="181080" cy="1810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5" name=""/>
              <p:cNvSpPr/>
              <p:nvPr/>
            </p:nvSpPr>
            <p:spPr>
              <a:xfrm>
                <a:off x="716040" y="6127920"/>
                <a:ext cx="181080" cy="1814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6" name=""/>
              <p:cNvSpPr/>
              <p:nvPr/>
            </p:nvSpPr>
            <p:spPr>
              <a:xfrm>
                <a:off x="2093400" y="6127920"/>
                <a:ext cx="181080" cy="1814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27" name=""/>
            <p:cNvGrpSpPr/>
            <p:nvPr/>
          </p:nvGrpSpPr>
          <p:grpSpPr>
            <a:xfrm>
              <a:off x="3597120" y="5630760"/>
              <a:ext cx="1559160" cy="690480"/>
              <a:chOff x="3597120" y="5630760"/>
              <a:chExt cx="1559160" cy="690480"/>
            </a:xfrm>
          </p:grpSpPr>
          <p:sp>
            <p:nvSpPr>
              <p:cNvPr id="1428" name=""/>
              <p:cNvSpPr/>
              <p:nvPr/>
            </p:nvSpPr>
            <p:spPr>
              <a:xfrm flipV="1">
                <a:off x="3647160" y="5690520"/>
                <a:ext cx="722160" cy="54144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9" name=""/>
              <p:cNvSpPr/>
              <p:nvPr/>
            </p:nvSpPr>
            <p:spPr>
              <a:xfrm>
                <a:off x="4285800" y="5630760"/>
                <a:ext cx="181440" cy="1818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0" name=""/>
              <p:cNvSpPr/>
              <p:nvPr/>
            </p:nvSpPr>
            <p:spPr>
              <a:xfrm flipH="1" flipV="1">
                <a:off x="4368960" y="5690520"/>
                <a:ext cx="720360" cy="54144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1" name=""/>
              <p:cNvSpPr/>
              <p:nvPr/>
            </p:nvSpPr>
            <p:spPr>
              <a:xfrm>
                <a:off x="3597120" y="6139800"/>
                <a:ext cx="181440" cy="1814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2" name=""/>
              <p:cNvSpPr/>
              <p:nvPr/>
            </p:nvSpPr>
            <p:spPr>
              <a:xfrm>
                <a:off x="4974840" y="6139800"/>
                <a:ext cx="181440" cy="1814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33" name=""/>
            <p:cNvGrpSpPr/>
            <p:nvPr/>
          </p:nvGrpSpPr>
          <p:grpSpPr>
            <a:xfrm>
              <a:off x="6548400" y="6138720"/>
              <a:ext cx="1558440" cy="690120"/>
              <a:chOff x="6548400" y="6138720"/>
              <a:chExt cx="1558440" cy="690120"/>
            </a:xfrm>
          </p:grpSpPr>
          <p:sp>
            <p:nvSpPr>
              <p:cNvPr id="1434" name=""/>
              <p:cNvSpPr/>
              <p:nvPr/>
            </p:nvSpPr>
            <p:spPr>
              <a:xfrm>
                <a:off x="6598440" y="6229800"/>
                <a:ext cx="721800" cy="54216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5" name=""/>
              <p:cNvSpPr/>
              <p:nvPr/>
            </p:nvSpPr>
            <p:spPr>
              <a:xfrm flipH="1">
                <a:off x="7320240" y="6229800"/>
                <a:ext cx="720360" cy="54216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6" name=""/>
              <p:cNvSpPr/>
              <p:nvPr/>
            </p:nvSpPr>
            <p:spPr>
              <a:xfrm>
                <a:off x="7237080" y="6647400"/>
                <a:ext cx="181080" cy="1814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7" name=""/>
              <p:cNvSpPr/>
              <p:nvPr/>
            </p:nvSpPr>
            <p:spPr>
              <a:xfrm>
                <a:off x="6548400" y="6138720"/>
                <a:ext cx="181080" cy="1814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8" name=""/>
              <p:cNvSpPr/>
              <p:nvPr/>
            </p:nvSpPr>
            <p:spPr>
              <a:xfrm>
                <a:off x="7925760" y="6138720"/>
                <a:ext cx="181080" cy="1814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1439" name=""/>
                <p:cNvSpPr txBox="1"/>
                <p:nvPr/>
              </p:nvSpPr>
              <p:spPr>
                <a:xfrm>
                  <a:off x="2732040" y="6037200"/>
                  <a:ext cx="344520" cy="311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40" name=""/>
                <p:cNvSpPr txBox="1"/>
                <p:nvPr/>
              </p:nvSpPr>
              <p:spPr>
                <a:xfrm>
                  <a:off x="5738760" y="6010200"/>
                  <a:ext cx="379440" cy="38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+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441" name=""/>
          <p:cNvSpPr/>
          <p:nvPr/>
        </p:nvSpPr>
        <p:spPr>
          <a:xfrm>
            <a:off x="622440" y="6027840"/>
            <a:ext cx="360360" cy="36036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"/>
          <p:cNvSpPr/>
          <p:nvPr/>
        </p:nvSpPr>
        <p:spPr>
          <a:xfrm>
            <a:off x="3502080" y="6048360"/>
            <a:ext cx="360360" cy="36036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>
            <a:off x="6454800" y="6039000"/>
            <a:ext cx="360360" cy="36036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"/>
          <p:cNvSpPr/>
          <p:nvPr/>
        </p:nvSpPr>
        <p:spPr>
          <a:xfrm flipV="1">
            <a:off x="3757680" y="4040280"/>
            <a:ext cx="1263600" cy="2046240"/>
          </a:xfrm>
          <a:prstGeom prst="line">
            <a:avLst/>
          </a:prstGeom>
          <a:ln w="38160">
            <a:solidFill>
              <a:srgbClr val="ff33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"/>
          <p:cNvSpPr/>
          <p:nvPr/>
        </p:nvSpPr>
        <p:spPr>
          <a:xfrm flipH="1" flipV="1">
            <a:off x="5541480" y="4048200"/>
            <a:ext cx="1001880" cy="2001600"/>
          </a:xfrm>
          <a:prstGeom prst="line">
            <a:avLst/>
          </a:prstGeom>
          <a:ln w="38160">
            <a:solidFill>
              <a:srgbClr val="ff33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6" name=""/>
              <p:cNvSpPr txBox="1"/>
              <p:nvPr/>
            </p:nvSpPr>
            <p:spPr>
              <a:xfrm>
                <a:off x="6059520" y="3909960"/>
                <a:ext cx="309240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Φ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θ</m:t>
                        </m:r>
                      </m:e>
                      <m:sup>
                        <m:r>
                          <m:t xml:space="preserve">T</m:t>
                        </m:r>
                        <m:r>
                          <m:t xml:space="preserve">'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const</m:t>
                    </m:r>
                    <m:r>
                      <m:t xml:space="preserve">'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47" name=""/>
          <p:cNvSpPr/>
          <p:nvPr/>
        </p:nvSpPr>
        <p:spPr>
          <a:xfrm>
            <a:off x="395280" y="1146240"/>
            <a:ext cx="835344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PlaceHolder 2"/>
          <p:cNvSpPr>
            <a:spLocks noGrp="1"/>
          </p:cNvSpPr>
          <p:nvPr>
            <p:ph/>
          </p:nvPr>
        </p:nvSpPr>
        <p:spPr>
          <a:xfrm>
            <a:off x="457200" y="1289160"/>
            <a:ext cx="8229600" cy="17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orem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ower bound never decreas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of sketch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W-S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PlaceHolder 2"/>
          <p:cNvSpPr>
            <a:spLocks noGrp="1"/>
          </p:cNvSpPr>
          <p:nvPr>
            <p:ph/>
          </p:nvPr>
        </p:nvSpPr>
        <p:spPr>
          <a:xfrm>
            <a:off x="457200" y="1344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icular order of averaging and BP oper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bound guaranteed not to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 exists limit point that satisfies                          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eak tree agreeme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ondi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fficienc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>
            <a:off x="395280" y="1146240"/>
            <a:ext cx="835344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-19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lving LP relax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5680" y="975960"/>
            <a:ext cx="9058320" cy="28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oo large for general purpose LP solvers (e.g. interior point methods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olve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dua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problem instead of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prima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ormulate lower bound on the energ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Maximize this bou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When done, solves primal problem (LP relaxa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wo different ways to formulate lower bo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Via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posiforms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: leads to maxflow algorith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Via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convex combination of trees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: leads to tree-reweighted message pas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95280" y="946080"/>
            <a:ext cx="835344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500880" y="6172200"/>
            <a:ext cx="212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wer bound 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energy fun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6184800" y="4178160"/>
            <a:ext cx="2155680" cy="1961640"/>
            <a:chOff x="6184800" y="4178160"/>
            <a:chExt cx="2155680" cy="1961640"/>
          </a:xfrm>
        </p:grpSpPr>
        <p:sp>
          <p:nvSpPr>
            <p:cNvPr id="126" name=""/>
            <p:cNvSpPr/>
            <p:nvPr/>
          </p:nvSpPr>
          <p:spPr>
            <a:xfrm>
              <a:off x="6519240" y="6134760"/>
              <a:ext cx="182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flipV="1">
              <a:off x="6519240" y="4328640"/>
              <a:ext cx="11520" cy="1811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184800" y="417816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9" name=""/>
          <p:cNvSpPr/>
          <p:nvPr/>
        </p:nvSpPr>
        <p:spPr>
          <a:xfrm flipV="1">
            <a:off x="3936960" y="5454360"/>
            <a:ext cx="4230720" cy="140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642000" y="5460840"/>
            <a:ext cx="1370160" cy="560520"/>
          </a:xfrm>
          <a:custGeom>
            <a:avLst/>
            <a:gdLst/>
            <a:ahLst/>
            <a:rect l="l" t="t" r="r" b="b"/>
            <a:pathLst>
              <a:path w="863" h="353">
                <a:moveTo>
                  <a:pt x="0" y="343"/>
                </a:moveTo>
                <a:lnTo>
                  <a:pt x="15" y="194"/>
                </a:lnTo>
                <a:lnTo>
                  <a:pt x="147" y="82"/>
                </a:lnTo>
                <a:lnTo>
                  <a:pt x="362" y="2"/>
                </a:lnTo>
                <a:lnTo>
                  <a:pt x="632" y="0"/>
                </a:lnTo>
                <a:lnTo>
                  <a:pt x="770" y="77"/>
                </a:lnTo>
                <a:lnTo>
                  <a:pt x="863" y="353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840600" y="6191280"/>
            <a:ext cx="24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ergy fun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discrete variab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718920" y="4187880"/>
            <a:ext cx="2155680" cy="1961640"/>
            <a:chOff x="718920" y="4187880"/>
            <a:chExt cx="2155680" cy="1961640"/>
          </a:xfrm>
        </p:grpSpPr>
        <p:sp>
          <p:nvSpPr>
            <p:cNvPr id="133" name=""/>
            <p:cNvSpPr/>
            <p:nvPr/>
          </p:nvSpPr>
          <p:spPr>
            <a:xfrm>
              <a:off x="1053360" y="6144120"/>
              <a:ext cx="182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V="1">
              <a:off x="1053360" y="4338720"/>
              <a:ext cx="11520" cy="1810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8920" y="418788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3504960" y="4189320"/>
            <a:ext cx="2155680" cy="1961640"/>
            <a:chOff x="3504960" y="4189320"/>
            <a:chExt cx="2155680" cy="1961640"/>
          </a:xfrm>
        </p:grpSpPr>
        <p:sp>
          <p:nvSpPr>
            <p:cNvPr id="137" name=""/>
            <p:cNvSpPr/>
            <p:nvPr/>
          </p:nvSpPr>
          <p:spPr>
            <a:xfrm>
              <a:off x="3839400" y="6145920"/>
              <a:ext cx="182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3839400" y="4339800"/>
              <a:ext cx="11520" cy="1811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504960" y="418932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1355760" y="4519440"/>
            <a:ext cx="1457280" cy="838440"/>
            <a:chOff x="1355760" y="4519440"/>
            <a:chExt cx="1457280" cy="838440"/>
          </a:xfrm>
        </p:grpSpPr>
        <p:sp>
          <p:nvSpPr>
            <p:cNvPr id="141" name=""/>
            <p:cNvSpPr/>
            <p:nvPr/>
          </p:nvSpPr>
          <p:spPr>
            <a:xfrm>
              <a:off x="1724040" y="5237280"/>
              <a:ext cx="120600" cy="120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567160" y="4933800"/>
              <a:ext cx="120600" cy="120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355760" y="4757760"/>
              <a:ext cx="120600" cy="120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692440" y="4519440"/>
              <a:ext cx="120600" cy="1191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4071960" y="620244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P relax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4103280" y="4392360"/>
            <a:ext cx="1484640" cy="1068480"/>
            <a:chOff x="4103280" y="4392360"/>
            <a:chExt cx="1484640" cy="1068480"/>
          </a:xfrm>
        </p:grpSpPr>
        <p:sp>
          <p:nvSpPr>
            <p:cNvPr id="147" name=""/>
            <p:cNvSpPr/>
            <p:nvPr/>
          </p:nvSpPr>
          <p:spPr>
            <a:xfrm>
              <a:off x="4498920" y="5237280"/>
              <a:ext cx="120600" cy="120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342040" y="4933800"/>
              <a:ext cx="120600" cy="120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130640" y="4757760"/>
              <a:ext cx="120600" cy="120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467320" y="4519440"/>
              <a:ext cx="120600" cy="1191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183200" y="4818240"/>
              <a:ext cx="372960" cy="488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V="1">
              <a:off x="5038920" y="5003280"/>
              <a:ext cx="363240" cy="45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flipV="1">
              <a:off x="5402160" y="4568760"/>
              <a:ext cx="131760" cy="434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flipH="1" flipV="1">
              <a:off x="4103280" y="4436640"/>
              <a:ext cx="7956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flipV="1">
              <a:off x="5533920" y="4392360"/>
              <a:ext cx="27000" cy="150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552920" y="5307120"/>
              <a:ext cx="2494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805280" y="5460840"/>
              <a:ext cx="239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"/>
          <p:cNvSpPr/>
          <p:nvPr/>
        </p:nvSpPr>
        <p:spPr>
          <a:xfrm>
            <a:off x="4559400" y="3587760"/>
            <a:ext cx="504720" cy="485640"/>
          </a:xfrm>
          <a:prstGeom prst="rightArrow">
            <a:avLst>
              <a:gd name="adj1" fmla="val 50000"/>
              <a:gd name="adj2" fmla="val 25982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"/>
          <p:cNvSpPr/>
          <p:nvPr/>
        </p:nvSpPr>
        <p:spPr>
          <a:xfrm flipH="1" rot="18426000">
            <a:off x="3063240" y="2682720"/>
            <a:ext cx="504720" cy="486360"/>
          </a:xfrm>
          <a:prstGeom prst="rightArrow">
            <a:avLst>
              <a:gd name="adj1" fmla="val 50000"/>
              <a:gd name="adj2" fmla="val 25944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>
            <a:off x="5562720" y="3522600"/>
            <a:ext cx="35179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verage” nod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>
            <a:off x="5437080" y="3408480"/>
            <a:ext cx="3322800" cy="80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>
            <a:off x="3495600" y="1774800"/>
            <a:ext cx="35179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ick nod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>
            <a:off x="3370320" y="1674720"/>
            <a:ext cx="2335320" cy="80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 rot="14334000">
            <a:off x="5565600" y="2652120"/>
            <a:ext cx="504720" cy="485640"/>
          </a:xfrm>
          <a:prstGeom prst="rightArrow">
            <a:avLst>
              <a:gd name="adj1" fmla="val 50000"/>
              <a:gd name="adj2" fmla="val 25982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9" name=""/>
          <p:cNvGrpSpPr/>
          <p:nvPr/>
        </p:nvGrpSpPr>
        <p:grpSpPr>
          <a:xfrm>
            <a:off x="1006560" y="5440320"/>
            <a:ext cx="7390800" cy="1209240"/>
            <a:chOff x="1006560" y="5440320"/>
            <a:chExt cx="7390800" cy="1209240"/>
          </a:xfrm>
        </p:grpSpPr>
        <p:grpSp>
          <p:nvGrpSpPr>
            <p:cNvPr id="1460" name=""/>
            <p:cNvGrpSpPr/>
            <p:nvPr/>
          </p:nvGrpSpPr>
          <p:grpSpPr>
            <a:xfrm>
              <a:off x="1006560" y="5440320"/>
              <a:ext cx="1558440" cy="1198080"/>
              <a:chOff x="1006560" y="5440320"/>
              <a:chExt cx="1558440" cy="1198080"/>
            </a:xfrm>
          </p:grpSpPr>
          <p:sp>
            <p:nvSpPr>
              <p:cNvPr id="1461" name=""/>
              <p:cNvSpPr/>
              <p:nvPr/>
            </p:nvSpPr>
            <p:spPr>
              <a:xfrm flipV="1">
                <a:off x="1056600" y="5499720"/>
                <a:ext cx="721440" cy="54144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2" name=""/>
              <p:cNvSpPr/>
              <p:nvPr/>
            </p:nvSpPr>
            <p:spPr>
              <a:xfrm>
                <a:off x="1695240" y="5440320"/>
                <a:ext cx="181080" cy="1810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3" name=""/>
              <p:cNvSpPr/>
              <p:nvPr/>
            </p:nvSpPr>
            <p:spPr>
              <a:xfrm flipH="1" flipV="1">
                <a:off x="1778040" y="5499720"/>
                <a:ext cx="720360" cy="54144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4" name=""/>
              <p:cNvSpPr/>
              <p:nvPr/>
            </p:nvSpPr>
            <p:spPr>
              <a:xfrm>
                <a:off x="1056600" y="6040080"/>
                <a:ext cx="721440" cy="54144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5" name=""/>
              <p:cNvSpPr/>
              <p:nvPr/>
            </p:nvSpPr>
            <p:spPr>
              <a:xfrm flipH="1">
                <a:off x="1778040" y="6040080"/>
                <a:ext cx="720360" cy="54144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6" name=""/>
              <p:cNvSpPr/>
              <p:nvPr/>
            </p:nvSpPr>
            <p:spPr>
              <a:xfrm>
                <a:off x="1695240" y="6457320"/>
                <a:ext cx="181080" cy="1810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7" name=""/>
              <p:cNvSpPr/>
              <p:nvPr/>
            </p:nvSpPr>
            <p:spPr>
              <a:xfrm>
                <a:off x="1006560" y="5948640"/>
                <a:ext cx="181080" cy="1814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8" name=""/>
              <p:cNvSpPr/>
              <p:nvPr/>
            </p:nvSpPr>
            <p:spPr>
              <a:xfrm>
                <a:off x="2383920" y="5948640"/>
                <a:ext cx="181080" cy="1814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69" name=""/>
            <p:cNvGrpSpPr/>
            <p:nvPr/>
          </p:nvGrpSpPr>
          <p:grpSpPr>
            <a:xfrm>
              <a:off x="3887640" y="5451480"/>
              <a:ext cx="1559160" cy="690480"/>
              <a:chOff x="3887640" y="5451480"/>
              <a:chExt cx="1559160" cy="690480"/>
            </a:xfrm>
          </p:grpSpPr>
          <p:sp>
            <p:nvSpPr>
              <p:cNvPr id="1470" name=""/>
              <p:cNvSpPr/>
              <p:nvPr/>
            </p:nvSpPr>
            <p:spPr>
              <a:xfrm flipV="1">
                <a:off x="3937680" y="5511240"/>
                <a:ext cx="722160" cy="54144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1" name=""/>
              <p:cNvSpPr/>
              <p:nvPr/>
            </p:nvSpPr>
            <p:spPr>
              <a:xfrm>
                <a:off x="4576320" y="5451480"/>
                <a:ext cx="181440" cy="1818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2" name=""/>
              <p:cNvSpPr/>
              <p:nvPr/>
            </p:nvSpPr>
            <p:spPr>
              <a:xfrm flipH="1" flipV="1">
                <a:off x="4659480" y="5511240"/>
                <a:ext cx="720360" cy="54144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3" name=""/>
              <p:cNvSpPr/>
              <p:nvPr/>
            </p:nvSpPr>
            <p:spPr>
              <a:xfrm>
                <a:off x="3887640" y="5960520"/>
                <a:ext cx="181440" cy="1814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4" name=""/>
              <p:cNvSpPr/>
              <p:nvPr/>
            </p:nvSpPr>
            <p:spPr>
              <a:xfrm>
                <a:off x="5265360" y="5960520"/>
                <a:ext cx="181440" cy="1814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75" name=""/>
            <p:cNvGrpSpPr/>
            <p:nvPr/>
          </p:nvGrpSpPr>
          <p:grpSpPr>
            <a:xfrm>
              <a:off x="6838920" y="5959440"/>
              <a:ext cx="1558440" cy="690120"/>
              <a:chOff x="6838920" y="5959440"/>
              <a:chExt cx="1558440" cy="690120"/>
            </a:xfrm>
          </p:grpSpPr>
          <p:sp>
            <p:nvSpPr>
              <p:cNvPr id="1476" name=""/>
              <p:cNvSpPr/>
              <p:nvPr/>
            </p:nvSpPr>
            <p:spPr>
              <a:xfrm>
                <a:off x="6888960" y="6050520"/>
                <a:ext cx="721800" cy="54216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7" name=""/>
              <p:cNvSpPr/>
              <p:nvPr/>
            </p:nvSpPr>
            <p:spPr>
              <a:xfrm flipH="1">
                <a:off x="7610760" y="6050520"/>
                <a:ext cx="720360" cy="54216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8" name=""/>
              <p:cNvSpPr/>
              <p:nvPr/>
            </p:nvSpPr>
            <p:spPr>
              <a:xfrm>
                <a:off x="7527600" y="6468120"/>
                <a:ext cx="181080" cy="1814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9" name=""/>
              <p:cNvSpPr/>
              <p:nvPr/>
            </p:nvSpPr>
            <p:spPr>
              <a:xfrm>
                <a:off x="6838920" y="5959440"/>
                <a:ext cx="181080" cy="1814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0" name=""/>
              <p:cNvSpPr/>
              <p:nvPr/>
            </p:nvSpPr>
            <p:spPr>
              <a:xfrm>
                <a:off x="8216280" y="5959440"/>
                <a:ext cx="181080" cy="1814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1481" name=""/>
                <p:cNvSpPr txBox="1"/>
                <p:nvPr/>
              </p:nvSpPr>
              <p:spPr>
                <a:xfrm>
                  <a:off x="3022560" y="5857920"/>
                  <a:ext cx="344520" cy="311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82" name=""/>
                <p:cNvSpPr txBox="1"/>
                <p:nvPr/>
              </p:nvSpPr>
              <p:spPr>
                <a:xfrm>
                  <a:off x="6029280" y="5830920"/>
                  <a:ext cx="379440" cy="38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+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483" name=""/>
          <p:cNvSpPr/>
          <p:nvPr/>
        </p:nvSpPr>
        <p:spPr>
          <a:xfrm>
            <a:off x="5127480" y="4689360"/>
            <a:ext cx="2262240" cy="725760"/>
          </a:xfrm>
          <a:prstGeom prst="wedgeRoundRectCallout">
            <a:avLst>
              <a:gd name="adj1" fmla="val -92175"/>
              <a:gd name="adj2" fmla="val -81291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"/>
          <p:cNvSpPr/>
          <p:nvPr/>
        </p:nvSpPr>
        <p:spPr>
          <a:xfrm>
            <a:off x="5259240" y="4754520"/>
            <a:ext cx="2038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efficien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fficient implem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PlaceHolder 2"/>
          <p:cNvSpPr>
            <a:spLocks noGrp="1"/>
          </p:cNvSpPr>
          <p:nvPr>
            <p:ph/>
          </p:nvPr>
        </p:nvSpPr>
        <p:spPr>
          <a:xfrm>
            <a:off x="736560" y="3528720"/>
            <a:ext cx="344160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un BP on all trees containing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>
            <a:off x="671400" y="3414600"/>
            <a:ext cx="346104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"/>
          <p:cNvSpPr/>
          <p:nvPr/>
        </p:nvSpPr>
        <p:spPr>
          <a:xfrm>
            <a:off x="395280" y="1146240"/>
            <a:ext cx="835344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fficient implem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5583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Key observ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                       Node averaging operation preserves messages oriented towards this no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use previously passed messages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ed a special choice of tre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an ordering of n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ee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onoton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ha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"/>
          <p:cNvSpPr/>
          <p:nvPr/>
        </p:nvSpPr>
        <p:spPr>
          <a:xfrm>
            <a:off x="5902200" y="3305160"/>
            <a:ext cx="433440" cy="433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"/>
          <p:cNvSpPr/>
          <p:nvPr/>
        </p:nvSpPr>
        <p:spPr>
          <a:xfrm>
            <a:off x="5962680" y="3336840"/>
            <a:ext cx="27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"/>
          <p:cNvSpPr/>
          <p:nvPr/>
        </p:nvSpPr>
        <p:spPr>
          <a:xfrm>
            <a:off x="7054920" y="3305160"/>
            <a:ext cx="433440" cy="433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"/>
          <p:cNvSpPr/>
          <p:nvPr/>
        </p:nvSpPr>
        <p:spPr>
          <a:xfrm>
            <a:off x="7115040" y="3336840"/>
            <a:ext cx="27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"/>
          <p:cNvSpPr/>
          <p:nvPr/>
        </p:nvSpPr>
        <p:spPr>
          <a:xfrm>
            <a:off x="8205840" y="3305160"/>
            <a:ext cx="433440" cy="433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"/>
          <p:cNvSpPr/>
          <p:nvPr/>
        </p:nvSpPr>
        <p:spPr>
          <a:xfrm>
            <a:off x="8265960" y="3336840"/>
            <a:ext cx="27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"/>
          <p:cNvSpPr/>
          <p:nvPr/>
        </p:nvSpPr>
        <p:spPr>
          <a:xfrm>
            <a:off x="5962680" y="4487760"/>
            <a:ext cx="27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"/>
          <p:cNvSpPr/>
          <p:nvPr/>
        </p:nvSpPr>
        <p:spPr>
          <a:xfrm>
            <a:off x="7054920" y="4456080"/>
            <a:ext cx="433440" cy="433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"/>
          <p:cNvSpPr/>
          <p:nvPr/>
        </p:nvSpPr>
        <p:spPr>
          <a:xfrm>
            <a:off x="7115040" y="4487760"/>
            <a:ext cx="27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"/>
          <p:cNvSpPr/>
          <p:nvPr/>
        </p:nvSpPr>
        <p:spPr>
          <a:xfrm>
            <a:off x="8205840" y="4456080"/>
            <a:ext cx="433440" cy="433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"/>
          <p:cNvSpPr/>
          <p:nvPr/>
        </p:nvSpPr>
        <p:spPr>
          <a:xfrm>
            <a:off x="8265960" y="4487760"/>
            <a:ext cx="27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"/>
          <p:cNvSpPr/>
          <p:nvPr/>
        </p:nvSpPr>
        <p:spPr>
          <a:xfrm>
            <a:off x="5902200" y="2152800"/>
            <a:ext cx="433440" cy="433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"/>
          <p:cNvSpPr/>
          <p:nvPr/>
        </p:nvSpPr>
        <p:spPr>
          <a:xfrm>
            <a:off x="5962680" y="2184480"/>
            <a:ext cx="27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"/>
          <p:cNvSpPr/>
          <p:nvPr/>
        </p:nvSpPr>
        <p:spPr>
          <a:xfrm>
            <a:off x="7054920" y="2152800"/>
            <a:ext cx="433440" cy="433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"/>
          <p:cNvSpPr/>
          <p:nvPr/>
        </p:nvSpPr>
        <p:spPr>
          <a:xfrm>
            <a:off x="7115040" y="2184480"/>
            <a:ext cx="27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"/>
          <p:cNvSpPr/>
          <p:nvPr/>
        </p:nvSpPr>
        <p:spPr>
          <a:xfrm>
            <a:off x="8205840" y="2152800"/>
            <a:ext cx="433440" cy="433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"/>
          <p:cNvSpPr/>
          <p:nvPr/>
        </p:nvSpPr>
        <p:spPr>
          <a:xfrm>
            <a:off x="8265960" y="2184480"/>
            <a:ext cx="27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"/>
          <p:cNvSpPr/>
          <p:nvPr/>
        </p:nvSpPr>
        <p:spPr>
          <a:xfrm>
            <a:off x="6335640" y="2368440"/>
            <a:ext cx="72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"/>
          <p:cNvSpPr/>
          <p:nvPr/>
        </p:nvSpPr>
        <p:spPr>
          <a:xfrm>
            <a:off x="7486560" y="2368440"/>
            <a:ext cx="72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"/>
          <p:cNvSpPr/>
          <p:nvPr/>
        </p:nvSpPr>
        <p:spPr>
          <a:xfrm>
            <a:off x="7488360" y="3519360"/>
            <a:ext cx="72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"/>
          <p:cNvSpPr/>
          <p:nvPr/>
        </p:nvSpPr>
        <p:spPr>
          <a:xfrm>
            <a:off x="6335640" y="3519360"/>
            <a:ext cx="72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"/>
          <p:cNvSpPr/>
          <p:nvPr/>
        </p:nvSpPr>
        <p:spPr>
          <a:xfrm flipH="1">
            <a:off x="6335640" y="4672080"/>
            <a:ext cx="72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"/>
          <p:cNvSpPr/>
          <p:nvPr/>
        </p:nvSpPr>
        <p:spPr>
          <a:xfrm flipH="1">
            <a:off x="7488360" y="4672080"/>
            <a:ext cx="72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"/>
          <p:cNvSpPr/>
          <p:nvPr/>
        </p:nvSpPr>
        <p:spPr>
          <a:xfrm>
            <a:off x="6119640" y="3735360"/>
            <a:ext cx="0" cy="72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"/>
          <p:cNvSpPr/>
          <p:nvPr/>
        </p:nvSpPr>
        <p:spPr>
          <a:xfrm>
            <a:off x="6119640" y="2584440"/>
            <a:ext cx="0" cy="72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"/>
          <p:cNvSpPr/>
          <p:nvPr/>
        </p:nvSpPr>
        <p:spPr>
          <a:xfrm>
            <a:off x="7272360" y="2584440"/>
            <a:ext cx="0" cy="72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"/>
          <p:cNvSpPr/>
          <p:nvPr/>
        </p:nvSpPr>
        <p:spPr>
          <a:xfrm>
            <a:off x="8423280" y="2584440"/>
            <a:ext cx="0" cy="72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"/>
          <p:cNvSpPr/>
          <p:nvPr/>
        </p:nvSpPr>
        <p:spPr>
          <a:xfrm flipV="1">
            <a:off x="8423280" y="3735360"/>
            <a:ext cx="0" cy="72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"/>
          <p:cNvSpPr/>
          <p:nvPr/>
        </p:nvSpPr>
        <p:spPr>
          <a:xfrm flipV="1">
            <a:off x="7272360" y="3736440"/>
            <a:ext cx="0" cy="72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"/>
          <p:cNvSpPr/>
          <p:nvPr/>
        </p:nvSpPr>
        <p:spPr>
          <a:xfrm>
            <a:off x="5902200" y="4456080"/>
            <a:ext cx="433440" cy="433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"/>
          <p:cNvSpPr/>
          <p:nvPr/>
        </p:nvSpPr>
        <p:spPr>
          <a:xfrm>
            <a:off x="5829480" y="2070000"/>
            <a:ext cx="583920" cy="2908440"/>
          </a:xfrm>
          <a:custGeom>
            <a:avLst/>
            <a:gdLst>
              <a:gd name="textAreaLeft" fmla="*/ 28440 w 583920"/>
              <a:gd name="textAreaRight" fmla="*/ 555480 w 583920"/>
              <a:gd name="textAreaTop" fmla="*/ 28440 h 2908440"/>
              <a:gd name="textAreaBottom" fmla="*/ 2880000 h 2908440"/>
            </a:gdLst>
            <a:ahLst/>
            <a:rect l="textAreaLeft" t="textAreaTop" r="textAreaRight" b="textAreaBottom"/>
            <a:pathLst>
              <a:path w="21600" h="107534">
                <a:moveTo>
                  <a:pt x="3600" y="0"/>
                </a:moveTo>
                <a:arcTo wR="3600" hR="3600" stAng="16200000" swAng="-5400000"/>
                <a:lnTo>
                  <a:pt x="0" y="103934"/>
                </a:lnTo>
                <a:arcTo wR="3600" hR="3600" stAng="10800000" swAng="-5400000"/>
                <a:lnTo>
                  <a:pt x="18000" y="10753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ff33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"/>
          <p:cNvSpPr/>
          <p:nvPr/>
        </p:nvSpPr>
        <p:spPr>
          <a:xfrm>
            <a:off x="395280" y="1146240"/>
            <a:ext cx="835344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fficient implem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"/>
          <p:cNvSpPr/>
          <p:nvPr/>
        </p:nvSpPr>
        <p:spPr>
          <a:xfrm>
            <a:off x="5902200" y="3305160"/>
            <a:ext cx="433440" cy="433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"/>
          <p:cNvSpPr/>
          <p:nvPr/>
        </p:nvSpPr>
        <p:spPr>
          <a:xfrm>
            <a:off x="5962680" y="3336840"/>
            <a:ext cx="27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"/>
          <p:cNvSpPr/>
          <p:nvPr/>
        </p:nvSpPr>
        <p:spPr>
          <a:xfrm>
            <a:off x="7054920" y="3305160"/>
            <a:ext cx="433440" cy="433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"/>
          <p:cNvSpPr/>
          <p:nvPr/>
        </p:nvSpPr>
        <p:spPr>
          <a:xfrm>
            <a:off x="7115040" y="3336840"/>
            <a:ext cx="27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"/>
          <p:cNvSpPr/>
          <p:nvPr/>
        </p:nvSpPr>
        <p:spPr>
          <a:xfrm>
            <a:off x="8205840" y="3305160"/>
            <a:ext cx="433440" cy="433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"/>
          <p:cNvSpPr/>
          <p:nvPr/>
        </p:nvSpPr>
        <p:spPr>
          <a:xfrm>
            <a:off x="8265960" y="3336840"/>
            <a:ext cx="27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"/>
          <p:cNvSpPr/>
          <p:nvPr/>
        </p:nvSpPr>
        <p:spPr>
          <a:xfrm>
            <a:off x="5962680" y="4487760"/>
            <a:ext cx="27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"/>
          <p:cNvSpPr/>
          <p:nvPr/>
        </p:nvSpPr>
        <p:spPr>
          <a:xfrm>
            <a:off x="7054920" y="4456080"/>
            <a:ext cx="433440" cy="433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"/>
          <p:cNvSpPr/>
          <p:nvPr/>
        </p:nvSpPr>
        <p:spPr>
          <a:xfrm>
            <a:off x="7115040" y="4487760"/>
            <a:ext cx="27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"/>
          <p:cNvSpPr/>
          <p:nvPr/>
        </p:nvSpPr>
        <p:spPr>
          <a:xfrm>
            <a:off x="8205840" y="4456080"/>
            <a:ext cx="433440" cy="433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"/>
          <p:cNvSpPr/>
          <p:nvPr/>
        </p:nvSpPr>
        <p:spPr>
          <a:xfrm>
            <a:off x="8265960" y="4487760"/>
            <a:ext cx="27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"/>
          <p:cNvSpPr/>
          <p:nvPr/>
        </p:nvSpPr>
        <p:spPr>
          <a:xfrm>
            <a:off x="5902200" y="2152800"/>
            <a:ext cx="433440" cy="433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"/>
          <p:cNvSpPr/>
          <p:nvPr/>
        </p:nvSpPr>
        <p:spPr>
          <a:xfrm>
            <a:off x="5962680" y="2184480"/>
            <a:ext cx="27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"/>
          <p:cNvSpPr/>
          <p:nvPr/>
        </p:nvSpPr>
        <p:spPr>
          <a:xfrm>
            <a:off x="7054920" y="2152800"/>
            <a:ext cx="433440" cy="433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"/>
          <p:cNvSpPr/>
          <p:nvPr/>
        </p:nvSpPr>
        <p:spPr>
          <a:xfrm>
            <a:off x="7115040" y="2184480"/>
            <a:ext cx="27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"/>
          <p:cNvSpPr/>
          <p:nvPr/>
        </p:nvSpPr>
        <p:spPr>
          <a:xfrm>
            <a:off x="8205840" y="2152800"/>
            <a:ext cx="433440" cy="433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"/>
          <p:cNvSpPr/>
          <p:nvPr/>
        </p:nvSpPr>
        <p:spPr>
          <a:xfrm>
            <a:off x="8265960" y="2184480"/>
            <a:ext cx="27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"/>
          <p:cNvSpPr/>
          <p:nvPr/>
        </p:nvSpPr>
        <p:spPr>
          <a:xfrm>
            <a:off x="6335640" y="2368440"/>
            <a:ext cx="72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"/>
          <p:cNvSpPr/>
          <p:nvPr/>
        </p:nvSpPr>
        <p:spPr>
          <a:xfrm>
            <a:off x="7486560" y="2368440"/>
            <a:ext cx="72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"/>
          <p:cNvSpPr/>
          <p:nvPr/>
        </p:nvSpPr>
        <p:spPr>
          <a:xfrm>
            <a:off x="7488360" y="3519360"/>
            <a:ext cx="72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"/>
          <p:cNvSpPr/>
          <p:nvPr/>
        </p:nvSpPr>
        <p:spPr>
          <a:xfrm>
            <a:off x="6335640" y="3519360"/>
            <a:ext cx="72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"/>
          <p:cNvSpPr/>
          <p:nvPr/>
        </p:nvSpPr>
        <p:spPr>
          <a:xfrm flipH="1">
            <a:off x="6335640" y="4672080"/>
            <a:ext cx="72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"/>
          <p:cNvSpPr/>
          <p:nvPr/>
        </p:nvSpPr>
        <p:spPr>
          <a:xfrm flipH="1">
            <a:off x="7488360" y="4672080"/>
            <a:ext cx="72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"/>
          <p:cNvSpPr/>
          <p:nvPr/>
        </p:nvSpPr>
        <p:spPr>
          <a:xfrm>
            <a:off x="6119640" y="3735360"/>
            <a:ext cx="0" cy="72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"/>
          <p:cNvSpPr/>
          <p:nvPr/>
        </p:nvSpPr>
        <p:spPr>
          <a:xfrm>
            <a:off x="6119640" y="2584440"/>
            <a:ext cx="0" cy="72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" name=""/>
          <p:cNvSpPr/>
          <p:nvPr/>
        </p:nvSpPr>
        <p:spPr>
          <a:xfrm>
            <a:off x="7272360" y="2584440"/>
            <a:ext cx="0" cy="72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" name=""/>
          <p:cNvSpPr/>
          <p:nvPr/>
        </p:nvSpPr>
        <p:spPr>
          <a:xfrm>
            <a:off x="8423280" y="2584440"/>
            <a:ext cx="0" cy="72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"/>
          <p:cNvSpPr/>
          <p:nvPr/>
        </p:nvSpPr>
        <p:spPr>
          <a:xfrm flipV="1">
            <a:off x="8423280" y="3735360"/>
            <a:ext cx="0" cy="72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"/>
          <p:cNvSpPr/>
          <p:nvPr/>
        </p:nvSpPr>
        <p:spPr>
          <a:xfrm flipV="1">
            <a:off x="7272360" y="3736440"/>
            <a:ext cx="0" cy="72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"/>
          <p:cNvSpPr/>
          <p:nvPr/>
        </p:nvSpPr>
        <p:spPr>
          <a:xfrm>
            <a:off x="5902200" y="4456080"/>
            <a:ext cx="433440" cy="433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"/>
          <p:cNvSpPr/>
          <p:nvPr/>
        </p:nvSpPr>
        <p:spPr>
          <a:xfrm>
            <a:off x="395280" y="1146240"/>
            <a:ext cx="835344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"/>
          <p:cNvSpPr/>
          <p:nvPr/>
        </p:nvSpPr>
        <p:spPr>
          <a:xfrm>
            <a:off x="5942160" y="4489560"/>
            <a:ext cx="360360" cy="360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"/>
          <p:cNvSpPr/>
          <p:nvPr/>
        </p:nvSpPr>
        <p:spPr>
          <a:xfrm>
            <a:off x="5943600" y="2192400"/>
            <a:ext cx="360360" cy="360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"/>
          <p:cNvSpPr/>
          <p:nvPr/>
        </p:nvSpPr>
        <p:spPr>
          <a:xfrm>
            <a:off x="7088040" y="2193840"/>
            <a:ext cx="360360" cy="360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"/>
          <p:cNvSpPr/>
          <p:nvPr/>
        </p:nvSpPr>
        <p:spPr>
          <a:xfrm>
            <a:off x="8244000" y="2193840"/>
            <a:ext cx="360360" cy="360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"/>
          <p:cNvSpPr/>
          <p:nvPr/>
        </p:nvSpPr>
        <p:spPr>
          <a:xfrm>
            <a:off x="5945040" y="3336840"/>
            <a:ext cx="360360" cy="360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" name=""/>
          <p:cNvSpPr/>
          <p:nvPr/>
        </p:nvSpPr>
        <p:spPr>
          <a:xfrm>
            <a:off x="7089840" y="3338640"/>
            <a:ext cx="360360" cy="360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"/>
          <p:cNvSpPr/>
          <p:nvPr/>
        </p:nvSpPr>
        <p:spPr>
          <a:xfrm>
            <a:off x="8245440" y="3338640"/>
            <a:ext cx="360360" cy="360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2" name=""/>
          <p:cNvGrpSpPr/>
          <p:nvPr/>
        </p:nvGrpSpPr>
        <p:grpSpPr>
          <a:xfrm>
            <a:off x="6464160" y="3890880"/>
            <a:ext cx="661680" cy="646200"/>
            <a:chOff x="6464160" y="3890880"/>
            <a:chExt cx="661680" cy="646200"/>
          </a:xfrm>
        </p:grpSpPr>
        <p:sp>
          <p:nvSpPr>
            <p:cNvPr id="1563" name=""/>
            <p:cNvSpPr/>
            <p:nvPr/>
          </p:nvSpPr>
          <p:spPr>
            <a:xfrm>
              <a:off x="6464160" y="4537080"/>
              <a:ext cx="530280" cy="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4" name=""/>
            <p:cNvSpPr/>
            <p:nvPr/>
          </p:nvSpPr>
          <p:spPr>
            <a:xfrm flipH="1">
              <a:off x="7122600" y="3890880"/>
              <a:ext cx="3240" cy="54612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5" name=""/>
          <p:cNvGrpSpPr/>
          <p:nvPr/>
        </p:nvGrpSpPr>
        <p:grpSpPr>
          <a:xfrm>
            <a:off x="6453360" y="2673360"/>
            <a:ext cx="661680" cy="646200"/>
            <a:chOff x="6453360" y="2673360"/>
            <a:chExt cx="661680" cy="646200"/>
          </a:xfrm>
        </p:grpSpPr>
        <p:sp>
          <p:nvSpPr>
            <p:cNvPr id="1566" name=""/>
            <p:cNvSpPr/>
            <p:nvPr/>
          </p:nvSpPr>
          <p:spPr>
            <a:xfrm>
              <a:off x="6453360" y="3319560"/>
              <a:ext cx="529920" cy="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7" name=""/>
            <p:cNvSpPr/>
            <p:nvPr/>
          </p:nvSpPr>
          <p:spPr>
            <a:xfrm flipH="1">
              <a:off x="7112160" y="2673360"/>
              <a:ext cx="2880" cy="54612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8" name=""/>
          <p:cNvGrpSpPr/>
          <p:nvPr/>
        </p:nvGrpSpPr>
        <p:grpSpPr>
          <a:xfrm>
            <a:off x="7608960" y="3905280"/>
            <a:ext cx="661680" cy="646200"/>
            <a:chOff x="7608960" y="3905280"/>
            <a:chExt cx="661680" cy="646200"/>
          </a:xfrm>
        </p:grpSpPr>
        <p:sp>
          <p:nvSpPr>
            <p:cNvPr id="1569" name=""/>
            <p:cNvSpPr/>
            <p:nvPr/>
          </p:nvSpPr>
          <p:spPr>
            <a:xfrm>
              <a:off x="7608960" y="4551480"/>
              <a:ext cx="530280" cy="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0" name=""/>
            <p:cNvSpPr/>
            <p:nvPr/>
          </p:nvSpPr>
          <p:spPr>
            <a:xfrm flipH="1">
              <a:off x="8267400" y="3905280"/>
              <a:ext cx="3240" cy="54612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71" name=""/>
          <p:cNvGrpSpPr/>
          <p:nvPr/>
        </p:nvGrpSpPr>
        <p:grpSpPr>
          <a:xfrm>
            <a:off x="7597800" y="2687760"/>
            <a:ext cx="661680" cy="645840"/>
            <a:chOff x="7597800" y="2687760"/>
            <a:chExt cx="661680" cy="645840"/>
          </a:xfrm>
        </p:grpSpPr>
        <p:sp>
          <p:nvSpPr>
            <p:cNvPr id="1572" name=""/>
            <p:cNvSpPr/>
            <p:nvPr/>
          </p:nvSpPr>
          <p:spPr>
            <a:xfrm>
              <a:off x="7597800" y="3333600"/>
              <a:ext cx="530280" cy="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3" name=""/>
            <p:cNvSpPr/>
            <p:nvPr/>
          </p:nvSpPr>
          <p:spPr>
            <a:xfrm flipH="1">
              <a:off x="8256240" y="2687760"/>
              <a:ext cx="3240" cy="54612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74" name=""/>
          <p:cNvSpPr/>
          <p:nvPr/>
        </p:nvSpPr>
        <p:spPr>
          <a:xfrm>
            <a:off x="6454800" y="2178000"/>
            <a:ext cx="530280" cy="0"/>
          </a:xfrm>
          <a:prstGeom prst="line">
            <a:avLst/>
          </a:prstGeom>
          <a:ln w="76320">
            <a:solidFill>
              <a:srgbClr val="ff33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"/>
          <p:cNvSpPr/>
          <p:nvPr/>
        </p:nvSpPr>
        <p:spPr>
          <a:xfrm>
            <a:off x="7599240" y="2192400"/>
            <a:ext cx="530280" cy="0"/>
          </a:xfrm>
          <a:prstGeom prst="line">
            <a:avLst/>
          </a:prstGeom>
          <a:ln w="76320">
            <a:solidFill>
              <a:srgbClr val="ff33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"/>
          <p:cNvSpPr/>
          <p:nvPr/>
        </p:nvSpPr>
        <p:spPr>
          <a:xfrm flipH="1">
            <a:off x="5955840" y="3892680"/>
            <a:ext cx="3240" cy="546120"/>
          </a:xfrm>
          <a:prstGeom prst="line">
            <a:avLst/>
          </a:prstGeom>
          <a:ln w="76320">
            <a:solidFill>
              <a:srgbClr val="ff33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"/>
          <p:cNvSpPr/>
          <p:nvPr/>
        </p:nvSpPr>
        <p:spPr>
          <a:xfrm flipH="1">
            <a:off x="5944680" y="2674800"/>
            <a:ext cx="3240" cy="546120"/>
          </a:xfrm>
          <a:prstGeom prst="line">
            <a:avLst/>
          </a:prstGeom>
          <a:ln w="76320">
            <a:solidFill>
              <a:srgbClr val="ff33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PlaceHolder 2"/>
          <p:cNvSpPr>
            <a:spLocks noGrp="1"/>
          </p:cNvSpPr>
          <p:nvPr>
            <p:ph/>
          </p:nvPr>
        </p:nvSpPr>
        <p:spPr>
          <a:xfrm>
            <a:off x="177480" y="1600200"/>
            <a:ext cx="560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orithm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ward pa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cess nodes in the increasing or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ss messages from lower neighbou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ckward pa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 the same in reverse or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near running time of one it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"/>
          <p:cNvSpPr/>
          <p:nvPr/>
        </p:nvSpPr>
        <p:spPr>
          <a:xfrm>
            <a:off x="7086600" y="4491000"/>
            <a:ext cx="360360" cy="360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"/>
          <p:cNvSpPr/>
          <p:nvPr/>
        </p:nvSpPr>
        <p:spPr>
          <a:xfrm>
            <a:off x="8244000" y="4492800"/>
            <a:ext cx="360360" cy="360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1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fficient implem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"/>
          <p:cNvSpPr/>
          <p:nvPr/>
        </p:nvSpPr>
        <p:spPr>
          <a:xfrm>
            <a:off x="5902200" y="3305160"/>
            <a:ext cx="433440" cy="433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"/>
          <p:cNvSpPr/>
          <p:nvPr/>
        </p:nvSpPr>
        <p:spPr>
          <a:xfrm>
            <a:off x="5962680" y="3336840"/>
            <a:ext cx="27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"/>
          <p:cNvSpPr/>
          <p:nvPr/>
        </p:nvSpPr>
        <p:spPr>
          <a:xfrm>
            <a:off x="7054920" y="3305160"/>
            <a:ext cx="433440" cy="433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"/>
          <p:cNvSpPr/>
          <p:nvPr/>
        </p:nvSpPr>
        <p:spPr>
          <a:xfrm>
            <a:off x="7115040" y="3336840"/>
            <a:ext cx="27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"/>
          <p:cNvSpPr/>
          <p:nvPr/>
        </p:nvSpPr>
        <p:spPr>
          <a:xfrm>
            <a:off x="8205840" y="3305160"/>
            <a:ext cx="433440" cy="433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"/>
          <p:cNvSpPr/>
          <p:nvPr/>
        </p:nvSpPr>
        <p:spPr>
          <a:xfrm>
            <a:off x="8265960" y="3336840"/>
            <a:ext cx="27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"/>
          <p:cNvSpPr/>
          <p:nvPr/>
        </p:nvSpPr>
        <p:spPr>
          <a:xfrm>
            <a:off x="5962680" y="4487760"/>
            <a:ext cx="27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"/>
          <p:cNvSpPr/>
          <p:nvPr/>
        </p:nvSpPr>
        <p:spPr>
          <a:xfrm>
            <a:off x="7054920" y="4456080"/>
            <a:ext cx="433440" cy="433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"/>
          <p:cNvSpPr/>
          <p:nvPr/>
        </p:nvSpPr>
        <p:spPr>
          <a:xfrm>
            <a:off x="7115040" y="4487760"/>
            <a:ext cx="27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"/>
          <p:cNvSpPr/>
          <p:nvPr/>
        </p:nvSpPr>
        <p:spPr>
          <a:xfrm>
            <a:off x="8205840" y="4456080"/>
            <a:ext cx="433440" cy="433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"/>
          <p:cNvSpPr/>
          <p:nvPr/>
        </p:nvSpPr>
        <p:spPr>
          <a:xfrm>
            <a:off x="8265960" y="4487760"/>
            <a:ext cx="27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"/>
          <p:cNvSpPr/>
          <p:nvPr/>
        </p:nvSpPr>
        <p:spPr>
          <a:xfrm>
            <a:off x="5902200" y="2152800"/>
            <a:ext cx="433440" cy="433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"/>
          <p:cNvSpPr/>
          <p:nvPr/>
        </p:nvSpPr>
        <p:spPr>
          <a:xfrm>
            <a:off x="5962680" y="2184480"/>
            <a:ext cx="27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"/>
          <p:cNvSpPr/>
          <p:nvPr/>
        </p:nvSpPr>
        <p:spPr>
          <a:xfrm>
            <a:off x="7054920" y="2152800"/>
            <a:ext cx="433440" cy="433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"/>
          <p:cNvSpPr/>
          <p:nvPr/>
        </p:nvSpPr>
        <p:spPr>
          <a:xfrm>
            <a:off x="7115040" y="2184480"/>
            <a:ext cx="27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"/>
          <p:cNvSpPr/>
          <p:nvPr/>
        </p:nvSpPr>
        <p:spPr>
          <a:xfrm>
            <a:off x="8205840" y="2152800"/>
            <a:ext cx="433440" cy="433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"/>
          <p:cNvSpPr/>
          <p:nvPr/>
        </p:nvSpPr>
        <p:spPr>
          <a:xfrm>
            <a:off x="8265960" y="2184480"/>
            <a:ext cx="27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"/>
          <p:cNvSpPr/>
          <p:nvPr/>
        </p:nvSpPr>
        <p:spPr>
          <a:xfrm>
            <a:off x="6335640" y="2368440"/>
            <a:ext cx="72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"/>
          <p:cNvSpPr/>
          <p:nvPr/>
        </p:nvSpPr>
        <p:spPr>
          <a:xfrm>
            <a:off x="7486560" y="2368440"/>
            <a:ext cx="72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"/>
          <p:cNvSpPr/>
          <p:nvPr/>
        </p:nvSpPr>
        <p:spPr>
          <a:xfrm>
            <a:off x="7488360" y="3519360"/>
            <a:ext cx="72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"/>
          <p:cNvSpPr/>
          <p:nvPr/>
        </p:nvSpPr>
        <p:spPr>
          <a:xfrm>
            <a:off x="6335640" y="3519360"/>
            <a:ext cx="72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"/>
          <p:cNvSpPr/>
          <p:nvPr/>
        </p:nvSpPr>
        <p:spPr>
          <a:xfrm flipH="1">
            <a:off x="6335640" y="4672080"/>
            <a:ext cx="72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"/>
          <p:cNvSpPr/>
          <p:nvPr/>
        </p:nvSpPr>
        <p:spPr>
          <a:xfrm flipH="1">
            <a:off x="7488360" y="4672080"/>
            <a:ext cx="72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"/>
          <p:cNvSpPr/>
          <p:nvPr/>
        </p:nvSpPr>
        <p:spPr>
          <a:xfrm>
            <a:off x="6119640" y="3735360"/>
            <a:ext cx="0" cy="72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"/>
          <p:cNvSpPr/>
          <p:nvPr/>
        </p:nvSpPr>
        <p:spPr>
          <a:xfrm>
            <a:off x="6119640" y="2584440"/>
            <a:ext cx="0" cy="72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"/>
          <p:cNvSpPr/>
          <p:nvPr/>
        </p:nvSpPr>
        <p:spPr>
          <a:xfrm>
            <a:off x="7272360" y="2584440"/>
            <a:ext cx="0" cy="72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"/>
          <p:cNvSpPr/>
          <p:nvPr/>
        </p:nvSpPr>
        <p:spPr>
          <a:xfrm>
            <a:off x="8423280" y="2584440"/>
            <a:ext cx="0" cy="72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"/>
          <p:cNvSpPr/>
          <p:nvPr/>
        </p:nvSpPr>
        <p:spPr>
          <a:xfrm flipV="1">
            <a:off x="8423280" y="3735360"/>
            <a:ext cx="0" cy="72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"/>
          <p:cNvSpPr/>
          <p:nvPr/>
        </p:nvSpPr>
        <p:spPr>
          <a:xfrm flipV="1">
            <a:off x="7272360" y="3736440"/>
            <a:ext cx="0" cy="72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" name=""/>
          <p:cNvSpPr/>
          <p:nvPr/>
        </p:nvSpPr>
        <p:spPr>
          <a:xfrm>
            <a:off x="5902200" y="4456080"/>
            <a:ext cx="433440" cy="433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" name=""/>
          <p:cNvSpPr/>
          <p:nvPr/>
        </p:nvSpPr>
        <p:spPr>
          <a:xfrm>
            <a:off x="395280" y="1146240"/>
            <a:ext cx="835344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3" name=""/>
          <p:cNvGrpSpPr/>
          <p:nvPr/>
        </p:nvGrpSpPr>
        <p:grpSpPr>
          <a:xfrm>
            <a:off x="5942160" y="4489560"/>
            <a:ext cx="975960" cy="365040"/>
            <a:chOff x="5942160" y="4489560"/>
            <a:chExt cx="975960" cy="365040"/>
          </a:xfrm>
        </p:grpSpPr>
        <p:sp>
          <p:nvSpPr>
            <p:cNvPr id="1614" name=""/>
            <p:cNvSpPr/>
            <p:nvPr/>
          </p:nvSpPr>
          <p:spPr>
            <a:xfrm>
              <a:off x="5942160" y="4489560"/>
              <a:ext cx="360360" cy="360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5" name=""/>
            <p:cNvSpPr/>
            <p:nvPr/>
          </p:nvSpPr>
          <p:spPr>
            <a:xfrm flipH="1">
              <a:off x="6387840" y="4854600"/>
              <a:ext cx="530280" cy="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16" name=""/>
          <p:cNvGrpSpPr/>
          <p:nvPr/>
        </p:nvGrpSpPr>
        <p:grpSpPr>
          <a:xfrm>
            <a:off x="8245440" y="3338640"/>
            <a:ext cx="360360" cy="1049040"/>
            <a:chOff x="8245440" y="3338640"/>
            <a:chExt cx="360360" cy="1049040"/>
          </a:xfrm>
        </p:grpSpPr>
        <p:sp>
          <p:nvSpPr>
            <p:cNvPr id="1617" name=""/>
            <p:cNvSpPr/>
            <p:nvPr/>
          </p:nvSpPr>
          <p:spPr>
            <a:xfrm>
              <a:off x="8245440" y="3338640"/>
              <a:ext cx="360360" cy="360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8" name=""/>
            <p:cNvSpPr/>
            <p:nvPr/>
          </p:nvSpPr>
          <p:spPr>
            <a:xfrm flipH="1" flipV="1">
              <a:off x="8584920" y="3841920"/>
              <a:ext cx="3240" cy="54576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19" name=""/>
          <p:cNvGrpSpPr/>
          <p:nvPr/>
        </p:nvGrpSpPr>
        <p:grpSpPr>
          <a:xfrm>
            <a:off x="7089840" y="3338640"/>
            <a:ext cx="961560" cy="1034640"/>
            <a:chOff x="7089840" y="3338640"/>
            <a:chExt cx="961560" cy="1034640"/>
          </a:xfrm>
        </p:grpSpPr>
        <p:sp>
          <p:nvSpPr>
            <p:cNvPr id="1620" name=""/>
            <p:cNvSpPr/>
            <p:nvPr/>
          </p:nvSpPr>
          <p:spPr>
            <a:xfrm>
              <a:off x="7089840" y="3338640"/>
              <a:ext cx="360360" cy="360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1" name=""/>
            <p:cNvSpPr/>
            <p:nvPr/>
          </p:nvSpPr>
          <p:spPr>
            <a:xfrm flipH="1" flipV="1">
              <a:off x="7440120" y="3827160"/>
              <a:ext cx="3240" cy="54612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2" name=""/>
            <p:cNvSpPr/>
            <p:nvPr/>
          </p:nvSpPr>
          <p:spPr>
            <a:xfrm flipH="1">
              <a:off x="7521120" y="3676680"/>
              <a:ext cx="530280" cy="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3" name=""/>
          <p:cNvGrpSpPr/>
          <p:nvPr/>
        </p:nvGrpSpPr>
        <p:grpSpPr>
          <a:xfrm>
            <a:off x="8244000" y="2193840"/>
            <a:ext cx="360360" cy="975960"/>
            <a:chOff x="8244000" y="2193840"/>
            <a:chExt cx="360360" cy="975960"/>
          </a:xfrm>
        </p:grpSpPr>
        <p:sp>
          <p:nvSpPr>
            <p:cNvPr id="1624" name=""/>
            <p:cNvSpPr/>
            <p:nvPr/>
          </p:nvSpPr>
          <p:spPr>
            <a:xfrm>
              <a:off x="8244000" y="2193840"/>
              <a:ext cx="360360" cy="360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5" name=""/>
            <p:cNvSpPr/>
            <p:nvPr/>
          </p:nvSpPr>
          <p:spPr>
            <a:xfrm flipH="1" flipV="1">
              <a:off x="8573760" y="2623680"/>
              <a:ext cx="3240" cy="54612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6" name=""/>
          <p:cNvGrpSpPr/>
          <p:nvPr/>
        </p:nvGrpSpPr>
        <p:grpSpPr>
          <a:xfrm>
            <a:off x="7088040" y="2193840"/>
            <a:ext cx="965160" cy="961920"/>
            <a:chOff x="7088040" y="2193840"/>
            <a:chExt cx="965160" cy="961920"/>
          </a:xfrm>
        </p:grpSpPr>
        <p:sp>
          <p:nvSpPr>
            <p:cNvPr id="1627" name=""/>
            <p:cNvSpPr/>
            <p:nvPr/>
          </p:nvSpPr>
          <p:spPr>
            <a:xfrm>
              <a:off x="7088040" y="2193840"/>
              <a:ext cx="360360" cy="360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8" name=""/>
            <p:cNvSpPr/>
            <p:nvPr/>
          </p:nvSpPr>
          <p:spPr>
            <a:xfrm flipH="1" flipV="1">
              <a:off x="7429680" y="2609640"/>
              <a:ext cx="2880" cy="54612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9" name=""/>
            <p:cNvSpPr/>
            <p:nvPr/>
          </p:nvSpPr>
          <p:spPr>
            <a:xfrm flipH="1">
              <a:off x="7522920" y="2535120"/>
              <a:ext cx="530280" cy="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0" name=""/>
          <p:cNvGrpSpPr/>
          <p:nvPr/>
        </p:nvGrpSpPr>
        <p:grpSpPr>
          <a:xfrm>
            <a:off x="5945040" y="3336840"/>
            <a:ext cx="961920" cy="1037880"/>
            <a:chOff x="5945040" y="3336840"/>
            <a:chExt cx="961920" cy="1037880"/>
          </a:xfrm>
        </p:grpSpPr>
        <p:sp>
          <p:nvSpPr>
            <p:cNvPr id="1631" name=""/>
            <p:cNvSpPr/>
            <p:nvPr/>
          </p:nvSpPr>
          <p:spPr>
            <a:xfrm>
              <a:off x="5945040" y="3336840"/>
              <a:ext cx="360360" cy="360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 flipH="1">
              <a:off x="6376680" y="3662280"/>
              <a:ext cx="530280" cy="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3" name=""/>
            <p:cNvSpPr/>
            <p:nvPr/>
          </p:nvSpPr>
          <p:spPr>
            <a:xfrm flipH="1" flipV="1">
              <a:off x="6273360" y="3828600"/>
              <a:ext cx="3240" cy="54612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4" name=""/>
          <p:cNvGrpSpPr/>
          <p:nvPr/>
        </p:nvGrpSpPr>
        <p:grpSpPr>
          <a:xfrm>
            <a:off x="5943600" y="2192400"/>
            <a:ext cx="964800" cy="964800"/>
            <a:chOff x="5943600" y="2192400"/>
            <a:chExt cx="964800" cy="964800"/>
          </a:xfrm>
        </p:grpSpPr>
        <p:sp>
          <p:nvSpPr>
            <p:cNvPr id="1635" name=""/>
            <p:cNvSpPr/>
            <p:nvPr/>
          </p:nvSpPr>
          <p:spPr>
            <a:xfrm>
              <a:off x="5943600" y="2192400"/>
              <a:ext cx="360360" cy="360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6" name=""/>
            <p:cNvSpPr/>
            <p:nvPr/>
          </p:nvSpPr>
          <p:spPr>
            <a:xfrm flipH="1">
              <a:off x="6378120" y="2521080"/>
              <a:ext cx="530280" cy="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 flipH="1" flipV="1">
              <a:off x="6262200" y="2611080"/>
              <a:ext cx="3240" cy="54612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8" name="PlaceHolder 2"/>
          <p:cNvSpPr>
            <a:spLocks noGrp="1"/>
          </p:cNvSpPr>
          <p:nvPr>
            <p:ph/>
          </p:nvPr>
        </p:nvSpPr>
        <p:spPr>
          <a:xfrm>
            <a:off x="177480" y="1600200"/>
            <a:ext cx="560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orithm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ward pa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cess nodes in the increasing or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ss messages from lower neighbou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ckward pa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 the same in reverse or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near running time of one it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9" name=""/>
          <p:cNvGrpSpPr/>
          <p:nvPr/>
        </p:nvGrpSpPr>
        <p:grpSpPr>
          <a:xfrm>
            <a:off x="7086600" y="4491000"/>
            <a:ext cx="975960" cy="378000"/>
            <a:chOff x="7086600" y="4491000"/>
            <a:chExt cx="975960" cy="378000"/>
          </a:xfrm>
        </p:grpSpPr>
        <p:sp>
          <p:nvSpPr>
            <p:cNvPr id="1640" name=""/>
            <p:cNvSpPr/>
            <p:nvPr/>
          </p:nvSpPr>
          <p:spPr>
            <a:xfrm flipH="1">
              <a:off x="7532280" y="4869000"/>
              <a:ext cx="530280" cy="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7086600" y="4491000"/>
              <a:ext cx="360360" cy="360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42" name=""/>
          <p:cNvSpPr/>
          <p:nvPr/>
        </p:nvSpPr>
        <p:spPr>
          <a:xfrm>
            <a:off x="8244000" y="4492800"/>
            <a:ext cx="360360" cy="360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mory require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PlaceHolder 2"/>
          <p:cNvSpPr>
            <a:spLocks noGrp="1"/>
          </p:cNvSpPr>
          <p:nvPr>
            <p:ph/>
          </p:nvPr>
        </p:nvSpPr>
        <p:spPr>
          <a:xfrm>
            <a:off x="457200" y="1251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tional advantage of TRW-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eds only half as much memory as standard message passing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ilar observation for bipartite graphs and parallel schedule was made in [Felzenszwalb&amp;Huttenlocher’04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45" name=""/>
          <p:cNvGrpSpPr/>
          <p:nvPr/>
        </p:nvGrpSpPr>
        <p:grpSpPr>
          <a:xfrm>
            <a:off x="5327640" y="4473720"/>
            <a:ext cx="2376360" cy="1671480"/>
            <a:chOff x="5327640" y="4473720"/>
            <a:chExt cx="2376360" cy="1671480"/>
          </a:xfrm>
        </p:grpSpPr>
        <p:grpSp>
          <p:nvGrpSpPr>
            <p:cNvPr id="1646" name=""/>
            <p:cNvGrpSpPr/>
            <p:nvPr/>
          </p:nvGrpSpPr>
          <p:grpSpPr>
            <a:xfrm>
              <a:off x="5327640" y="4473720"/>
              <a:ext cx="2376360" cy="1671480"/>
              <a:chOff x="5327640" y="4473720"/>
              <a:chExt cx="2376360" cy="1671480"/>
            </a:xfrm>
          </p:grpSpPr>
          <p:sp>
            <p:nvSpPr>
              <p:cNvPr id="1647" name=""/>
              <p:cNvSpPr/>
              <p:nvPr/>
            </p:nvSpPr>
            <p:spPr>
              <a:xfrm>
                <a:off x="5327640" y="4473720"/>
                <a:ext cx="263520" cy="2635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8" name=""/>
              <p:cNvSpPr/>
              <p:nvPr/>
            </p:nvSpPr>
            <p:spPr>
              <a:xfrm>
                <a:off x="5327640" y="5178240"/>
                <a:ext cx="263520" cy="2635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9" name=""/>
              <p:cNvSpPr/>
              <p:nvPr/>
            </p:nvSpPr>
            <p:spPr>
              <a:xfrm>
                <a:off x="5327640" y="5881680"/>
                <a:ext cx="263520" cy="2635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0" name=""/>
              <p:cNvSpPr/>
              <p:nvPr/>
            </p:nvSpPr>
            <p:spPr>
              <a:xfrm>
                <a:off x="6032520" y="4473720"/>
                <a:ext cx="263520" cy="2635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1" name=""/>
              <p:cNvSpPr/>
              <p:nvPr/>
            </p:nvSpPr>
            <p:spPr>
              <a:xfrm>
                <a:off x="6032520" y="5178240"/>
                <a:ext cx="263520" cy="2635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2" name=""/>
              <p:cNvSpPr/>
              <p:nvPr/>
            </p:nvSpPr>
            <p:spPr>
              <a:xfrm>
                <a:off x="6032520" y="5881680"/>
                <a:ext cx="263520" cy="2635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3" name=""/>
              <p:cNvSpPr/>
              <p:nvPr/>
            </p:nvSpPr>
            <p:spPr>
              <a:xfrm>
                <a:off x="6735600" y="4473720"/>
                <a:ext cx="263520" cy="2635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4" name=""/>
              <p:cNvSpPr/>
              <p:nvPr/>
            </p:nvSpPr>
            <p:spPr>
              <a:xfrm>
                <a:off x="6735600" y="5178240"/>
                <a:ext cx="263520" cy="2635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5" name=""/>
              <p:cNvSpPr/>
              <p:nvPr/>
            </p:nvSpPr>
            <p:spPr>
              <a:xfrm>
                <a:off x="6735600" y="5881680"/>
                <a:ext cx="263520" cy="2635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6" name=""/>
              <p:cNvSpPr/>
              <p:nvPr/>
            </p:nvSpPr>
            <p:spPr>
              <a:xfrm>
                <a:off x="7440480" y="4473720"/>
                <a:ext cx="263520" cy="2635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7" name=""/>
              <p:cNvSpPr/>
              <p:nvPr/>
            </p:nvSpPr>
            <p:spPr>
              <a:xfrm>
                <a:off x="7440480" y="5178240"/>
                <a:ext cx="263520" cy="2635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8" name=""/>
              <p:cNvSpPr/>
              <p:nvPr/>
            </p:nvSpPr>
            <p:spPr>
              <a:xfrm>
                <a:off x="7440480" y="5881680"/>
                <a:ext cx="263520" cy="2635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9" name=""/>
              <p:cNvSpPr/>
              <p:nvPr/>
            </p:nvSpPr>
            <p:spPr>
              <a:xfrm>
                <a:off x="5459400" y="6013440"/>
                <a:ext cx="2112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0" name=""/>
              <p:cNvSpPr/>
              <p:nvPr/>
            </p:nvSpPr>
            <p:spPr>
              <a:xfrm>
                <a:off x="5459400" y="5310000"/>
                <a:ext cx="2112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1" name=""/>
              <p:cNvSpPr/>
              <p:nvPr/>
            </p:nvSpPr>
            <p:spPr>
              <a:xfrm>
                <a:off x="5459400" y="4605480"/>
                <a:ext cx="2112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2" name=""/>
              <p:cNvSpPr/>
              <p:nvPr/>
            </p:nvSpPr>
            <p:spPr>
              <a:xfrm flipV="1">
                <a:off x="7572240" y="4605120"/>
                <a:ext cx="0" cy="1417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3" name=""/>
              <p:cNvSpPr/>
              <p:nvPr/>
            </p:nvSpPr>
            <p:spPr>
              <a:xfrm flipV="1">
                <a:off x="6867360" y="4605120"/>
                <a:ext cx="0" cy="1417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4" name=""/>
              <p:cNvSpPr/>
              <p:nvPr/>
            </p:nvSpPr>
            <p:spPr>
              <a:xfrm flipV="1">
                <a:off x="6164280" y="4605480"/>
                <a:ext cx="0" cy="1380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5" name=""/>
              <p:cNvSpPr/>
              <p:nvPr/>
            </p:nvSpPr>
            <p:spPr>
              <a:xfrm flipV="1">
                <a:off x="5459400" y="4605480"/>
                <a:ext cx="0" cy="1380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66" name=""/>
            <p:cNvSpPr/>
            <p:nvPr/>
          </p:nvSpPr>
          <p:spPr>
            <a:xfrm>
              <a:off x="5614920" y="4510080"/>
              <a:ext cx="43200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6335640" y="4510080"/>
              <a:ext cx="43200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7020000" y="4510080"/>
              <a:ext cx="43164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5614920" y="5230800"/>
              <a:ext cx="43200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6335640" y="5230800"/>
              <a:ext cx="43200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7020000" y="5230800"/>
              <a:ext cx="43164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5614920" y="5915160"/>
              <a:ext cx="43200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3" name=""/>
            <p:cNvSpPr/>
            <p:nvPr/>
          </p:nvSpPr>
          <p:spPr>
            <a:xfrm flipH="1">
              <a:off x="6300720" y="6094440"/>
              <a:ext cx="43200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4" name=""/>
            <p:cNvSpPr/>
            <p:nvPr/>
          </p:nvSpPr>
          <p:spPr>
            <a:xfrm flipH="1">
              <a:off x="6984720" y="6094440"/>
              <a:ext cx="43164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5" name=""/>
            <p:cNvSpPr/>
            <p:nvPr/>
          </p:nvSpPr>
          <p:spPr>
            <a:xfrm flipV="1">
              <a:off x="6769080" y="5413320"/>
              <a:ext cx="0" cy="432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6" name=""/>
            <p:cNvSpPr/>
            <p:nvPr/>
          </p:nvSpPr>
          <p:spPr>
            <a:xfrm flipV="1">
              <a:off x="7488360" y="5413320"/>
              <a:ext cx="0" cy="432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5543640" y="5448240"/>
              <a:ext cx="0" cy="432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5543640" y="4764240"/>
              <a:ext cx="0" cy="4316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6264360" y="5448240"/>
              <a:ext cx="0" cy="432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6264360" y="4764240"/>
              <a:ext cx="0" cy="4316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6948360" y="4764240"/>
              <a:ext cx="0" cy="4316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7667640" y="4764240"/>
              <a:ext cx="0" cy="4316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3" name=""/>
          <p:cNvGrpSpPr/>
          <p:nvPr/>
        </p:nvGrpSpPr>
        <p:grpSpPr>
          <a:xfrm>
            <a:off x="1655640" y="4473720"/>
            <a:ext cx="2376360" cy="1671480"/>
            <a:chOff x="1655640" y="4473720"/>
            <a:chExt cx="2376360" cy="1671480"/>
          </a:xfrm>
        </p:grpSpPr>
        <p:grpSp>
          <p:nvGrpSpPr>
            <p:cNvPr id="1684" name=""/>
            <p:cNvGrpSpPr/>
            <p:nvPr/>
          </p:nvGrpSpPr>
          <p:grpSpPr>
            <a:xfrm>
              <a:off x="1655640" y="4473720"/>
              <a:ext cx="2376360" cy="1671480"/>
              <a:chOff x="1655640" y="4473720"/>
              <a:chExt cx="2376360" cy="1671480"/>
            </a:xfrm>
          </p:grpSpPr>
          <p:sp>
            <p:nvSpPr>
              <p:cNvPr id="1685" name=""/>
              <p:cNvSpPr/>
              <p:nvPr/>
            </p:nvSpPr>
            <p:spPr>
              <a:xfrm>
                <a:off x="1655640" y="4473720"/>
                <a:ext cx="263520" cy="2635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6" name=""/>
              <p:cNvSpPr/>
              <p:nvPr/>
            </p:nvSpPr>
            <p:spPr>
              <a:xfrm>
                <a:off x="1655640" y="5178240"/>
                <a:ext cx="263520" cy="2635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7" name=""/>
              <p:cNvSpPr/>
              <p:nvPr/>
            </p:nvSpPr>
            <p:spPr>
              <a:xfrm>
                <a:off x="1655640" y="5881680"/>
                <a:ext cx="263520" cy="2635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8" name=""/>
              <p:cNvSpPr/>
              <p:nvPr/>
            </p:nvSpPr>
            <p:spPr>
              <a:xfrm>
                <a:off x="2360520" y="4473720"/>
                <a:ext cx="263520" cy="2635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9" name=""/>
              <p:cNvSpPr/>
              <p:nvPr/>
            </p:nvSpPr>
            <p:spPr>
              <a:xfrm>
                <a:off x="2360520" y="5178240"/>
                <a:ext cx="263520" cy="2635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0" name=""/>
              <p:cNvSpPr/>
              <p:nvPr/>
            </p:nvSpPr>
            <p:spPr>
              <a:xfrm>
                <a:off x="2360520" y="5881680"/>
                <a:ext cx="263520" cy="2635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1" name=""/>
              <p:cNvSpPr/>
              <p:nvPr/>
            </p:nvSpPr>
            <p:spPr>
              <a:xfrm>
                <a:off x="3063600" y="4473720"/>
                <a:ext cx="263520" cy="2635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2" name=""/>
              <p:cNvSpPr/>
              <p:nvPr/>
            </p:nvSpPr>
            <p:spPr>
              <a:xfrm>
                <a:off x="3063600" y="5178240"/>
                <a:ext cx="263520" cy="2635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3" name=""/>
              <p:cNvSpPr/>
              <p:nvPr/>
            </p:nvSpPr>
            <p:spPr>
              <a:xfrm>
                <a:off x="3063600" y="5881680"/>
                <a:ext cx="263520" cy="2635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4" name=""/>
              <p:cNvSpPr/>
              <p:nvPr/>
            </p:nvSpPr>
            <p:spPr>
              <a:xfrm>
                <a:off x="3768480" y="4473720"/>
                <a:ext cx="263520" cy="2635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5" name=""/>
              <p:cNvSpPr/>
              <p:nvPr/>
            </p:nvSpPr>
            <p:spPr>
              <a:xfrm>
                <a:off x="3768480" y="5178240"/>
                <a:ext cx="263520" cy="2635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6" name=""/>
              <p:cNvSpPr/>
              <p:nvPr/>
            </p:nvSpPr>
            <p:spPr>
              <a:xfrm>
                <a:off x="3768480" y="5881680"/>
                <a:ext cx="263520" cy="2635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7" name=""/>
              <p:cNvSpPr/>
              <p:nvPr/>
            </p:nvSpPr>
            <p:spPr>
              <a:xfrm>
                <a:off x="1787400" y="6013440"/>
                <a:ext cx="2112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8" name=""/>
              <p:cNvSpPr/>
              <p:nvPr/>
            </p:nvSpPr>
            <p:spPr>
              <a:xfrm>
                <a:off x="1787400" y="5310000"/>
                <a:ext cx="2112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9" name=""/>
              <p:cNvSpPr/>
              <p:nvPr/>
            </p:nvSpPr>
            <p:spPr>
              <a:xfrm>
                <a:off x="1787400" y="4605480"/>
                <a:ext cx="2112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0" name=""/>
              <p:cNvSpPr/>
              <p:nvPr/>
            </p:nvSpPr>
            <p:spPr>
              <a:xfrm flipV="1">
                <a:off x="3900240" y="4605120"/>
                <a:ext cx="0" cy="1417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1" name=""/>
              <p:cNvSpPr/>
              <p:nvPr/>
            </p:nvSpPr>
            <p:spPr>
              <a:xfrm flipV="1">
                <a:off x="3195360" y="4605120"/>
                <a:ext cx="0" cy="1417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2" name=""/>
              <p:cNvSpPr/>
              <p:nvPr/>
            </p:nvSpPr>
            <p:spPr>
              <a:xfrm flipV="1">
                <a:off x="2492280" y="4605480"/>
                <a:ext cx="0" cy="1380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3" name=""/>
              <p:cNvSpPr/>
              <p:nvPr/>
            </p:nvSpPr>
            <p:spPr>
              <a:xfrm flipV="1">
                <a:off x="1787400" y="4605480"/>
                <a:ext cx="0" cy="1380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4" name=""/>
            <p:cNvSpPr/>
            <p:nvPr/>
          </p:nvSpPr>
          <p:spPr>
            <a:xfrm>
              <a:off x="1943280" y="4510080"/>
              <a:ext cx="43164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5" name=""/>
            <p:cNvSpPr/>
            <p:nvPr/>
          </p:nvSpPr>
          <p:spPr>
            <a:xfrm>
              <a:off x="2664000" y="4510080"/>
              <a:ext cx="43164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6" name=""/>
            <p:cNvSpPr/>
            <p:nvPr/>
          </p:nvSpPr>
          <p:spPr>
            <a:xfrm>
              <a:off x="3348000" y="4510080"/>
              <a:ext cx="43200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7" name=""/>
            <p:cNvSpPr/>
            <p:nvPr/>
          </p:nvSpPr>
          <p:spPr>
            <a:xfrm>
              <a:off x="1943280" y="5230800"/>
              <a:ext cx="43164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8" name=""/>
            <p:cNvSpPr/>
            <p:nvPr/>
          </p:nvSpPr>
          <p:spPr>
            <a:xfrm>
              <a:off x="2664000" y="5230800"/>
              <a:ext cx="43164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9" name=""/>
            <p:cNvSpPr/>
            <p:nvPr/>
          </p:nvSpPr>
          <p:spPr>
            <a:xfrm>
              <a:off x="3348000" y="5230800"/>
              <a:ext cx="43200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0" name=""/>
            <p:cNvSpPr/>
            <p:nvPr/>
          </p:nvSpPr>
          <p:spPr>
            <a:xfrm>
              <a:off x="1943280" y="5915160"/>
              <a:ext cx="43164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1" name=""/>
            <p:cNvSpPr/>
            <p:nvPr/>
          </p:nvSpPr>
          <p:spPr>
            <a:xfrm>
              <a:off x="2664000" y="5915160"/>
              <a:ext cx="43164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2" name=""/>
            <p:cNvSpPr/>
            <p:nvPr/>
          </p:nvSpPr>
          <p:spPr>
            <a:xfrm>
              <a:off x="3348000" y="5915160"/>
              <a:ext cx="43200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3" name=""/>
            <p:cNvSpPr/>
            <p:nvPr/>
          </p:nvSpPr>
          <p:spPr>
            <a:xfrm flipH="1">
              <a:off x="1908000" y="4689360"/>
              <a:ext cx="43200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4" name=""/>
            <p:cNvSpPr/>
            <p:nvPr/>
          </p:nvSpPr>
          <p:spPr>
            <a:xfrm flipH="1">
              <a:off x="2628720" y="4689360"/>
              <a:ext cx="43164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5" name=""/>
            <p:cNvSpPr/>
            <p:nvPr/>
          </p:nvSpPr>
          <p:spPr>
            <a:xfrm flipH="1">
              <a:off x="3313080" y="4689360"/>
              <a:ext cx="43200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6" name=""/>
            <p:cNvSpPr/>
            <p:nvPr/>
          </p:nvSpPr>
          <p:spPr>
            <a:xfrm flipH="1">
              <a:off x="1908000" y="5410080"/>
              <a:ext cx="43200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7" name=""/>
            <p:cNvSpPr/>
            <p:nvPr/>
          </p:nvSpPr>
          <p:spPr>
            <a:xfrm flipH="1">
              <a:off x="2628720" y="5410080"/>
              <a:ext cx="43164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8" name=""/>
            <p:cNvSpPr/>
            <p:nvPr/>
          </p:nvSpPr>
          <p:spPr>
            <a:xfrm flipH="1">
              <a:off x="3313080" y="5410080"/>
              <a:ext cx="43200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9" name=""/>
            <p:cNvSpPr/>
            <p:nvPr/>
          </p:nvSpPr>
          <p:spPr>
            <a:xfrm flipH="1">
              <a:off x="1908000" y="6094440"/>
              <a:ext cx="43200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0" name=""/>
            <p:cNvSpPr/>
            <p:nvPr/>
          </p:nvSpPr>
          <p:spPr>
            <a:xfrm flipH="1">
              <a:off x="2628720" y="6094440"/>
              <a:ext cx="43164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1" name=""/>
            <p:cNvSpPr/>
            <p:nvPr/>
          </p:nvSpPr>
          <p:spPr>
            <a:xfrm flipH="1">
              <a:off x="3313080" y="6094440"/>
              <a:ext cx="43200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2" name=""/>
            <p:cNvSpPr/>
            <p:nvPr/>
          </p:nvSpPr>
          <p:spPr>
            <a:xfrm flipV="1">
              <a:off x="1692360" y="5413320"/>
              <a:ext cx="0" cy="432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3" name=""/>
            <p:cNvSpPr/>
            <p:nvPr/>
          </p:nvSpPr>
          <p:spPr>
            <a:xfrm flipV="1">
              <a:off x="1692360" y="4728960"/>
              <a:ext cx="0" cy="4316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4" name=""/>
            <p:cNvSpPr/>
            <p:nvPr/>
          </p:nvSpPr>
          <p:spPr>
            <a:xfrm flipV="1">
              <a:off x="2413080" y="5413320"/>
              <a:ext cx="0" cy="432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5" name=""/>
            <p:cNvSpPr/>
            <p:nvPr/>
          </p:nvSpPr>
          <p:spPr>
            <a:xfrm flipV="1">
              <a:off x="2413080" y="4728960"/>
              <a:ext cx="0" cy="4316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6" name=""/>
            <p:cNvSpPr/>
            <p:nvPr/>
          </p:nvSpPr>
          <p:spPr>
            <a:xfrm flipV="1">
              <a:off x="3097080" y="5413320"/>
              <a:ext cx="0" cy="432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7" name=""/>
            <p:cNvSpPr/>
            <p:nvPr/>
          </p:nvSpPr>
          <p:spPr>
            <a:xfrm flipV="1">
              <a:off x="3097080" y="4728960"/>
              <a:ext cx="0" cy="4316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8" name=""/>
            <p:cNvSpPr/>
            <p:nvPr/>
          </p:nvSpPr>
          <p:spPr>
            <a:xfrm flipV="1">
              <a:off x="3816360" y="5413320"/>
              <a:ext cx="0" cy="432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9" name=""/>
            <p:cNvSpPr/>
            <p:nvPr/>
          </p:nvSpPr>
          <p:spPr>
            <a:xfrm flipV="1">
              <a:off x="3816360" y="4728960"/>
              <a:ext cx="0" cy="4316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0" name=""/>
            <p:cNvSpPr/>
            <p:nvPr/>
          </p:nvSpPr>
          <p:spPr>
            <a:xfrm>
              <a:off x="1871640" y="5448240"/>
              <a:ext cx="0" cy="432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1" name=""/>
            <p:cNvSpPr/>
            <p:nvPr/>
          </p:nvSpPr>
          <p:spPr>
            <a:xfrm>
              <a:off x="1871640" y="4764240"/>
              <a:ext cx="0" cy="4316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2" name=""/>
            <p:cNvSpPr/>
            <p:nvPr/>
          </p:nvSpPr>
          <p:spPr>
            <a:xfrm>
              <a:off x="2592360" y="5448240"/>
              <a:ext cx="0" cy="432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3" name=""/>
            <p:cNvSpPr/>
            <p:nvPr/>
          </p:nvSpPr>
          <p:spPr>
            <a:xfrm>
              <a:off x="2592360" y="4764240"/>
              <a:ext cx="0" cy="4316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4" name=""/>
            <p:cNvSpPr/>
            <p:nvPr/>
          </p:nvSpPr>
          <p:spPr>
            <a:xfrm>
              <a:off x="3276720" y="5448240"/>
              <a:ext cx="0" cy="432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5" name=""/>
            <p:cNvSpPr/>
            <p:nvPr/>
          </p:nvSpPr>
          <p:spPr>
            <a:xfrm>
              <a:off x="3276720" y="4764240"/>
              <a:ext cx="0" cy="4316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6" name=""/>
            <p:cNvSpPr/>
            <p:nvPr/>
          </p:nvSpPr>
          <p:spPr>
            <a:xfrm>
              <a:off x="3995640" y="5448240"/>
              <a:ext cx="0" cy="432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7" name=""/>
            <p:cNvSpPr/>
            <p:nvPr/>
          </p:nvSpPr>
          <p:spPr>
            <a:xfrm>
              <a:off x="3995640" y="4764240"/>
              <a:ext cx="0" cy="4316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8" name=""/>
          <p:cNvSpPr/>
          <p:nvPr/>
        </p:nvSpPr>
        <p:spPr>
          <a:xfrm>
            <a:off x="1625760" y="6257880"/>
            <a:ext cx="253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ndard message pa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"/>
          <p:cNvSpPr/>
          <p:nvPr/>
        </p:nvSpPr>
        <p:spPr>
          <a:xfrm>
            <a:off x="6135480" y="6267600"/>
            <a:ext cx="89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W-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"/>
          <p:cNvSpPr/>
          <p:nvPr/>
        </p:nvSpPr>
        <p:spPr>
          <a:xfrm>
            <a:off x="395280" y="1146240"/>
            <a:ext cx="835344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1" name="PlaceHolder 1"/>
          <p:cNvSpPr>
            <a:spLocks noGrp="1"/>
          </p:cNvSpPr>
          <p:nvPr>
            <p:ph type="title"/>
          </p:nvPr>
        </p:nvSpPr>
        <p:spPr>
          <a:xfrm>
            <a:off x="457200" y="-28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xperimental results: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inary segmentation (“GrabCut”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2" name="" descr=""/>
          <p:cNvPicPr/>
          <p:nvPr/>
        </p:nvPicPr>
        <p:blipFill>
          <a:blip r:embed="rId1"/>
          <a:stretch/>
        </p:blipFill>
        <p:spPr>
          <a:xfrm>
            <a:off x="784080" y="1425600"/>
            <a:ext cx="7301160" cy="5475240"/>
          </a:xfrm>
          <a:prstGeom prst="rect">
            <a:avLst/>
          </a:prstGeom>
          <a:ln w="0">
            <a:noFill/>
          </a:ln>
        </p:spPr>
      </p:pic>
      <p:pic>
        <p:nvPicPr>
          <p:cNvPr id="1743" name="" descr=""/>
          <p:cNvPicPr/>
          <p:nvPr/>
        </p:nvPicPr>
        <p:blipFill>
          <a:blip r:embed="rId2"/>
          <a:stretch/>
        </p:blipFill>
        <p:spPr>
          <a:xfrm>
            <a:off x="4443480" y="3379680"/>
            <a:ext cx="2309760" cy="1511280"/>
          </a:xfrm>
          <a:prstGeom prst="rect">
            <a:avLst/>
          </a:prstGeom>
          <a:ln w="0">
            <a:noFill/>
          </a:ln>
        </p:spPr>
      </p:pic>
      <p:sp>
        <p:nvSpPr>
          <p:cNvPr id="1744" name=""/>
          <p:cNvSpPr/>
          <p:nvPr/>
        </p:nvSpPr>
        <p:spPr>
          <a:xfrm>
            <a:off x="4091040" y="4589640"/>
            <a:ext cx="2889360" cy="36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5" name=""/>
          <p:cNvSpPr/>
          <p:nvPr/>
        </p:nvSpPr>
        <p:spPr>
          <a:xfrm>
            <a:off x="4456080" y="4575240"/>
            <a:ext cx="224964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6" name=""/>
          <p:cNvSpPr/>
          <p:nvPr/>
        </p:nvSpPr>
        <p:spPr>
          <a:xfrm>
            <a:off x="7544880" y="60660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7" name=""/>
          <p:cNvSpPr/>
          <p:nvPr/>
        </p:nvSpPr>
        <p:spPr>
          <a:xfrm>
            <a:off x="410760" y="1571760"/>
            <a:ext cx="91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8" name=""/>
          <p:cNvSpPr/>
          <p:nvPr/>
        </p:nvSpPr>
        <p:spPr>
          <a:xfrm>
            <a:off x="5490360" y="1690560"/>
            <a:ext cx="280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erage over 50 instan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9" name=""/>
          <p:cNvSpPr/>
          <p:nvPr/>
        </p:nvSpPr>
        <p:spPr>
          <a:xfrm>
            <a:off x="395280" y="1146240"/>
            <a:ext cx="835344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perimental results: stere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1" name="" descr=""/>
          <p:cNvPicPr/>
          <p:nvPr/>
        </p:nvPicPr>
        <p:blipFill>
          <a:blip r:embed="rId1"/>
          <a:stretch/>
        </p:blipFill>
        <p:spPr>
          <a:xfrm>
            <a:off x="6454800" y="1809720"/>
            <a:ext cx="2430360" cy="1760400"/>
          </a:xfrm>
          <a:prstGeom prst="rect">
            <a:avLst/>
          </a:prstGeom>
          <a:ln w="0">
            <a:noFill/>
          </a:ln>
        </p:spPr>
      </p:pic>
      <p:pic>
        <p:nvPicPr>
          <p:cNvPr id="1752" name="" descr=""/>
          <p:cNvPicPr/>
          <p:nvPr/>
        </p:nvPicPr>
        <p:blipFill>
          <a:blip r:embed="rId2"/>
          <a:stretch/>
        </p:blipFill>
        <p:spPr>
          <a:xfrm>
            <a:off x="6496200" y="4321080"/>
            <a:ext cx="2457360" cy="1843200"/>
          </a:xfrm>
          <a:prstGeom prst="rect">
            <a:avLst/>
          </a:prstGeom>
          <a:ln w="0">
            <a:noFill/>
          </a:ln>
        </p:spPr>
      </p:pic>
      <p:sp>
        <p:nvSpPr>
          <p:cNvPr id="1753" name=""/>
          <p:cNvSpPr/>
          <p:nvPr/>
        </p:nvSpPr>
        <p:spPr>
          <a:xfrm>
            <a:off x="4566960" y="3695760"/>
            <a:ext cx="11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ft im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4" name=""/>
          <p:cNvSpPr/>
          <p:nvPr/>
        </p:nvSpPr>
        <p:spPr>
          <a:xfrm>
            <a:off x="7104960" y="3703680"/>
            <a:ext cx="131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round tru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5" name=""/>
          <p:cNvSpPr/>
          <p:nvPr/>
        </p:nvSpPr>
        <p:spPr>
          <a:xfrm>
            <a:off x="4452840" y="6291360"/>
            <a:ext cx="141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6" name=""/>
          <p:cNvSpPr/>
          <p:nvPr/>
        </p:nvSpPr>
        <p:spPr>
          <a:xfrm>
            <a:off x="7147080" y="6299280"/>
            <a:ext cx="141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W-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7" name="" descr=""/>
          <p:cNvPicPr/>
          <p:nvPr/>
        </p:nvPicPr>
        <p:blipFill>
          <a:blip r:embed="rId3"/>
          <a:stretch/>
        </p:blipFill>
        <p:spPr>
          <a:xfrm>
            <a:off x="887400" y="1677960"/>
            <a:ext cx="2309760" cy="1511280"/>
          </a:xfrm>
          <a:prstGeom prst="rect">
            <a:avLst/>
          </a:prstGeom>
          <a:ln w="0">
            <a:noFill/>
          </a:ln>
        </p:spPr>
      </p:pic>
      <p:sp>
        <p:nvSpPr>
          <p:cNvPr id="1758" name=""/>
          <p:cNvSpPr/>
          <p:nvPr/>
        </p:nvSpPr>
        <p:spPr>
          <a:xfrm>
            <a:off x="2060640" y="5006880"/>
            <a:ext cx="1278000" cy="103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9" name="" descr=""/>
          <p:cNvPicPr/>
          <p:nvPr/>
        </p:nvPicPr>
        <p:blipFill>
          <a:blip r:embed="rId4"/>
          <a:stretch/>
        </p:blipFill>
        <p:spPr>
          <a:xfrm>
            <a:off x="-128520" y="3430440"/>
            <a:ext cx="4273560" cy="3205440"/>
          </a:xfrm>
          <a:prstGeom prst="rect">
            <a:avLst/>
          </a:prstGeom>
          <a:ln w="0">
            <a:noFill/>
          </a:ln>
        </p:spPr>
      </p:pic>
      <p:pic>
        <p:nvPicPr>
          <p:cNvPr id="1760" name="" descr=""/>
          <p:cNvPicPr/>
          <p:nvPr/>
        </p:nvPicPr>
        <p:blipFill>
          <a:blip r:embed="rId5"/>
          <a:stretch/>
        </p:blipFill>
        <p:spPr>
          <a:xfrm>
            <a:off x="3849840" y="4322880"/>
            <a:ext cx="2457360" cy="1842840"/>
          </a:xfrm>
          <a:prstGeom prst="rect">
            <a:avLst/>
          </a:prstGeom>
          <a:ln w="0">
            <a:noFill/>
          </a:ln>
        </p:spPr>
      </p:pic>
      <p:pic>
        <p:nvPicPr>
          <p:cNvPr id="1761" name="" descr=""/>
          <p:cNvPicPr/>
          <p:nvPr/>
        </p:nvPicPr>
        <p:blipFill>
          <a:blip r:embed="rId6"/>
          <a:stretch/>
        </p:blipFill>
        <p:spPr>
          <a:xfrm>
            <a:off x="3828960" y="1766880"/>
            <a:ext cx="2457720" cy="1843200"/>
          </a:xfrm>
          <a:prstGeom prst="rect">
            <a:avLst/>
          </a:prstGeom>
          <a:ln w="0">
            <a:noFill/>
          </a:ln>
        </p:spPr>
      </p:pic>
      <p:sp>
        <p:nvSpPr>
          <p:cNvPr id="1762" name=""/>
          <p:cNvSpPr/>
          <p:nvPr/>
        </p:nvSpPr>
        <p:spPr>
          <a:xfrm>
            <a:off x="395280" y="1146240"/>
            <a:ext cx="835344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perimental results: stere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4" name="" descr=""/>
          <p:cNvPicPr/>
          <p:nvPr/>
        </p:nvPicPr>
        <p:blipFill>
          <a:blip r:embed="rId1"/>
          <a:stretch/>
        </p:blipFill>
        <p:spPr>
          <a:xfrm>
            <a:off x="-71280" y="3146400"/>
            <a:ext cx="5011560" cy="3759120"/>
          </a:xfrm>
          <a:prstGeom prst="rect">
            <a:avLst/>
          </a:prstGeom>
          <a:ln w="0">
            <a:noFill/>
          </a:ln>
        </p:spPr>
      </p:pic>
      <p:pic>
        <p:nvPicPr>
          <p:cNvPr id="1765" name="" descr=""/>
          <p:cNvPicPr/>
          <p:nvPr/>
        </p:nvPicPr>
        <p:blipFill>
          <a:blip r:embed="rId2"/>
          <a:stretch/>
        </p:blipFill>
        <p:spPr>
          <a:xfrm>
            <a:off x="4249800" y="3139920"/>
            <a:ext cx="5022720" cy="3767400"/>
          </a:xfrm>
          <a:prstGeom prst="rect">
            <a:avLst/>
          </a:prstGeom>
          <a:ln w="0">
            <a:noFill/>
          </a:ln>
        </p:spPr>
      </p:pic>
      <p:pic>
        <p:nvPicPr>
          <p:cNvPr id="1766" name="" descr=""/>
          <p:cNvPicPr/>
          <p:nvPr/>
        </p:nvPicPr>
        <p:blipFill>
          <a:blip r:embed="rId3"/>
          <a:stretch/>
        </p:blipFill>
        <p:spPr>
          <a:xfrm>
            <a:off x="3398760" y="1535040"/>
            <a:ext cx="2309760" cy="1511280"/>
          </a:xfrm>
          <a:prstGeom prst="rect">
            <a:avLst/>
          </a:prstGeom>
          <a:ln w="0">
            <a:noFill/>
          </a:ln>
        </p:spPr>
      </p:pic>
      <p:pic>
        <p:nvPicPr>
          <p:cNvPr id="1767" name="" descr=""/>
          <p:cNvPicPr/>
          <p:nvPr/>
        </p:nvPicPr>
        <p:blipFill>
          <a:blip r:embed="rId4"/>
          <a:stretch/>
        </p:blipFill>
        <p:spPr>
          <a:xfrm>
            <a:off x="993600" y="1477800"/>
            <a:ext cx="1775160" cy="1565280"/>
          </a:xfrm>
          <a:prstGeom prst="rect">
            <a:avLst/>
          </a:prstGeom>
          <a:ln w="0">
            <a:noFill/>
          </a:ln>
        </p:spPr>
      </p:pic>
      <p:pic>
        <p:nvPicPr>
          <p:cNvPr id="1768" name="" descr=""/>
          <p:cNvPicPr/>
          <p:nvPr/>
        </p:nvPicPr>
        <p:blipFill>
          <a:blip r:embed="rId5"/>
          <a:stretch/>
        </p:blipFill>
        <p:spPr>
          <a:xfrm>
            <a:off x="6378480" y="1479600"/>
            <a:ext cx="1770120" cy="1549440"/>
          </a:xfrm>
          <a:prstGeom prst="rect">
            <a:avLst/>
          </a:prstGeom>
          <a:ln w="0">
            <a:noFill/>
          </a:ln>
        </p:spPr>
      </p:pic>
      <p:sp>
        <p:nvSpPr>
          <p:cNvPr id="1769" name=""/>
          <p:cNvSpPr/>
          <p:nvPr/>
        </p:nvSpPr>
        <p:spPr>
          <a:xfrm>
            <a:off x="395280" y="1146240"/>
            <a:ext cx="835344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0" name="PlaceHolder 1"/>
          <p:cNvSpPr>
            <a:spLocks noGrp="1"/>
          </p:cNvSpPr>
          <p:nvPr>
            <p:ph type="title"/>
          </p:nvPr>
        </p:nvSpPr>
        <p:spPr>
          <a:xfrm>
            <a:off x="457200" y="-22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PlaceHolder 2"/>
          <p:cNvSpPr>
            <a:spLocks noGrp="1"/>
          </p:cNvSpPr>
          <p:nvPr>
            <p:ph/>
          </p:nvPr>
        </p:nvSpPr>
        <p:spPr>
          <a:xfrm>
            <a:off x="357120" y="985320"/>
            <a:ext cx="8653680" cy="558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MAP estimation algorithms are based on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Times New Roman"/>
              </a:rPr>
              <a:t>LP relax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Maximize lower bou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wo ways to formulate lower bou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Via posiforms: leads to maxflow algorith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Polynomial time solu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But: applicable for restricted energies (e.g. binary variabl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-212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Submodular functions: global minim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-212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Non-submodular functions: part of optimal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Via convex combination of trees: leads to TRW algorith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Convergence in the limit (for TRW-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Applicable to arbitrary energy fun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lnSpc>
                <a:spcPct val="80000"/>
              </a:lnSpc>
              <a:spcBef>
                <a:spcPts val="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Graph cuts vs. TRW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Accuracy: simil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Generality: TRW is more gene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Speed: for stereo TRW is currently 2-5 times slower. 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Times New Roman"/>
              </a:rPr>
              <a:t>Bu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-212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3 vs. 50 years of research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-212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More suitable for parallel implementation (GPU? Hardware?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"/>
          <p:cNvSpPr/>
          <p:nvPr/>
        </p:nvSpPr>
        <p:spPr>
          <a:xfrm>
            <a:off x="395280" y="846000"/>
            <a:ext cx="835344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73" name=""/>
          <p:cNvGrpSpPr/>
          <p:nvPr/>
        </p:nvGrpSpPr>
        <p:grpSpPr>
          <a:xfrm>
            <a:off x="1258920" y="2529000"/>
            <a:ext cx="4428720" cy="2663640"/>
            <a:chOff x="1258920" y="2529000"/>
            <a:chExt cx="4428720" cy="2663640"/>
          </a:xfrm>
        </p:grpSpPr>
        <p:grpSp>
          <p:nvGrpSpPr>
            <p:cNvPr id="1774" name=""/>
            <p:cNvGrpSpPr/>
            <p:nvPr/>
          </p:nvGrpSpPr>
          <p:grpSpPr>
            <a:xfrm>
              <a:off x="1258920" y="2770200"/>
              <a:ext cx="4267080" cy="2133720"/>
              <a:chOff x="1258920" y="2770200"/>
              <a:chExt cx="4267080" cy="2133720"/>
            </a:xfrm>
          </p:grpSpPr>
          <p:sp>
            <p:nvSpPr>
              <p:cNvPr id="1775" name=""/>
              <p:cNvSpPr/>
              <p:nvPr/>
            </p:nvSpPr>
            <p:spPr>
              <a:xfrm>
                <a:off x="1258920" y="2922480"/>
                <a:ext cx="4267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6" name=""/>
              <p:cNvSpPr/>
              <p:nvPr/>
            </p:nvSpPr>
            <p:spPr>
              <a:xfrm>
                <a:off x="1258920" y="3227400"/>
                <a:ext cx="4267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7" name=""/>
              <p:cNvSpPr/>
              <p:nvPr/>
            </p:nvSpPr>
            <p:spPr>
              <a:xfrm>
                <a:off x="1258920" y="4141800"/>
                <a:ext cx="4267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8" name=""/>
              <p:cNvSpPr/>
              <p:nvPr/>
            </p:nvSpPr>
            <p:spPr>
              <a:xfrm>
                <a:off x="1258920" y="3836880"/>
                <a:ext cx="4267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9" name=""/>
              <p:cNvSpPr/>
              <p:nvPr/>
            </p:nvSpPr>
            <p:spPr>
              <a:xfrm>
                <a:off x="1258920" y="3532320"/>
                <a:ext cx="4267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0" name=""/>
              <p:cNvSpPr/>
              <p:nvPr/>
            </p:nvSpPr>
            <p:spPr>
              <a:xfrm>
                <a:off x="1411200" y="2770200"/>
                <a:ext cx="0" cy="2133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1" name=""/>
              <p:cNvSpPr/>
              <p:nvPr/>
            </p:nvSpPr>
            <p:spPr>
              <a:xfrm>
                <a:off x="1715760" y="2770200"/>
                <a:ext cx="0" cy="2133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2" name=""/>
              <p:cNvSpPr/>
              <p:nvPr/>
            </p:nvSpPr>
            <p:spPr>
              <a:xfrm>
                <a:off x="2020680" y="2770200"/>
                <a:ext cx="0" cy="2133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3" name=""/>
              <p:cNvSpPr/>
              <p:nvPr/>
            </p:nvSpPr>
            <p:spPr>
              <a:xfrm>
                <a:off x="2325600" y="2770200"/>
                <a:ext cx="0" cy="2133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4" name=""/>
              <p:cNvSpPr/>
              <p:nvPr/>
            </p:nvSpPr>
            <p:spPr>
              <a:xfrm>
                <a:off x="2630160" y="2770200"/>
                <a:ext cx="0" cy="2133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5" name=""/>
              <p:cNvSpPr/>
              <p:nvPr/>
            </p:nvSpPr>
            <p:spPr>
              <a:xfrm>
                <a:off x="2935080" y="2770200"/>
                <a:ext cx="0" cy="2133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6" name=""/>
              <p:cNvSpPr/>
              <p:nvPr/>
            </p:nvSpPr>
            <p:spPr>
              <a:xfrm>
                <a:off x="3240000" y="2770200"/>
                <a:ext cx="0" cy="2133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7" name=""/>
              <p:cNvSpPr/>
              <p:nvPr/>
            </p:nvSpPr>
            <p:spPr>
              <a:xfrm>
                <a:off x="3544560" y="2770200"/>
                <a:ext cx="0" cy="2133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8" name=""/>
              <p:cNvSpPr/>
              <p:nvPr/>
            </p:nvSpPr>
            <p:spPr>
              <a:xfrm flipV="1">
                <a:off x="1334880" y="2846160"/>
                <a:ext cx="1066320" cy="1066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9" name=""/>
              <p:cNvSpPr/>
              <p:nvPr/>
            </p:nvSpPr>
            <p:spPr>
              <a:xfrm flipV="1">
                <a:off x="1334880" y="2846520"/>
                <a:ext cx="1371240" cy="1371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0" name=""/>
              <p:cNvSpPr/>
              <p:nvPr/>
            </p:nvSpPr>
            <p:spPr>
              <a:xfrm flipV="1">
                <a:off x="1334880" y="2846520"/>
                <a:ext cx="1676160" cy="1676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1" name=""/>
              <p:cNvSpPr/>
              <p:nvPr/>
            </p:nvSpPr>
            <p:spPr>
              <a:xfrm flipV="1">
                <a:off x="1334880" y="2846160"/>
                <a:ext cx="1980720" cy="198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2" name=""/>
              <p:cNvSpPr/>
              <p:nvPr/>
            </p:nvSpPr>
            <p:spPr>
              <a:xfrm flipV="1">
                <a:off x="1639800" y="2846160"/>
                <a:ext cx="1980720" cy="198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3" name=""/>
              <p:cNvSpPr/>
              <p:nvPr/>
            </p:nvSpPr>
            <p:spPr>
              <a:xfrm flipV="1">
                <a:off x="1944360" y="2846160"/>
                <a:ext cx="1981080" cy="198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4" name=""/>
              <p:cNvSpPr/>
              <p:nvPr/>
            </p:nvSpPr>
            <p:spPr>
              <a:xfrm flipV="1">
                <a:off x="2249280" y="2846160"/>
                <a:ext cx="1980720" cy="198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5" name=""/>
              <p:cNvSpPr/>
              <p:nvPr/>
            </p:nvSpPr>
            <p:spPr>
              <a:xfrm flipV="1">
                <a:off x="2554200" y="2846160"/>
                <a:ext cx="1980720" cy="198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6" name=""/>
              <p:cNvSpPr/>
              <p:nvPr/>
            </p:nvSpPr>
            <p:spPr>
              <a:xfrm flipV="1">
                <a:off x="2858760" y="2846160"/>
                <a:ext cx="1981080" cy="198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7" name=""/>
              <p:cNvSpPr/>
              <p:nvPr/>
            </p:nvSpPr>
            <p:spPr>
              <a:xfrm flipV="1">
                <a:off x="3163680" y="2846160"/>
                <a:ext cx="1980720" cy="198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8" name=""/>
              <p:cNvSpPr/>
              <p:nvPr/>
            </p:nvSpPr>
            <p:spPr>
              <a:xfrm flipV="1">
                <a:off x="3468600" y="2846160"/>
                <a:ext cx="1980720" cy="198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9" name=""/>
              <p:cNvSpPr/>
              <p:nvPr/>
            </p:nvSpPr>
            <p:spPr>
              <a:xfrm flipV="1">
                <a:off x="1334880" y="2846520"/>
                <a:ext cx="761760" cy="76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0" name=""/>
              <p:cNvSpPr/>
              <p:nvPr/>
            </p:nvSpPr>
            <p:spPr>
              <a:xfrm flipV="1">
                <a:off x="1334880" y="2846520"/>
                <a:ext cx="456840" cy="45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1" name=""/>
              <p:cNvSpPr/>
              <p:nvPr/>
            </p:nvSpPr>
            <p:spPr>
              <a:xfrm flipV="1">
                <a:off x="1334880" y="2846160"/>
                <a:ext cx="15192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2" name=""/>
              <p:cNvSpPr/>
              <p:nvPr/>
            </p:nvSpPr>
            <p:spPr>
              <a:xfrm>
                <a:off x="1334880" y="3151080"/>
                <a:ext cx="1676160" cy="1676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3" name=""/>
              <p:cNvSpPr/>
              <p:nvPr/>
            </p:nvSpPr>
            <p:spPr>
              <a:xfrm>
                <a:off x="1639800" y="2846520"/>
                <a:ext cx="1980720" cy="198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4" name=""/>
              <p:cNvSpPr/>
              <p:nvPr/>
            </p:nvSpPr>
            <p:spPr>
              <a:xfrm>
                <a:off x="1944360" y="2846520"/>
                <a:ext cx="1981080" cy="198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5" name=""/>
              <p:cNvSpPr/>
              <p:nvPr/>
            </p:nvSpPr>
            <p:spPr>
              <a:xfrm>
                <a:off x="2249280" y="2846520"/>
                <a:ext cx="1980720" cy="198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6" name=""/>
              <p:cNvSpPr/>
              <p:nvPr/>
            </p:nvSpPr>
            <p:spPr>
              <a:xfrm>
                <a:off x="2554200" y="2846520"/>
                <a:ext cx="1980720" cy="198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7" name=""/>
              <p:cNvSpPr/>
              <p:nvPr/>
            </p:nvSpPr>
            <p:spPr>
              <a:xfrm>
                <a:off x="2858760" y="2846520"/>
                <a:ext cx="1981080" cy="198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8" name=""/>
              <p:cNvSpPr/>
              <p:nvPr/>
            </p:nvSpPr>
            <p:spPr>
              <a:xfrm>
                <a:off x="3163680" y="2846520"/>
                <a:ext cx="1980720" cy="198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9" name=""/>
              <p:cNvSpPr/>
              <p:nvPr/>
            </p:nvSpPr>
            <p:spPr>
              <a:xfrm>
                <a:off x="3468600" y="2846520"/>
                <a:ext cx="1980720" cy="198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0" name=""/>
              <p:cNvSpPr/>
              <p:nvPr/>
            </p:nvSpPr>
            <p:spPr>
              <a:xfrm>
                <a:off x="1334880" y="3456000"/>
                <a:ext cx="1371240" cy="1371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1" name=""/>
              <p:cNvSpPr/>
              <p:nvPr/>
            </p:nvSpPr>
            <p:spPr>
              <a:xfrm>
                <a:off x="1334880" y="3760920"/>
                <a:ext cx="1066320" cy="1066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2" name=""/>
              <p:cNvSpPr/>
              <p:nvPr/>
            </p:nvSpPr>
            <p:spPr>
              <a:xfrm>
                <a:off x="1334880" y="4065480"/>
                <a:ext cx="761760" cy="762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3" name=""/>
              <p:cNvSpPr/>
              <p:nvPr/>
            </p:nvSpPr>
            <p:spPr>
              <a:xfrm>
                <a:off x="1639800" y="3760920"/>
                <a:ext cx="151920" cy="152280"/>
              </a:xfrm>
              <a:prstGeom prst="ellipse">
                <a:avLst/>
              </a:prstGeom>
              <a:solidFill>
                <a:srgbClr val="50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4" name=""/>
              <p:cNvSpPr/>
              <p:nvPr/>
            </p:nvSpPr>
            <p:spPr>
              <a:xfrm>
                <a:off x="1334880" y="3151080"/>
                <a:ext cx="151920" cy="152640"/>
              </a:xfrm>
              <a:prstGeom prst="ellipse">
                <a:avLst/>
              </a:prstGeom>
              <a:solidFill>
                <a:srgbClr val="50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5" name=""/>
              <p:cNvSpPr/>
              <p:nvPr/>
            </p:nvSpPr>
            <p:spPr>
              <a:xfrm>
                <a:off x="1334880" y="3456000"/>
                <a:ext cx="151920" cy="152280"/>
              </a:xfrm>
              <a:prstGeom prst="ellipse">
                <a:avLst/>
              </a:prstGeom>
              <a:solidFill>
                <a:srgbClr val="50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6" name=""/>
              <p:cNvSpPr/>
              <p:nvPr/>
            </p:nvSpPr>
            <p:spPr>
              <a:xfrm>
                <a:off x="1334880" y="3760920"/>
                <a:ext cx="151920" cy="152280"/>
              </a:xfrm>
              <a:prstGeom prst="ellipse">
                <a:avLst/>
              </a:prstGeom>
              <a:solidFill>
                <a:srgbClr val="50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7" name=""/>
              <p:cNvSpPr/>
              <p:nvPr/>
            </p:nvSpPr>
            <p:spPr>
              <a:xfrm>
                <a:off x="1334880" y="4065480"/>
                <a:ext cx="151920" cy="152640"/>
              </a:xfrm>
              <a:prstGeom prst="ellipse">
                <a:avLst/>
              </a:prstGeom>
              <a:solidFill>
                <a:srgbClr val="50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8" name=""/>
              <p:cNvSpPr/>
              <p:nvPr/>
            </p:nvSpPr>
            <p:spPr>
              <a:xfrm>
                <a:off x="1639800" y="4065480"/>
                <a:ext cx="151920" cy="152640"/>
              </a:xfrm>
              <a:prstGeom prst="ellipse">
                <a:avLst/>
              </a:prstGeom>
              <a:solidFill>
                <a:srgbClr val="50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9" name=""/>
              <p:cNvSpPr/>
              <p:nvPr/>
            </p:nvSpPr>
            <p:spPr>
              <a:xfrm>
                <a:off x="1944360" y="4065480"/>
                <a:ext cx="152280" cy="152640"/>
              </a:xfrm>
              <a:prstGeom prst="ellipse">
                <a:avLst/>
              </a:prstGeom>
              <a:solidFill>
                <a:srgbClr val="50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0" name=""/>
              <p:cNvSpPr/>
              <p:nvPr/>
            </p:nvSpPr>
            <p:spPr>
              <a:xfrm>
                <a:off x="2249280" y="4065480"/>
                <a:ext cx="151920" cy="152640"/>
              </a:xfrm>
              <a:prstGeom prst="ellipse">
                <a:avLst/>
              </a:prstGeom>
              <a:solidFill>
                <a:srgbClr val="50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1" name=""/>
              <p:cNvSpPr/>
              <p:nvPr/>
            </p:nvSpPr>
            <p:spPr>
              <a:xfrm>
                <a:off x="2554200" y="4065480"/>
                <a:ext cx="151920" cy="152640"/>
              </a:xfrm>
              <a:prstGeom prst="ellipse">
                <a:avLst/>
              </a:prstGeom>
              <a:solidFill>
                <a:srgbClr val="50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2" name=""/>
              <p:cNvSpPr/>
              <p:nvPr/>
            </p:nvSpPr>
            <p:spPr>
              <a:xfrm>
                <a:off x="2858760" y="4065480"/>
                <a:ext cx="152280" cy="152640"/>
              </a:xfrm>
              <a:prstGeom prst="ellipse">
                <a:avLst/>
              </a:prstGeom>
              <a:solidFill>
                <a:srgbClr val="50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3" name=""/>
              <p:cNvSpPr/>
              <p:nvPr/>
            </p:nvSpPr>
            <p:spPr>
              <a:xfrm>
                <a:off x="3163680" y="4065480"/>
                <a:ext cx="151920" cy="152640"/>
              </a:xfrm>
              <a:prstGeom prst="ellipse">
                <a:avLst/>
              </a:prstGeom>
              <a:solidFill>
                <a:srgbClr val="50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4" name=""/>
              <p:cNvSpPr/>
              <p:nvPr/>
            </p:nvSpPr>
            <p:spPr>
              <a:xfrm>
                <a:off x="3468600" y="4065480"/>
                <a:ext cx="151920" cy="152640"/>
              </a:xfrm>
              <a:prstGeom prst="ellipse">
                <a:avLst/>
              </a:prstGeom>
              <a:solidFill>
                <a:srgbClr val="50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5" name=""/>
              <p:cNvSpPr/>
              <p:nvPr/>
            </p:nvSpPr>
            <p:spPr>
              <a:xfrm>
                <a:off x="1334880" y="2846520"/>
                <a:ext cx="151920" cy="152280"/>
              </a:xfrm>
              <a:prstGeom prst="ellipse">
                <a:avLst/>
              </a:prstGeom>
              <a:solidFill>
                <a:srgbClr val="50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6" name=""/>
              <p:cNvSpPr/>
              <p:nvPr/>
            </p:nvSpPr>
            <p:spPr>
              <a:xfrm>
                <a:off x="1639800" y="2846520"/>
                <a:ext cx="151920" cy="152280"/>
              </a:xfrm>
              <a:prstGeom prst="ellipse">
                <a:avLst/>
              </a:prstGeom>
              <a:solidFill>
                <a:srgbClr val="50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7" name=""/>
              <p:cNvSpPr/>
              <p:nvPr/>
            </p:nvSpPr>
            <p:spPr>
              <a:xfrm>
                <a:off x="1639800" y="3151080"/>
                <a:ext cx="151920" cy="152640"/>
              </a:xfrm>
              <a:prstGeom prst="ellipse">
                <a:avLst/>
              </a:prstGeom>
              <a:solidFill>
                <a:srgbClr val="50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8" name=""/>
              <p:cNvSpPr/>
              <p:nvPr/>
            </p:nvSpPr>
            <p:spPr>
              <a:xfrm>
                <a:off x="1639800" y="3456000"/>
                <a:ext cx="151920" cy="152280"/>
              </a:xfrm>
              <a:prstGeom prst="ellipse">
                <a:avLst/>
              </a:prstGeom>
              <a:solidFill>
                <a:srgbClr val="50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9" name=""/>
              <p:cNvSpPr/>
              <p:nvPr/>
            </p:nvSpPr>
            <p:spPr>
              <a:xfrm>
                <a:off x="1944360" y="3456000"/>
                <a:ext cx="152280" cy="152280"/>
              </a:xfrm>
              <a:prstGeom prst="ellipse">
                <a:avLst/>
              </a:prstGeom>
              <a:solidFill>
                <a:srgbClr val="50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0" name=""/>
              <p:cNvSpPr/>
              <p:nvPr/>
            </p:nvSpPr>
            <p:spPr>
              <a:xfrm>
                <a:off x="1944360" y="3760920"/>
                <a:ext cx="152280" cy="152280"/>
              </a:xfrm>
              <a:prstGeom prst="ellipse">
                <a:avLst/>
              </a:prstGeom>
              <a:solidFill>
                <a:srgbClr val="50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1" name=""/>
              <p:cNvSpPr/>
              <p:nvPr/>
            </p:nvSpPr>
            <p:spPr>
              <a:xfrm>
                <a:off x="1944360" y="3151080"/>
                <a:ext cx="152280" cy="152640"/>
              </a:xfrm>
              <a:prstGeom prst="ellipse">
                <a:avLst/>
              </a:prstGeom>
              <a:solidFill>
                <a:srgbClr val="50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2" name=""/>
              <p:cNvSpPr/>
              <p:nvPr/>
            </p:nvSpPr>
            <p:spPr>
              <a:xfrm>
                <a:off x="1944360" y="2846520"/>
                <a:ext cx="152280" cy="152280"/>
              </a:xfrm>
              <a:prstGeom prst="ellipse">
                <a:avLst/>
              </a:prstGeom>
              <a:solidFill>
                <a:srgbClr val="50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3" name=""/>
              <p:cNvSpPr/>
              <p:nvPr/>
            </p:nvSpPr>
            <p:spPr>
              <a:xfrm>
                <a:off x="2249280" y="2846520"/>
                <a:ext cx="151920" cy="152280"/>
              </a:xfrm>
              <a:prstGeom prst="ellipse">
                <a:avLst/>
              </a:prstGeom>
              <a:solidFill>
                <a:srgbClr val="50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4" name=""/>
              <p:cNvSpPr/>
              <p:nvPr/>
            </p:nvSpPr>
            <p:spPr>
              <a:xfrm>
                <a:off x="2249280" y="3151080"/>
                <a:ext cx="151920" cy="152640"/>
              </a:xfrm>
              <a:prstGeom prst="ellipse">
                <a:avLst/>
              </a:prstGeom>
              <a:solidFill>
                <a:srgbClr val="50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5" name=""/>
              <p:cNvSpPr/>
              <p:nvPr/>
            </p:nvSpPr>
            <p:spPr>
              <a:xfrm>
                <a:off x="2249280" y="3456000"/>
                <a:ext cx="151920" cy="152280"/>
              </a:xfrm>
              <a:prstGeom prst="ellipse">
                <a:avLst/>
              </a:prstGeom>
              <a:solidFill>
                <a:srgbClr val="50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6" name=""/>
              <p:cNvSpPr/>
              <p:nvPr/>
            </p:nvSpPr>
            <p:spPr>
              <a:xfrm>
                <a:off x="2249280" y="3760920"/>
                <a:ext cx="151920" cy="152280"/>
              </a:xfrm>
              <a:prstGeom prst="ellipse">
                <a:avLst/>
              </a:prstGeom>
              <a:solidFill>
                <a:srgbClr val="50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7" name=""/>
              <p:cNvSpPr/>
              <p:nvPr/>
            </p:nvSpPr>
            <p:spPr>
              <a:xfrm>
                <a:off x="2554200" y="3760920"/>
                <a:ext cx="151920" cy="152280"/>
              </a:xfrm>
              <a:prstGeom prst="ellipse">
                <a:avLst/>
              </a:prstGeom>
              <a:solidFill>
                <a:srgbClr val="50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8" name=""/>
              <p:cNvSpPr/>
              <p:nvPr/>
            </p:nvSpPr>
            <p:spPr>
              <a:xfrm>
                <a:off x="2554200" y="3456000"/>
                <a:ext cx="151920" cy="152280"/>
              </a:xfrm>
              <a:prstGeom prst="ellipse">
                <a:avLst/>
              </a:prstGeom>
              <a:solidFill>
                <a:srgbClr val="50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9" name=""/>
              <p:cNvSpPr/>
              <p:nvPr/>
            </p:nvSpPr>
            <p:spPr>
              <a:xfrm>
                <a:off x="2554200" y="2846520"/>
                <a:ext cx="151920" cy="152280"/>
              </a:xfrm>
              <a:prstGeom prst="ellipse">
                <a:avLst/>
              </a:prstGeom>
              <a:solidFill>
                <a:srgbClr val="50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0" name=""/>
              <p:cNvSpPr/>
              <p:nvPr/>
            </p:nvSpPr>
            <p:spPr>
              <a:xfrm>
                <a:off x="2554200" y="3151080"/>
                <a:ext cx="151920" cy="152640"/>
              </a:xfrm>
              <a:prstGeom prst="ellipse">
                <a:avLst/>
              </a:prstGeom>
              <a:solidFill>
                <a:srgbClr val="50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1" name=""/>
              <p:cNvSpPr/>
              <p:nvPr/>
            </p:nvSpPr>
            <p:spPr>
              <a:xfrm>
                <a:off x="2858760" y="3760920"/>
                <a:ext cx="152280" cy="152280"/>
              </a:xfrm>
              <a:prstGeom prst="ellipse">
                <a:avLst/>
              </a:prstGeom>
              <a:solidFill>
                <a:srgbClr val="50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2" name=""/>
              <p:cNvSpPr/>
              <p:nvPr/>
            </p:nvSpPr>
            <p:spPr>
              <a:xfrm>
                <a:off x="3163680" y="3760920"/>
                <a:ext cx="151920" cy="152280"/>
              </a:xfrm>
              <a:prstGeom prst="ellipse">
                <a:avLst/>
              </a:prstGeom>
              <a:solidFill>
                <a:srgbClr val="50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3" name=""/>
              <p:cNvSpPr/>
              <p:nvPr/>
            </p:nvSpPr>
            <p:spPr>
              <a:xfrm>
                <a:off x="3468600" y="3760920"/>
                <a:ext cx="151920" cy="152280"/>
              </a:xfrm>
              <a:prstGeom prst="ellipse">
                <a:avLst/>
              </a:prstGeom>
              <a:solidFill>
                <a:srgbClr val="50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4" name=""/>
              <p:cNvSpPr/>
              <p:nvPr/>
            </p:nvSpPr>
            <p:spPr>
              <a:xfrm>
                <a:off x="2858760" y="3456000"/>
                <a:ext cx="152280" cy="152280"/>
              </a:xfrm>
              <a:prstGeom prst="ellipse">
                <a:avLst/>
              </a:prstGeom>
              <a:solidFill>
                <a:srgbClr val="50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5" name=""/>
              <p:cNvSpPr/>
              <p:nvPr/>
            </p:nvSpPr>
            <p:spPr>
              <a:xfrm>
                <a:off x="3163680" y="3456000"/>
                <a:ext cx="151920" cy="152280"/>
              </a:xfrm>
              <a:prstGeom prst="ellipse">
                <a:avLst/>
              </a:prstGeom>
              <a:solidFill>
                <a:srgbClr val="50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6" name=""/>
              <p:cNvSpPr/>
              <p:nvPr/>
            </p:nvSpPr>
            <p:spPr>
              <a:xfrm>
                <a:off x="3468600" y="3456000"/>
                <a:ext cx="151920" cy="152280"/>
              </a:xfrm>
              <a:prstGeom prst="ellipse">
                <a:avLst/>
              </a:prstGeom>
              <a:solidFill>
                <a:srgbClr val="50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7" name=""/>
              <p:cNvSpPr/>
              <p:nvPr/>
            </p:nvSpPr>
            <p:spPr>
              <a:xfrm>
                <a:off x="2858760" y="3151080"/>
                <a:ext cx="152280" cy="152640"/>
              </a:xfrm>
              <a:prstGeom prst="ellipse">
                <a:avLst/>
              </a:prstGeom>
              <a:solidFill>
                <a:srgbClr val="50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8" name=""/>
              <p:cNvSpPr/>
              <p:nvPr/>
            </p:nvSpPr>
            <p:spPr>
              <a:xfrm>
                <a:off x="3163680" y="3151080"/>
                <a:ext cx="151920" cy="152640"/>
              </a:xfrm>
              <a:prstGeom prst="ellipse">
                <a:avLst/>
              </a:prstGeom>
              <a:solidFill>
                <a:srgbClr val="50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9" name=""/>
              <p:cNvSpPr/>
              <p:nvPr/>
            </p:nvSpPr>
            <p:spPr>
              <a:xfrm>
                <a:off x="3468600" y="3151080"/>
                <a:ext cx="151920" cy="152640"/>
              </a:xfrm>
              <a:prstGeom prst="ellipse">
                <a:avLst/>
              </a:prstGeom>
              <a:solidFill>
                <a:srgbClr val="50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0" name=""/>
              <p:cNvSpPr/>
              <p:nvPr/>
            </p:nvSpPr>
            <p:spPr>
              <a:xfrm>
                <a:off x="2858760" y="2846520"/>
                <a:ext cx="152280" cy="152280"/>
              </a:xfrm>
              <a:prstGeom prst="ellipse">
                <a:avLst/>
              </a:prstGeom>
              <a:solidFill>
                <a:srgbClr val="50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1" name=""/>
              <p:cNvSpPr/>
              <p:nvPr/>
            </p:nvSpPr>
            <p:spPr>
              <a:xfrm>
                <a:off x="3163680" y="2846520"/>
                <a:ext cx="151920" cy="152280"/>
              </a:xfrm>
              <a:prstGeom prst="ellipse">
                <a:avLst/>
              </a:prstGeom>
              <a:solidFill>
                <a:srgbClr val="50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2" name=""/>
              <p:cNvSpPr/>
              <p:nvPr/>
            </p:nvSpPr>
            <p:spPr>
              <a:xfrm>
                <a:off x="3468600" y="2846520"/>
                <a:ext cx="151920" cy="152280"/>
              </a:xfrm>
              <a:prstGeom prst="ellipse">
                <a:avLst/>
              </a:prstGeom>
              <a:solidFill>
                <a:srgbClr val="50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3" name=""/>
              <p:cNvSpPr/>
              <p:nvPr/>
            </p:nvSpPr>
            <p:spPr>
              <a:xfrm>
                <a:off x="1258920" y="4446720"/>
                <a:ext cx="4267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4" name=""/>
              <p:cNvSpPr/>
              <p:nvPr/>
            </p:nvSpPr>
            <p:spPr>
              <a:xfrm>
                <a:off x="1334880" y="4370400"/>
                <a:ext cx="456840" cy="45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5" name=""/>
              <p:cNvSpPr/>
              <p:nvPr/>
            </p:nvSpPr>
            <p:spPr>
              <a:xfrm>
                <a:off x="1334880" y="4370400"/>
                <a:ext cx="151920" cy="152280"/>
              </a:xfrm>
              <a:prstGeom prst="ellipse">
                <a:avLst/>
              </a:prstGeom>
              <a:solidFill>
                <a:srgbClr val="50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6" name=""/>
              <p:cNvSpPr/>
              <p:nvPr/>
            </p:nvSpPr>
            <p:spPr>
              <a:xfrm>
                <a:off x="1639800" y="4370400"/>
                <a:ext cx="151920" cy="152280"/>
              </a:xfrm>
              <a:prstGeom prst="ellipse">
                <a:avLst/>
              </a:prstGeom>
              <a:solidFill>
                <a:srgbClr val="50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7" name=""/>
              <p:cNvSpPr/>
              <p:nvPr/>
            </p:nvSpPr>
            <p:spPr>
              <a:xfrm>
                <a:off x="1944360" y="4370400"/>
                <a:ext cx="152280" cy="152280"/>
              </a:xfrm>
              <a:prstGeom prst="ellipse">
                <a:avLst/>
              </a:prstGeom>
              <a:solidFill>
                <a:srgbClr val="50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8" name=""/>
              <p:cNvSpPr/>
              <p:nvPr/>
            </p:nvSpPr>
            <p:spPr>
              <a:xfrm>
                <a:off x="2249280" y="4370400"/>
                <a:ext cx="151920" cy="152280"/>
              </a:xfrm>
              <a:prstGeom prst="ellipse">
                <a:avLst/>
              </a:prstGeom>
              <a:solidFill>
                <a:srgbClr val="50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9" name=""/>
              <p:cNvSpPr/>
              <p:nvPr/>
            </p:nvSpPr>
            <p:spPr>
              <a:xfrm>
                <a:off x="2554200" y="4370400"/>
                <a:ext cx="151920" cy="152280"/>
              </a:xfrm>
              <a:prstGeom prst="ellipse">
                <a:avLst/>
              </a:prstGeom>
              <a:solidFill>
                <a:srgbClr val="50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0" name=""/>
              <p:cNvSpPr/>
              <p:nvPr/>
            </p:nvSpPr>
            <p:spPr>
              <a:xfrm>
                <a:off x="2858760" y="4370400"/>
                <a:ext cx="152280" cy="152280"/>
              </a:xfrm>
              <a:prstGeom prst="ellipse">
                <a:avLst/>
              </a:prstGeom>
              <a:solidFill>
                <a:srgbClr val="50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1" name=""/>
              <p:cNvSpPr/>
              <p:nvPr/>
            </p:nvSpPr>
            <p:spPr>
              <a:xfrm>
                <a:off x="3163680" y="4370400"/>
                <a:ext cx="151920" cy="152280"/>
              </a:xfrm>
              <a:prstGeom prst="ellipse">
                <a:avLst/>
              </a:prstGeom>
              <a:solidFill>
                <a:srgbClr val="50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2" name=""/>
              <p:cNvSpPr/>
              <p:nvPr/>
            </p:nvSpPr>
            <p:spPr>
              <a:xfrm>
                <a:off x="3468600" y="4370400"/>
                <a:ext cx="151920" cy="152280"/>
              </a:xfrm>
              <a:prstGeom prst="ellipse">
                <a:avLst/>
              </a:prstGeom>
              <a:solidFill>
                <a:srgbClr val="50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3" name=""/>
              <p:cNvSpPr/>
              <p:nvPr/>
            </p:nvSpPr>
            <p:spPr>
              <a:xfrm>
                <a:off x="1258920" y="4751280"/>
                <a:ext cx="4267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4" name=""/>
              <p:cNvSpPr/>
              <p:nvPr/>
            </p:nvSpPr>
            <p:spPr>
              <a:xfrm>
                <a:off x="1334880" y="4675320"/>
                <a:ext cx="15192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5" name=""/>
              <p:cNvSpPr/>
              <p:nvPr/>
            </p:nvSpPr>
            <p:spPr>
              <a:xfrm>
                <a:off x="1334880" y="4675320"/>
                <a:ext cx="151920" cy="152280"/>
              </a:xfrm>
              <a:prstGeom prst="ellipse">
                <a:avLst/>
              </a:prstGeom>
              <a:solidFill>
                <a:srgbClr val="50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6" name=""/>
              <p:cNvSpPr/>
              <p:nvPr/>
            </p:nvSpPr>
            <p:spPr>
              <a:xfrm>
                <a:off x="1639800" y="4675320"/>
                <a:ext cx="151920" cy="152280"/>
              </a:xfrm>
              <a:prstGeom prst="ellipse">
                <a:avLst/>
              </a:prstGeom>
              <a:solidFill>
                <a:srgbClr val="50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7" name=""/>
              <p:cNvSpPr/>
              <p:nvPr/>
            </p:nvSpPr>
            <p:spPr>
              <a:xfrm>
                <a:off x="1944360" y="4675320"/>
                <a:ext cx="152280" cy="152280"/>
              </a:xfrm>
              <a:prstGeom prst="ellipse">
                <a:avLst/>
              </a:prstGeom>
              <a:solidFill>
                <a:srgbClr val="50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8" name=""/>
              <p:cNvSpPr/>
              <p:nvPr/>
            </p:nvSpPr>
            <p:spPr>
              <a:xfrm>
                <a:off x="2249280" y="4675320"/>
                <a:ext cx="151920" cy="152280"/>
              </a:xfrm>
              <a:prstGeom prst="ellipse">
                <a:avLst/>
              </a:prstGeom>
              <a:solidFill>
                <a:srgbClr val="50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9" name=""/>
              <p:cNvSpPr/>
              <p:nvPr/>
            </p:nvSpPr>
            <p:spPr>
              <a:xfrm>
                <a:off x="2554200" y="4675320"/>
                <a:ext cx="151920" cy="152280"/>
              </a:xfrm>
              <a:prstGeom prst="ellipse">
                <a:avLst/>
              </a:prstGeom>
              <a:solidFill>
                <a:srgbClr val="50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0" name=""/>
              <p:cNvSpPr/>
              <p:nvPr/>
            </p:nvSpPr>
            <p:spPr>
              <a:xfrm>
                <a:off x="2858760" y="4675320"/>
                <a:ext cx="152280" cy="152280"/>
              </a:xfrm>
              <a:prstGeom prst="ellipse">
                <a:avLst/>
              </a:prstGeom>
              <a:solidFill>
                <a:srgbClr val="50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1" name=""/>
              <p:cNvSpPr/>
              <p:nvPr/>
            </p:nvSpPr>
            <p:spPr>
              <a:xfrm>
                <a:off x="3163680" y="4675320"/>
                <a:ext cx="151920" cy="152280"/>
              </a:xfrm>
              <a:prstGeom prst="ellipse">
                <a:avLst/>
              </a:prstGeom>
              <a:solidFill>
                <a:srgbClr val="50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2" name=""/>
              <p:cNvSpPr/>
              <p:nvPr/>
            </p:nvSpPr>
            <p:spPr>
              <a:xfrm>
                <a:off x="3468600" y="4675320"/>
                <a:ext cx="151920" cy="152280"/>
              </a:xfrm>
              <a:prstGeom prst="ellipse">
                <a:avLst/>
              </a:prstGeom>
              <a:solidFill>
                <a:srgbClr val="50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3" name=""/>
              <p:cNvSpPr/>
              <p:nvPr/>
            </p:nvSpPr>
            <p:spPr>
              <a:xfrm>
                <a:off x="1334880" y="2846520"/>
                <a:ext cx="1980720" cy="198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74" name=""/>
            <p:cNvSpPr/>
            <p:nvPr/>
          </p:nvSpPr>
          <p:spPr>
            <a:xfrm>
              <a:off x="3635280" y="2529000"/>
              <a:ext cx="2052360" cy="2663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5" name="PlaceHolder 1"/>
          <p:cNvSpPr>
            <a:spLocks noGrp="1"/>
          </p:cNvSpPr>
          <p:nvPr>
            <p:ph type="title"/>
          </p:nvPr>
        </p:nvSpPr>
        <p:spPr>
          <a:xfrm>
            <a:off x="457200" y="-22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e vs. continuous function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"/>
          <p:cNvSpPr/>
          <p:nvPr/>
        </p:nvSpPr>
        <p:spPr>
          <a:xfrm>
            <a:off x="395280" y="846000"/>
            <a:ext cx="835344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"/>
          <p:cNvSpPr/>
          <p:nvPr/>
        </p:nvSpPr>
        <p:spPr>
          <a:xfrm>
            <a:off x="4643280" y="1089000"/>
            <a:ext cx="1800" cy="53560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"/>
          <p:cNvSpPr/>
          <p:nvPr/>
        </p:nvSpPr>
        <p:spPr>
          <a:xfrm>
            <a:off x="4381560" y="765000"/>
            <a:ext cx="4762440" cy="11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63de8"/>
                </a:solidFill>
                <a:latin typeface="Times New Roman"/>
              </a:rPr>
              <a:t>  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ontinuous formulation (Geodesic active contours)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9" name=""/>
              <p:cNvSpPr txBox="1"/>
              <p:nvPr/>
            </p:nvSpPr>
            <p:spPr>
              <a:xfrm>
                <a:off x="358920" y="2023920"/>
                <a:ext cx="4138560" cy="70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p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+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p</m:t>
                        </m:r>
                        <m:r>
                          <m:t xml:space="preserve">,</m:t>
                        </m:r>
                        <m:r>
                          <m:t xml:space="preserve">q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q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0" name=""/>
              <p:cNvSpPr txBox="1"/>
              <p:nvPr/>
            </p:nvSpPr>
            <p:spPr>
              <a:xfrm>
                <a:off x="5479920" y="1808280"/>
                <a:ext cx="2637000" cy="97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r>
                      <m:t xml:space="preserve">C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|</m:t>
                        </m:r>
                        <m:r>
                          <m:t xml:space="preserve">C</m:t>
                        </m:r>
                        <m:r>
                          <m:t xml:space="preserve">|</m:t>
                        </m:r>
                      </m:sup>
                      <m:e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C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ds</m:t>
                              </m:r>
                            </m:e>
                          </m:mr>
                        </m:m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881" name=""/>
          <p:cNvSpPr/>
          <p:nvPr/>
        </p:nvSpPr>
        <p:spPr>
          <a:xfrm>
            <a:off x="5778360" y="3033720"/>
            <a:ext cx="1565280" cy="1608120"/>
          </a:xfrm>
          <a:custGeom>
            <a:avLst/>
            <a:gdLst/>
            <a:ahLst/>
            <a:rect l="l" t="t" r="r" b="b"/>
            <a:pathLst>
              <a:path w="986" h="1013">
                <a:moveTo>
                  <a:pt x="90" y="642"/>
                </a:moveTo>
                <a:cubicBezTo>
                  <a:pt x="116" y="661"/>
                  <a:pt x="169" y="662"/>
                  <a:pt x="203" y="688"/>
                </a:cubicBezTo>
                <a:cubicBezTo>
                  <a:pt x="237" y="714"/>
                  <a:pt x="252" y="752"/>
                  <a:pt x="294" y="801"/>
                </a:cubicBezTo>
                <a:cubicBezTo>
                  <a:pt x="336" y="850"/>
                  <a:pt x="385" y="953"/>
                  <a:pt x="453" y="983"/>
                </a:cubicBezTo>
                <a:cubicBezTo>
                  <a:pt x="521" y="1013"/>
                  <a:pt x="623" y="1013"/>
                  <a:pt x="702" y="983"/>
                </a:cubicBezTo>
                <a:cubicBezTo>
                  <a:pt x="781" y="953"/>
                  <a:pt x="891" y="854"/>
                  <a:pt x="929" y="801"/>
                </a:cubicBezTo>
                <a:cubicBezTo>
                  <a:pt x="967" y="748"/>
                  <a:pt x="944" y="699"/>
                  <a:pt x="929" y="665"/>
                </a:cubicBezTo>
                <a:cubicBezTo>
                  <a:pt x="914" y="631"/>
                  <a:pt x="857" y="658"/>
                  <a:pt x="838" y="597"/>
                </a:cubicBezTo>
                <a:cubicBezTo>
                  <a:pt x="819" y="536"/>
                  <a:pt x="801" y="362"/>
                  <a:pt x="816" y="302"/>
                </a:cubicBezTo>
                <a:cubicBezTo>
                  <a:pt x="831" y="242"/>
                  <a:pt x="906" y="268"/>
                  <a:pt x="929" y="234"/>
                </a:cubicBezTo>
                <a:cubicBezTo>
                  <a:pt x="952" y="200"/>
                  <a:pt x="986" y="132"/>
                  <a:pt x="952" y="98"/>
                </a:cubicBezTo>
                <a:cubicBezTo>
                  <a:pt x="918" y="64"/>
                  <a:pt x="831" y="37"/>
                  <a:pt x="725" y="30"/>
                </a:cubicBezTo>
                <a:cubicBezTo>
                  <a:pt x="619" y="23"/>
                  <a:pt x="430" y="0"/>
                  <a:pt x="317" y="53"/>
                </a:cubicBezTo>
                <a:cubicBezTo>
                  <a:pt x="204" y="106"/>
                  <a:pt x="90" y="261"/>
                  <a:pt x="45" y="348"/>
                </a:cubicBezTo>
                <a:cubicBezTo>
                  <a:pt x="0" y="435"/>
                  <a:pt x="38" y="525"/>
                  <a:pt x="45" y="574"/>
                </a:cubicBezTo>
                <a:cubicBezTo>
                  <a:pt x="52" y="623"/>
                  <a:pt x="64" y="623"/>
                  <a:pt x="90" y="642"/>
                </a:cubicBezTo>
                <a:close/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"/>
          <p:cNvSpPr/>
          <p:nvPr/>
        </p:nvSpPr>
        <p:spPr>
          <a:xfrm>
            <a:off x="144360" y="5373720"/>
            <a:ext cx="4572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xflow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Global minimum, polynomial-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etrication artefact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"/>
          <p:cNvSpPr/>
          <p:nvPr/>
        </p:nvSpPr>
        <p:spPr>
          <a:xfrm>
            <a:off x="4932360" y="5265720"/>
            <a:ext cx="428472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vel s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umerical stability?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ometrically motiv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variant under ro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"/>
          <p:cNvSpPr/>
          <p:nvPr/>
        </p:nvSpPr>
        <p:spPr>
          <a:xfrm>
            <a:off x="-49320" y="766800"/>
            <a:ext cx="476244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63de8"/>
                </a:solidFill>
                <a:latin typeface="Times New Roman"/>
              </a:rPr>
              <a:t>  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iscrete formulation  (Graph cuts)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324000" y="676440"/>
            <a:ext cx="8496000" cy="26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Notation and Preliminarie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95280" y="3500280"/>
            <a:ext cx="835344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25440" y="3906720"/>
            <a:ext cx="8496360" cy="269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5" name=""/>
          <p:cNvSpPr/>
          <p:nvPr/>
        </p:nvSpPr>
        <p:spPr>
          <a:xfrm>
            <a:off x="684360" y="3249720"/>
            <a:ext cx="5111640" cy="684000"/>
          </a:xfrm>
          <a:prstGeom prst="rect">
            <a:avLst/>
          </a:prstGeom>
          <a:solidFill>
            <a:srgbClr val="ccffff">
              <a:alpha val="1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86" name=""/>
          <p:cNvGrpSpPr/>
          <p:nvPr/>
        </p:nvGrpSpPr>
        <p:grpSpPr>
          <a:xfrm>
            <a:off x="6084720" y="1952640"/>
            <a:ext cx="4429440" cy="2663640"/>
            <a:chOff x="6084720" y="1952640"/>
            <a:chExt cx="4429440" cy="2663640"/>
          </a:xfrm>
        </p:grpSpPr>
        <p:grpSp>
          <p:nvGrpSpPr>
            <p:cNvPr id="1887" name=""/>
            <p:cNvGrpSpPr/>
            <p:nvPr/>
          </p:nvGrpSpPr>
          <p:grpSpPr>
            <a:xfrm>
              <a:off x="6084720" y="2193840"/>
              <a:ext cx="4267440" cy="2133720"/>
              <a:chOff x="6084720" y="2193840"/>
              <a:chExt cx="4267440" cy="2133720"/>
            </a:xfrm>
          </p:grpSpPr>
          <p:sp>
            <p:nvSpPr>
              <p:cNvPr id="1888" name=""/>
              <p:cNvSpPr/>
              <p:nvPr/>
            </p:nvSpPr>
            <p:spPr>
              <a:xfrm>
                <a:off x="6084720" y="2346120"/>
                <a:ext cx="4267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9" name=""/>
              <p:cNvSpPr/>
              <p:nvPr/>
            </p:nvSpPr>
            <p:spPr>
              <a:xfrm>
                <a:off x="6084720" y="2651040"/>
                <a:ext cx="4267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0" name=""/>
              <p:cNvSpPr/>
              <p:nvPr/>
            </p:nvSpPr>
            <p:spPr>
              <a:xfrm>
                <a:off x="6084720" y="3565440"/>
                <a:ext cx="4267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1" name=""/>
              <p:cNvSpPr/>
              <p:nvPr/>
            </p:nvSpPr>
            <p:spPr>
              <a:xfrm>
                <a:off x="6084720" y="3260520"/>
                <a:ext cx="4267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2" name=""/>
              <p:cNvSpPr/>
              <p:nvPr/>
            </p:nvSpPr>
            <p:spPr>
              <a:xfrm>
                <a:off x="6084720" y="2955960"/>
                <a:ext cx="4267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3" name=""/>
              <p:cNvSpPr/>
              <p:nvPr/>
            </p:nvSpPr>
            <p:spPr>
              <a:xfrm>
                <a:off x="6237360" y="2193840"/>
                <a:ext cx="0" cy="2133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4" name=""/>
              <p:cNvSpPr/>
              <p:nvPr/>
            </p:nvSpPr>
            <p:spPr>
              <a:xfrm>
                <a:off x="6541920" y="2193840"/>
                <a:ext cx="0" cy="2133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5" name=""/>
              <p:cNvSpPr/>
              <p:nvPr/>
            </p:nvSpPr>
            <p:spPr>
              <a:xfrm>
                <a:off x="6846840" y="2193840"/>
                <a:ext cx="0" cy="2133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6" name=""/>
              <p:cNvSpPr/>
              <p:nvPr/>
            </p:nvSpPr>
            <p:spPr>
              <a:xfrm>
                <a:off x="7151760" y="2193840"/>
                <a:ext cx="0" cy="2133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7" name=""/>
              <p:cNvSpPr/>
              <p:nvPr/>
            </p:nvSpPr>
            <p:spPr>
              <a:xfrm>
                <a:off x="7456320" y="2193840"/>
                <a:ext cx="0" cy="2133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8" name=""/>
              <p:cNvSpPr/>
              <p:nvPr/>
            </p:nvSpPr>
            <p:spPr>
              <a:xfrm>
                <a:off x="7761240" y="2193840"/>
                <a:ext cx="0" cy="2133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9" name=""/>
              <p:cNvSpPr/>
              <p:nvPr/>
            </p:nvSpPr>
            <p:spPr>
              <a:xfrm>
                <a:off x="8066160" y="2193840"/>
                <a:ext cx="0" cy="2133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0" name=""/>
              <p:cNvSpPr/>
              <p:nvPr/>
            </p:nvSpPr>
            <p:spPr>
              <a:xfrm>
                <a:off x="8370720" y="2193840"/>
                <a:ext cx="0" cy="2133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1" name=""/>
              <p:cNvSpPr/>
              <p:nvPr/>
            </p:nvSpPr>
            <p:spPr>
              <a:xfrm flipV="1">
                <a:off x="6161040" y="2269800"/>
                <a:ext cx="1066680" cy="1066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2" name=""/>
              <p:cNvSpPr/>
              <p:nvPr/>
            </p:nvSpPr>
            <p:spPr>
              <a:xfrm flipV="1">
                <a:off x="6161040" y="2270160"/>
                <a:ext cx="1371600" cy="1371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3" name=""/>
              <p:cNvSpPr/>
              <p:nvPr/>
            </p:nvSpPr>
            <p:spPr>
              <a:xfrm flipV="1">
                <a:off x="6161040" y="2270160"/>
                <a:ext cx="1676520" cy="1676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4" name=""/>
              <p:cNvSpPr/>
              <p:nvPr/>
            </p:nvSpPr>
            <p:spPr>
              <a:xfrm flipV="1">
                <a:off x="6161040" y="2269800"/>
                <a:ext cx="1981080" cy="198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5" name=""/>
              <p:cNvSpPr/>
              <p:nvPr/>
            </p:nvSpPr>
            <p:spPr>
              <a:xfrm flipV="1">
                <a:off x="6465960" y="2269800"/>
                <a:ext cx="1981080" cy="198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6" name=""/>
              <p:cNvSpPr/>
              <p:nvPr/>
            </p:nvSpPr>
            <p:spPr>
              <a:xfrm flipV="1">
                <a:off x="6770520" y="2269800"/>
                <a:ext cx="1981440" cy="198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7" name=""/>
              <p:cNvSpPr/>
              <p:nvPr/>
            </p:nvSpPr>
            <p:spPr>
              <a:xfrm flipV="1">
                <a:off x="7075440" y="2269800"/>
                <a:ext cx="1981080" cy="198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8" name=""/>
              <p:cNvSpPr/>
              <p:nvPr/>
            </p:nvSpPr>
            <p:spPr>
              <a:xfrm flipV="1">
                <a:off x="7380360" y="2269800"/>
                <a:ext cx="1981080" cy="198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9" name=""/>
              <p:cNvSpPr/>
              <p:nvPr/>
            </p:nvSpPr>
            <p:spPr>
              <a:xfrm flipV="1">
                <a:off x="7684920" y="2269800"/>
                <a:ext cx="1981440" cy="198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0" name=""/>
              <p:cNvSpPr/>
              <p:nvPr/>
            </p:nvSpPr>
            <p:spPr>
              <a:xfrm flipV="1">
                <a:off x="7989840" y="2269800"/>
                <a:ext cx="1981080" cy="198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1" name=""/>
              <p:cNvSpPr/>
              <p:nvPr/>
            </p:nvSpPr>
            <p:spPr>
              <a:xfrm flipV="1">
                <a:off x="8294760" y="2269800"/>
                <a:ext cx="1981080" cy="198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2" name=""/>
              <p:cNvSpPr/>
              <p:nvPr/>
            </p:nvSpPr>
            <p:spPr>
              <a:xfrm flipV="1">
                <a:off x="6161040" y="2270160"/>
                <a:ext cx="762120" cy="76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3" name=""/>
              <p:cNvSpPr/>
              <p:nvPr/>
            </p:nvSpPr>
            <p:spPr>
              <a:xfrm flipV="1">
                <a:off x="6161040" y="2270160"/>
                <a:ext cx="457200" cy="45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4" name=""/>
              <p:cNvSpPr/>
              <p:nvPr/>
            </p:nvSpPr>
            <p:spPr>
              <a:xfrm flipV="1">
                <a:off x="6161040" y="226980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5" name=""/>
              <p:cNvSpPr/>
              <p:nvPr/>
            </p:nvSpPr>
            <p:spPr>
              <a:xfrm>
                <a:off x="6161040" y="2574720"/>
                <a:ext cx="1676520" cy="1676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6" name=""/>
              <p:cNvSpPr/>
              <p:nvPr/>
            </p:nvSpPr>
            <p:spPr>
              <a:xfrm>
                <a:off x="6465960" y="2270160"/>
                <a:ext cx="1981080" cy="198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7" name=""/>
              <p:cNvSpPr/>
              <p:nvPr/>
            </p:nvSpPr>
            <p:spPr>
              <a:xfrm>
                <a:off x="6770520" y="2270160"/>
                <a:ext cx="1981440" cy="198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8" name=""/>
              <p:cNvSpPr/>
              <p:nvPr/>
            </p:nvSpPr>
            <p:spPr>
              <a:xfrm>
                <a:off x="7075440" y="2270160"/>
                <a:ext cx="1981080" cy="198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9" name=""/>
              <p:cNvSpPr/>
              <p:nvPr/>
            </p:nvSpPr>
            <p:spPr>
              <a:xfrm>
                <a:off x="7380360" y="2270160"/>
                <a:ext cx="1981080" cy="198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0" name=""/>
              <p:cNvSpPr/>
              <p:nvPr/>
            </p:nvSpPr>
            <p:spPr>
              <a:xfrm>
                <a:off x="7684920" y="2270160"/>
                <a:ext cx="1981440" cy="198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1" name=""/>
              <p:cNvSpPr/>
              <p:nvPr/>
            </p:nvSpPr>
            <p:spPr>
              <a:xfrm>
                <a:off x="7989840" y="2270160"/>
                <a:ext cx="1981080" cy="198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2" name=""/>
              <p:cNvSpPr/>
              <p:nvPr/>
            </p:nvSpPr>
            <p:spPr>
              <a:xfrm>
                <a:off x="8294760" y="2270160"/>
                <a:ext cx="1981080" cy="198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3" name=""/>
              <p:cNvSpPr/>
              <p:nvPr/>
            </p:nvSpPr>
            <p:spPr>
              <a:xfrm>
                <a:off x="6161040" y="2879640"/>
                <a:ext cx="1371600" cy="1371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4" name=""/>
              <p:cNvSpPr/>
              <p:nvPr/>
            </p:nvSpPr>
            <p:spPr>
              <a:xfrm>
                <a:off x="6161040" y="3184560"/>
                <a:ext cx="1066680" cy="1066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5" name=""/>
              <p:cNvSpPr/>
              <p:nvPr/>
            </p:nvSpPr>
            <p:spPr>
              <a:xfrm>
                <a:off x="6161040" y="3489120"/>
                <a:ext cx="762120" cy="762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6" name=""/>
              <p:cNvSpPr/>
              <p:nvPr/>
            </p:nvSpPr>
            <p:spPr>
              <a:xfrm>
                <a:off x="6465960" y="3184560"/>
                <a:ext cx="152280" cy="152280"/>
              </a:xfrm>
              <a:prstGeom prst="ellipse">
                <a:avLst/>
              </a:prstGeom>
              <a:solidFill>
                <a:srgbClr val="50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7" name=""/>
              <p:cNvSpPr/>
              <p:nvPr/>
            </p:nvSpPr>
            <p:spPr>
              <a:xfrm>
                <a:off x="6161040" y="2574720"/>
                <a:ext cx="152280" cy="152640"/>
              </a:xfrm>
              <a:prstGeom prst="ellipse">
                <a:avLst/>
              </a:prstGeom>
              <a:solidFill>
                <a:srgbClr val="50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8" name=""/>
              <p:cNvSpPr/>
              <p:nvPr/>
            </p:nvSpPr>
            <p:spPr>
              <a:xfrm>
                <a:off x="6161040" y="2879640"/>
                <a:ext cx="152280" cy="152280"/>
              </a:xfrm>
              <a:prstGeom prst="ellipse">
                <a:avLst/>
              </a:prstGeom>
              <a:solidFill>
                <a:srgbClr val="50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9" name=""/>
              <p:cNvSpPr/>
              <p:nvPr/>
            </p:nvSpPr>
            <p:spPr>
              <a:xfrm>
                <a:off x="6161040" y="3184560"/>
                <a:ext cx="152280" cy="152280"/>
              </a:xfrm>
              <a:prstGeom prst="ellipse">
                <a:avLst/>
              </a:prstGeom>
              <a:solidFill>
                <a:srgbClr val="50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0" name=""/>
              <p:cNvSpPr/>
              <p:nvPr/>
            </p:nvSpPr>
            <p:spPr>
              <a:xfrm>
                <a:off x="6161040" y="3489120"/>
                <a:ext cx="152280" cy="152640"/>
              </a:xfrm>
              <a:prstGeom prst="ellipse">
                <a:avLst/>
              </a:prstGeom>
              <a:solidFill>
                <a:srgbClr val="50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1" name=""/>
              <p:cNvSpPr/>
              <p:nvPr/>
            </p:nvSpPr>
            <p:spPr>
              <a:xfrm>
                <a:off x="6465960" y="3489120"/>
                <a:ext cx="152280" cy="152640"/>
              </a:xfrm>
              <a:prstGeom prst="ellipse">
                <a:avLst/>
              </a:prstGeom>
              <a:solidFill>
                <a:srgbClr val="50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2" name=""/>
              <p:cNvSpPr/>
              <p:nvPr/>
            </p:nvSpPr>
            <p:spPr>
              <a:xfrm>
                <a:off x="6770520" y="3489120"/>
                <a:ext cx="152640" cy="152640"/>
              </a:xfrm>
              <a:prstGeom prst="ellipse">
                <a:avLst/>
              </a:prstGeom>
              <a:solidFill>
                <a:srgbClr val="50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3" name=""/>
              <p:cNvSpPr/>
              <p:nvPr/>
            </p:nvSpPr>
            <p:spPr>
              <a:xfrm>
                <a:off x="7075440" y="3489120"/>
                <a:ext cx="152280" cy="152640"/>
              </a:xfrm>
              <a:prstGeom prst="ellipse">
                <a:avLst/>
              </a:prstGeom>
              <a:solidFill>
                <a:srgbClr val="50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4" name=""/>
              <p:cNvSpPr/>
              <p:nvPr/>
            </p:nvSpPr>
            <p:spPr>
              <a:xfrm>
                <a:off x="7380360" y="3489120"/>
                <a:ext cx="152280" cy="152640"/>
              </a:xfrm>
              <a:prstGeom prst="ellipse">
                <a:avLst/>
              </a:prstGeom>
              <a:solidFill>
                <a:srgbClr val="50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5" name=""/>
              <p:cNvSpPr/>
              <p:nvPr/>
            </p:nvSpPr>
            <p:spPr>
              <a:xfrm>
                <a:off x="7684920" y="3489120"/>
                <a:ext cx="152640" cy="152640"/>
              </a:xfrm>
              <a:prstGeom prst="ellipse">
                <a:avLst/>
              </a:prstGeom>
              <a:solidFill>
                <a:srgbClr val="50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6" name=""/>
              <p:cNvSpPr/>
              <p:nvPr/>
            </p:nvSpPr>
            <p:spPr>
              <a:xfrm>
                <a:off x="7989840" y="3489120"/>
                <a:ext cx="152280" cy="152640"/>
              </a:xfrm>
              <a:prstGeom prst="ellipse">
                <a:avLst/>
              </a:prstGeom>
              <a:solidFill>
                <a:srgbClr val="50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7" name=""/>
              <p:cNvSpPr/>
              <p:nvPr/>
            </p:nvSpPr>
            <p:spPr>
              <a:xfrm>
                <a:off x="8294760" y="3489120"/>
                <a:ext cx="152280" cy="152640"/>
              </a:xfrm>
              <a:prstGeom prst="ellipse">
                <a:avLst/>
              </a:prstGeom>
              <a:solidFill>
                <a:srgbClr val="50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8" name=""/>
              <p:cNvSpPr/>
              <p:nvPr/>
            </p:nvSpPr>
            <p:spPr>
              <a:xfrm>
                <a:off x="6161040" y="2270160"/>
                <a:ext cx="152280" cy="152280"/>
              </a:xfrm>
              <a:prstGeom prst="ellipse">
                <a:avLst/>
              </a:prstGeom>
              <a:solidFill>
                <a:srgbClr val="50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9" name=""/>
              <p:cNvSpPr/>
              <p:nvPr/>
            </p:nvSpPr>
            <p:spPr>
              <a:xfrm>
                <a:off x="6465960" y="2270160"/>
                <a:ext cx="152280" cy="152280"/>
              </a:xfrm>
              <a:prstGeom prst="ellipse">
                <a:avLst/>
              </a:prstGeom>
              <a:solidFill>
                <a:srgbClr val="50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0" name=""/>
              <p:cNvSpPr/>
              <p:nvPr/>
            </p:nvSpPr>
            <p:spPr>
              <a:xfrm>
                <a:off x="6465960" y="2574720"/>
                <a:ext cx="152280" cy="152640"/>
              </a:xfrm>
              <a:prstGeom prst="ellipse">
                <a:avLst/>
              </a:prstGeom>
              <a:solidFill>
                <a:srgbClr val="50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1" name=""/>
              <p:cNvSpPr/>
              <p:nvPr/>
            </p:nvSpPr>
            <p:spPr>
              <a:xfrm>
                <a:off x="6465960" y="2879640"/>
                <a:ext cx="152280" cy="152280"/>
              </a:xfrm>
              <a:prstGeom prst="ellipse">
                <a:avLst/>
              </a:prstGeom>
              <a:solidFill>
                <a:srgbClr val="50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2" name=""/>
              <p:cNvSpPr/>
              <p:nvPr/>
            </p:nvSpPr>
            <p:spPr>
              <a:xfrm>
                <a:off x="6770520" y="2879640"/>
                <a:ext cx="152640" cy="152280"/>
              </a:xfrm>
              <a:prstGeom prst="ellipse">
                <a:avLst/>
              </a:prstGeom>
              <a:solidFill>
                <a:srgbClr val="50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3" name=""/>
              <p:cNvSpPr/>
              <p:nvPr/>
            </p:nvSpPr>
            <p:spPr>
              <a:xfrm>
                <a:off x="6770520" y="3184560"/>
                <a:ext cx="152640" cy="152280"/>
              </a:xfrm>
              <a:prstGeom prst="ellipse">
                <a:avLst/>
              </a:prstGeom>
              <a:solidFill>
                <a:srgbClr val="50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4" name=""/>
              <p:cNvSpPr/>
              <p:nvPr/>
            </p:nvSpPr>
            <p:spPr>
              <a:xfrm>
                <a:off x="6770520" y="2574720"/>
                <a:ext cx="152640" cy="152640"/>
              </a:xfrm>
              <a:prstGeom prst="ellipse">
                <a:avLst/>
              </a:prstGeom>
              <a:solidFill>
                <a:srgbClr val="50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5" name=""/>
              <p:cNvSpPr/>
              <p:nvPr/>
            </p:nvSpPr>
            <p:spPr>
              <a:xfrm>
                <a:off x="6770520" y="2270160"/>
                <a:ext cx="152640" cy="152280"/>
              </a:xfrm>
              <a:prstGeom prst="ellipse">
                <a:avLst/>
              </a:prstGeom>
              <a:solidFill>
                <a:srgbClr val="50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6" name=""/>
              <p:cNvSpPr/>
              <p:nvPr/>
            </p:nvSpPr>
            <p:spPr>
              <a:xfrm>
                <a:off x="7075440" y="2270160"/>
                <a:ext cx="152280" cy="152280"/>
              </a:xfrm>
              <a:prstGeom prst="ellipse">
                <a:avLst/>
              </a:prstGeom>
              <a:solidFill>
                <a:srgbClr val="50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7" name=""/>
              <p:cNvSpPr/>
              <p:nvPr/>
            </p:nvSpPr>
            <p:spPr>
              <a:xfrm>
                <a:off x="7075440" y="2574720"/>
                <a:ext cx="152280" cy="152640"/>
              </a:xfrm>
              <a:prstGeom prst="ellipse">
                <a:avLst/>
              </a:prstGeom>
              <a:solidFill>
                <a:srgbClr val="50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8" name=""/>
              <p:cNvSpPr/>
              <p:nvPr/>
            </p:nvSpPr>
            <p:spPr>
              <a:xfrm>
                <a:off x="7075440" y="2879640"/>
                <a:ext cx="152280" cy="152280"/>
              </a:xfrm>
              <a:prstGeom prst="ellipse">
                <a:avLst/>
              </a:prstGeom>
              <a:solidFill>
                <a:srgbClr val="50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9" name=""/>
              <p:cNvSpPr/>
              <p:nvPr/>
            </p:nvSpPr>
            <p:spPr>
              <a:xfrm>
                <a:off x="7075440" y="3184560"/>
                <a:ext cx="152280" cy="152280"/>
              </a:xfrm>
              <a:prstGeom prst="ellipse">
                <a:avLst/>
              </a:prstGeom>
              <a:solidFill>
                <a:srgbClr val="50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0" name=""/>
              <p:cNvSpPr/>
              <p:nvPr/>
            </p:nvSpPr>
            <p:spPr>
              <a:xfrm>
                <a:off x="7380360" y="3184560"/>
                <a:ext cx="152280" cy="152280"/>
              </a:xfrm>
              <a:prstGeom prst="ellipse">
                <a:avLst/>
              </a:prstGeom>
              <a:solidFill>
                <a:srgbClr val="50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1" name=""/>
              <p:cNvSpPr/>
              <p:nvPr/>
            </p:nvSpPr>
            <p:spPr>
              <a:xfrm>
                <a:off x="7380360" y="2879640"/>
                <a:ext cx="152280" cy="152280"/>
              </a:xfrm>
              <a:prstGeom prst="ellipse">
                <a:avLst/>
              </a:prstGeom>
              <a:solidFill>
                <a:srgbClr val="50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2" name=""/>
              <p:cNvSpPr/>
              <p:nvPr/>
            </p:nvSpPr>
            <p:spPr>
              <a:xfrm>
                <a:off x="7380360" y="2270160"/>
                <a:ext cx="152280" cy="152280"/>
              </a:xfrm>
              <a:prstGeom prst="ellipse">
                <a:avLst/>
              </a:prstGeom>
              <a:solidFill>
                <a:srgbClr val="50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3" name=""/>
              <p:cNvSpPr/>
              <p:nvPr/>
            </p:nvSpPr>
            <p:spPr>
              <a:xfrm>
                <a:off x="7380360" y="2574720"/>
                <a:ext cx="152280" cy="152640"/>
              </a:xfrm>
              <a:prstGeom prst="ellipse">
                <a:avLst/>
              </a:prstGeom>
              <a:solidFill>
                <a:srgbClr val="50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4" name=""/>
              <p:cNvSpPr/>
              <p:nvPr/>
            </p:nvSpPr>
            <p:spPr>
              <a:xfrm>
                <a:off x="7684920" y="3184560"/>
                <a:ext cx="152640" cy="152280"/>
              </a:xfrm>
              <a:prstGeom prst="ellipse">
                <a:avLst/>
              </a:prstGeom>
              <a:solidFill>
                <a:srgbClr val="50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5" name=""/>
              <p:cNvSpPr/>
              <p:nvPr/>
            </p:nvSpPr>
            <p:spPr>
              <a:xfrm>
                <a:off x="7989840" y="3184560"/>
                <a:ext cx="152280" cy="152280"/>
              </a:xfrm>
              <a:prstGeom prst="ellipse">
                <a:avLst/>
              </a:prstGeom>
              <a:solidFill>
                <a:srgbClr val="50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6" name=""/>
              <p:cNvSpPr/>
              <p:nvPr/>
            </p:nvSpPr>
            <p:spPr>
              <a:xfrm>
                <a:off x="8294760" y="3184560"/>
                <a:ext cx="152280" cy="152280"/>
              </a:xfrm>
              <a:prstGeom prst="ellipse">
                <a:avLst/>
              </a:prstGeom>
              <a:solidFill>
                <a:srgbClr val="50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7" name=""/>
              <p:cNvSpPr/>
              <p:nvPr/>
            </p:nvSpPr>
            <p:spPr>
              <a:xfrm>
                <a:off x="7684920" y="2879640"/>
                <a:ext cx="152640" cy="152280"/>
              </a:xfrm>
              <a:prstGeom prst="ellipse">
                <a:avLst/>
              </a:prstGeom>
              <a:solidFill>
                <a:srgbClr val="50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8" name=""/>
              <p:cNvSpPr/>
              <p:nvPr/>
            </p:nvSpPr>
            <p:spPr>
              <a:xfrm>
                <a:off x="7989840" y="2879640"/>
                <a:ext cx="152280" cy="152280"/>
              </a:xfrm>
              <a:prstGeom prst="ellipse">
                <a:avLst/>
              </a:prstGeom>
              <a:solidFill>
                <a:srgbClr val="50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9" name=""/>
              <p:cNvSpPr/>
              <p:nvPr/>
            </p:nvSpPr>
            <p:spPr>
              <a:xfrm>
                <a:off x="8294760" y="2879640"/>
                <a:ext cx="152280" cy="152280"/>
              </a:xfrm>
              <a:prstGeom prst="ellipse">
                <a:avLst/>
              </a:prstGeom>
              <a:solidFill>
                <a:srgbClr val="50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0" name=""/>
              <p:cNvSpPr/>
              <p:nvPr/>
            </p:nvSpPr>
            <p:spPr>
              <a:xfrm>
                <a:off x="7684920" y="2574720"/>
                <a:ext cx="152640" cy="152640"/>
              </a:xfrm>
              <a:prstGeom prst="ellipse">
                <a:avLst/>
              </a:prstGeom>
              <a:solidFill>
                <a:srgbClr val="50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1" name=""/>
              <p:cNvSpPr/>
              <p:nvPr/>
            </p:nvSpPr>
            <p:spPr>
              <a:xfrm>
                <a:off x="7989840" y="2574720"/>
                <a:ext cx="152280" cy="152640"/>
              </a:xfrm>
              <a:prstGeom prst="ellipse">
                <a:avLst/>
              </a:prstGeom>
              <a:solidFill>
                <a:srgbClr val="50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2" name=""/>
              <p:cNvSpPr/>
              <p:nvPr/>
            </p:nvSpPr>
            <p:spPr>
              <a:xfrm>
                <a:off x="8294760" y="2574720"/>
                <a:ext cx="152280" cy="152640"/>
              </a:xfrm>
              <a:prstGeom prst="ellipse">
                <a:avLst/>
              </a:prstGeom>
              <a:solidFill>
                <a:srgbClr val="50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3" name=""/>
              <p:cNvSpPr/>
              <p:nvPr/>
            </p:nvSpPr>
            <p:spPr>
              <a:xfrm>
                <a:off x="7684920" y="2270160"/>
                <a:ext cx="152640" cy="152280"/>
              </a:xfrm>
              <a:prstGeom prst="ellipse">
                <a:avLst/>
              </a:prstGeom>
              <a:solidFill>
                <a:srgbClr val="50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4" name=""/>
              <p:cNvSpPr/>
              <p:nvPr/>
            </p:nvSpPr>
            <p:spPr>
              <a:xfrm>
                <a:off x="7989840" y="2270160"/>
                <a:ext cx="152280" cy="152280"/>
              </a:xfrm>
              <a:prstGeom prst="ellipse">
                <a:avLst/>
              </a:prstGeom>
              <a:solidFill>
                <a:srgbClr val="50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5" name=""/>
              <p:cNvSpPr/>
              <p:nvPr/>
            </p:nvSpPr>
            <p:spPr>
              <a:xfrm>
                <a:off x="8294760" y="2270160"/>
                <a:ext cx="152280" cy="152280"/>
              </a:xfrm>
              <a:prstGeom prst="ellipse">
                <a:avLst/>
              </a:prstGeom>
              <a:solidFill>
                <a:srgbClr val="50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6" name=""/>
              <p:cNvSpPr/>
              <p:nvPr/>
            </p:nvSpPr>
            <p:spPr>
              <a:xfrm>
                <a:off x="6084720" y="3870360"/>
                <a:ext cx="4267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7" name=""/>
              <p:cNvSpPr/>
              <p:nvPr/>
            </p:nvSpPr>
            <p:spPr>
              <a:xfrm>
                <a:off x="6161040" y="3794040"/>
                <a:ext cx="457200" cy="45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8" name=""/>
              <p:cNvSpPr/>
              <p:nvPr/>
            </p:nvSpPr>
            <p:spPr>
              <a:xfrm>
                <a:off x="6161040" y="3794040"/>
                <a:ext cx="152280" cy="152280"/>
              </a:xfrm>
              <a:prstGeom prst="ellipse">
                <a:avLst/>
              </a:prstGeom>
              <a:solidFill>
                <a:srgbClr val="50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9" name=""/>
              <p:cNvSpPr/>
              <p:nvPr/>
            </p:nvSpPr>
            <p:spPr>
              <a:xfrm>
                <a:off x="6465960" y="3794040"/>
                <a:ext cx="152280" cy="152280"/>
              </a:xfrm>
              <a:prstGeom prst="ellipse">
                <a:avLst/>
              </a:prstGeom>
              <a:solidFill>
                <a:srgbClr val="50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0" name=""/>
              <p:cNvSpPr/>
              <p:nvPr/>
            </p:nvSpPr>
            <p:spPr>
              <a:xfrm>
                <a:off x="6770520" y="3794040"/>
                <a:ext cx="152640" cy="152280"/>
              </a:xfrm>
              <a:prstGeom prst="ellipse">
                <a:avLst/>
              </a:prstGeom>
              <a:solidFill>
                <a:srgbClr val="50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1" name=""/>
              <p:cNvSpPr/>
              <p:nvPr/>
            </p:nvSpPr>
            <p:spPr>
              <a:xfrm>
                <a:off x="7075440" y="3794040"/>
                <a:ext cx="152280" cy="152280"/>
              </a:xfrm>
              <a:prstGeom prst="ellipse">
                <a:avLst/>
              </a:prstGeom>
              <a:solidFill>
                <a:srgbClr val="50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2" name=""/>
              <p:cNvSpPr/>
              <p:nvPr/>
            </p:nvSpPr>
            <p:spPr>
              <a:xfrm>
                <a:off x="7380360" y="3794040"/>
                <a:ext cx="152280" cy="152280"/>
              </a:xfrm>
              <a:prstGeom prst="ellipse">
                <a:avLst/>
              </a:prstGeom>
              <a:solidFill>
                <a:srgbClr val="50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3" name=""/>
              <p:cNvSpPr/>
              <p:nvPr/>
            </p:nvSpPr>
            <p:spPr>
              <a:xfrm>
                <a:off x="7684920" y="3794040"/>
                <a:ext cx="152640" cy="152280"/>
              </a:xfrm>
              <a:prstGeom prst="ellipse">
                <a:avLst/>
              </a:prstGeom>
              <a:solidFill>
                <a:srgbClr val="50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4" name=""/>
              <p:cNvSpPr/>
              <p:nvPr/>
            </p:nvSpPr>
            <p:spPr>
              <a:xfrm>
                <a:off x="7989840" y="3794040"/>
                <a:ext cx="152280" cy="152280"/>
              </a:xfrm>
              <a:prstGeom prst="ellipse">
                <a:avLst/>
              </a:prstGeom>
              <a:solidFill>
                <a:srgbClr val="50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5" name=""/>
              <p:cNvSpPr/>
              <p:nvPr/>
            </p:nvSpPr>
            <p:spPr>
              <a:xfrm>
                <a:off x="8294760" y="3794040"/>
                <a:ext cx="152280" cy="152280"/>
              </a:xfrm>
              <a:prstGeom prst="ellipse">
                <a:avLst/>
              </a:prstGeom>
              <a:solidFill>
                <a:srgbClr val="50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6" name=""/>
              <p:cNvSpPr/>
              <p:nvPr/>
            </p:nvSpPr>
            <p:spPr>
              <a:xfrm>
                <a:off x="6084720" y="4174920"/>
                <a:ext cx="4267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7" name=""/>
              <p:cNvSpPr/>
              <p:nvPr/>
            </p:nvSpPr>
            <p:spPr>
              <a:xfrm>
                <a:off x="6161040" y="409896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8" name=""/>
              <p:cNvSpPr/>
              <p:nvPr/>
            </p:nvSpPr>
            <p:spPr>
              <a:xfrm>
                <a:off x="6161040" y="4098960"/>
                <a:ext cx="152280" cy="152280"/>
              </a:xfrm>
              <a:prstGeom prst="ellipse">
                <a:avLst/>
              </a:prstGeom>
              <a:solidFill>
                <a:srgbClr val="50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9" name=""/>
              <p:cNvSpPr/>
              <p:nvPr/>
            </p:nvSpPr>
            <p:spPr>
              <a:xfrm>
                <a:off x="6465960" y="4098960"/>
                <a:ext cx="152280" cy="152280"/>
              </a:xfrm>
              <a:prstGeom prst="ellipse">
                <a:avLst/>
              </a:prstGeom>
              <a:solidFill>
                <a:srgbClr val="50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0" name=""/>
              <p:cNvSpPr/>
              <p:nvPr/>
            </p:nvSpPr>
            <p:spPr>
              <a:xfrm>
                <a:off x="6770520" y="4098960"/>
                <a:ext cx="152640" cy="152280"/>
              </a:xfrm>
              <a:prstGeom prst="ellipse">
                <a:avLst/>
              </a:prstGeom>
              <a:solidFill>
                <a:srgbClr val="50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1" name=""/>
              <p:cNvSpPr/>
              <p:nvPr/>
            </p:nvSpPr>
            <p:spPr>
              <a:xfrm>
                <a:off x="7075440" y="4098960"/>
                <a:ext cx="152280" cy="152280"/>
              </a:xfrm>
              <a:prstGeom prst="ellipse">
                <a:avLst/>
              </a:prstGeom>
              <a:solidFill>
                <a:srgbClr val="50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2" name=""/>
              <p:cNvSpPr/>
              <p:nvPr/>
            </p:nvSpPr>
            <p:spPr>
              <a:xfrm>
                <a:off x="7380360" y="4098960"/>
                <a:ext cx="152280" cy="152280"/>
              </a:xfrm>
              <a:prstGeom prst="ellipse">
                <a:avLst/>
              </a:prstGeom>
              <a:solidFill>
                <a:srgbClr val="50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3" name=""/>
              <p:cNvSpPr/>
              <p:nvPr/>
            </p:nvSpPr>
            <p:spPr>
              <a:xfrm>
                <a:off x="7684920" y="4098960"/>
                <a:ext cx="152640" cy="152280"/>
              </a:xfrm>
              <a:prstGeom prst="ellipse">
                <a:avLst/>
              </a:prstGeom>
              <a:solidFill>
                <a:srgbClr val="50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4" name=""/>
              <p:cNvSpPr/>
              <p:nvPr/>
            </p:nvSpPr>
            <p:spPr>
              <a:xfrm>
                <a:off x="7989840" y="4098960"/>
                <a:ext cx="152280" cy="152280"/>
              </a:xfrm>
              <a:prstGeom prst="ellipse">
                <a:avLst/>
              </a:prstGeom>
              <a:solidFill>
                <a:srgbClr val="50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5" name=""/>
              <p:cNvSpPr/>
              <p:nvPr/>
            </p:nvSpPr>
            <p:spPr>
              <a:xfrm>
                <a:off x="8294760" y="4098960"/>
                <a:ext cx="152280" cy="152280"/>
              </a:xfrm>
              <a:prstGeom prst="ellipse">
                <a:avLst/>
              </a:prstGeom>
              <a:solidFill>
                <a:srgbClr val="50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6" name=""/>
              <p:cNvSpPr/>
              <p:nvPr/>
            </p:nvSpPr>
            <p:spPr>
              <a:xfrm>
                <a:off x="6161040" y="2270160"/>
                <a:ext cx="1981080" cy="198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87" name=""/>
            <p:cNvSpPr/>
            <p:nvPr/>
          </p:nvSpPr>
          <p:spPr>
            <a:xfrm>
              <a:off x="8461440" y="1952640"/>
              <a:ext cx="2052720" cy="2663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88" name="PlaceHolder 1"/>
          <p:cNvSpPr>
            <a:spLocks noGrp="1"/>
          </p:cNvSpPr>
          <p:nvPr>
            <p:ph type="title"/>
          </p:nvPr>
        </p:nvSpPr>
        <p:spPr>
          <a:xfrm>
            <a:off x="457200" y="-22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eo-cu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9" name=""/>
          <p:cNvSpPr/>
          <p:nvPr/>
        </p:nvSpPr>
        <p:spPr>
          <a:xfrm>
            <a:off x="395280" y="846000"/>
            <a:ext cx="835344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0" name=""/>
          <p:cNvSpPr/>
          <p:nvPr/>
        </p:nvSpPr>
        <p:spPr>
          <a:xfrm>
            <a:off x="6337440" y="2409840"/>
            <a:ext cx="1565280" cy="1608120"/>
          </a:xfrm>
          <a:custGeom>
            <a:avLst/>
            <a:gdLst/>
            <a:ahLst/>
            <a:rect l="l" t="t" r="r" b="b"/>
            <a:pathLst>
              <a:path w="986" h="1013">
                <a:moveTo>
                  <a:pt x="90" y="642"/>
                </a:moveTo>
                <a:cubicBezTo>
                  <a:pt x="116" y="661"/>
                  <a:pt x="169" y="662"/>
                  <a:pt x="203" y="688"/>
                </a:cubicBezTo>
                <a:cubicBezTo>
                  <a:pt x="237" y="714"/>
                  <a:pt x="252" y="752"/>
                  <a:pt x="294" y="801"/>
                </a:cubicBezTo>
                <a:cubicBezTo>
                  <a:pt x="336" y="850"/>
                  <a:pt x="385" y="953"/>
                  <a:pt x="453" y="983"/>
                </a:cubicBezTo>
                <a:cubicBezTo>
                  <a:pt x="521" y="1013"/>
                  <a:pt x="623" y="1013"/>
                  <a:pt x="702" y="983"/>
                </a:cubicBezTo>
                <a:cubicBezTo>
                  <a:pt x="781" y="953"/>
                  <a:pt x="891" y="854"/>
                  <a:pt x="929" y="801"/>
                </a:cubicBezTo>
                <a:cubicBezTo>
                  <a:pt x="967" y="748"/>
                  <a:pt x="944" y="699"/>
                  <a:pt x="929" y="665"/>
                </a:cubicBezTo>
                <a:cubicBezTo>
                  <a:pt x="914" y="631"/>
                  <a:pt x="857" y="658"/>
                  <a:pt x="838" y="597"/>
                </a:cubicBezTo>
                <a:cubicBezTo>
                  <a:pt x="819" y="536"/>
                  <a:pt x="801" y="362"/>
                  <a:pt x="816" y="302"/>
                </a:cubicBezTo>
                <a:cubicBezTo>
                  <a:pt x="831" y="242"/>
                  <a:pt x="906" y="268"/>
                  <a:pt x="929" y="234"/>
                </a:cubicBezTo>
                <a:cubicBezTo>
                  <a:pt x="952" y="200"/>
                  <a:pt x="986" y="132"/>
                  <a:pt x="952" y="98"/>
                </a:cubicBezTo>
                <a:cubicBezTo>
                  <a:pt x="918" y="64"/>
                  <a:pt x="831" y="37"/>
                  <a:pt x="725" y="30"/>
                </a:cubicBezTo>
                <a:cubicBezTo>
                  <a:pt x="619" y="23"/>
                  <a:pt x="430" y="0"/>
                  <a:pt x="317" y="53"/>
                </a:cubicBezTo>
                <a:cubicBezTo>
                  <a:pt x="204" y="106"/>
                  <a:pt x="90" y="261"/>
                  <a:pt x="45" y="348"/>
                </a:cubicBezTo>
                <a:cubicBezTo>
                  <a:pt x="0" y="435"/>
                  <a:pt x="38" y="525"/>
                  <a:pt x="45" y="574"/>
                </a:cubicBezTo>
                <a:cubicBezTo>
                  <a:pt x="52" y="623"/>
                  <a:pt x="64" y="623"/>
                  <a:pt x="90" y="642"/>
                </a:cubicBezTo>
                <a:close/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2"/>
          <p:cNvSpPr>
            <a:spLocks noGrp="1"/>
          </p:cNvSpPr>
          <p:nvPr>
            <p:ph/>
          </p:nvPr>
        </p:nvSpPr>
        <p:spPr>
          <a:xfrm>
            <a:off x="357120" y="985320"/>
            <a:ext cx="5510160" cy="20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inuous funct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truct graph such that for smooth contour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92" name=""/>
              <p:cNvSpPr txBox="1"/>
              <p:nvPr/>
            </p:nvSpPr>
            <p:spPr>
              <a:xfrm>
                <a:off x="4402080" y="797040"/>
                <a:ext cx="4165560" cy="108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r>
                      <m:t xml:space="preserve">C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|</m:t>
                        </m:r>
                        <m:r>
                          <m:t xml:space="preserve">C</m:t>
                        </m:r>
                        <m:r>
                          <m:t xml:space="preserve">|</m:t>
                        </m:r>
                      </m:sup>
                      <m:e>
                        <m:r>
                          <m:t xml:space="preserve">g</m:t>
                        </m:r>
                        <m:r>
                          <m:t xml:space="preserve">(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N</m:t>
                            </m:r>
                          </m:e>
                        </m:acc>
                        <m:r>
                          <m:t xml:space="preserve">)</m:t>
                        </m:r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ds</m:t>
                              </m:r>
                            </m:e>
                          </m:mr>
                        </m:m>
                        <m:r>
                          <m:t xml:space="preserve">+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terior</m:t>
                            </m:r>
                            <m:r>
                              <m:t xml:space="preserve">(</m:t>
                            </m:r>
                            <m:r>
                              <m:t xml:space="preserve">C</m:t>
                            </m:r>
                            <m:r>
                              <m:t xml:space="preserve">)</m:t>
                            </m:r>
                          </m:sub>
                          <m:sup/>
                          <m:e>
                            <m:r>
                              <m:t xml:space="preserve">f</m:t>
                            </m:r>
                            <m:m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dV</m:t>
                                  </m:r>
                                </m:e>
                              </m:mr>
                            </m:m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3" name=""/>
              <p:cNvSpPr txBox="1"/>
              <p:nvPr/>
            </p:nvSpPr>
            <p:spPr>
              <a:xfrm>
                <a:off x="898560" y="3392640"/>
                <a:ext cx="4789440" cy="42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r>
                      <m:t xml:space="preserve">C</m:t>
                    </m:r>
                    <m:r>
                      <m:t xml:space="preserve">)</m:t>
                    </m:r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cost of the corresponding cu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94" name=""/>
          <p:cNvSpPr/>
          <p:nvPr/>
        </p:nvSpPr>
        <p:spPr>
          <a:xfrm>
            <a:off x="357120" y="4189320"/>
            <a:ext cx="8786880" cy="26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lass of continuous functional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[Boykov&amp;Kolmogorov’03], [Kolmogorov&amp;Boykov’05]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ometric length/area (e.g. Riemannia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Flux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of a given vector fie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egional te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nergy function - visualis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2176560" y="3449520"/>
            <a:ext cx="3671640" cy="2981160"/>
            <a:chOff x="2176560" y="3449520"/>
            <a:chExt cx="3671640" cy="2981160"/>
          </a:xfrm>
        </p:grpSpPr>
        <p:grpSp>
          <p:nvGrpSpPr>
            <p:cNvPr id="163" name=""/>
            <p:cNvGrpSpPr/>
            <p:nvPr/>
          </p:nvGrpSpPr>
          <p:grpSpPr>
            <a:xfrm>
              <a:off x="2176560" y="3906720"/>
              <a:ext cx="3671640" cy="1777680"/>
              <a:chOff x="2176560" y="3906720"/>
              <a:chExt cx="3671640" cy="1777680"/>
            </a:xfrm>
          </p:grpSpPr>
          <p:sp>
            <p:nvSpPr>
              <p:cNvPr id="164" name=""/>
              <p:cNvSpPr/>
              <p:nvPr/>
            </p:nvSpPr>
            <p:spPr>
              <a:xfrm>
                <a:off x="2634840" y="5623920"/>
                <a:ext cx="2754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2634840" y="3967560"/>
                <a:ext cx="2754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flipV="1">
                <a:off x="2634840" y="3967200"/>
                <a:ext cx="2754360" cy="1656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2634840" y="3967560"/>
                <a:ext cx="2754360" cy="1656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2176560" y="5348160"/>
                <a:ext cx="458280" cy="275760"/>
                <a:chOff x="2176560" y="5348160"/>
                <a:chExt cx="458280" cy="275760"/>
              </a:xfrm>
            </p:grpSpPr>
            <p:sp>
              <p:nvSpPr>
                <p:cNvPr id="169" name=""/>
                <p:cNvSpPr/>
                <p:nvPr/>
              </p:nvSpPr>
              <p:spPr>
                <a:xfrm>
                  <a:off x="2206800" y="5623920"/>
                  <a:ext cx="4280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2176560" y="5348160"/>
                  <a:ext cx="458280" cy="2757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1" name=""/>
              <p:cNvGrpSpPr/>
              <p:nvPr/>
            </p:nvGrpSpPr>
            <p:grpSpPr>
              <a:xfrm>
                <a:off x="2176560" y="3968280"/>
                <a:ext cx="458280" cy="275760"/>
                <a:chOff x="2176560" y="3968280"/>
                <a:chExt cx="458280" cy="275760"/>
              </a:xfrm>
            </p:grpSpPr>
            <p:sp>
              <p:nvSpPr>
                <p:cNvPr id="172" name=""/>
                <p:cNvSpPr/>
                <p:nvPr/>
              </p:nvSpPr>
              <p:spPr>
                <a:xfrm>
                  <a:off x="2206800" y="3968280"/>
                  <a:ext cx="4280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 flipV="1">
                  <a:off x="2176560" y="3968280"/>
                  <a:ext cx="458280" cy="2757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4" name=""/>
              <p:cNvGrpSpPr/>
              <p:nvPr/>
            </p:nvGrpSpPr>
            <p:grpSpPr>
              <a:xfrm>
                <a:off x="5389560" y="3967560"/>
                <a:ext cx="458640" cy="275760"/>
                <a:chOff x="5389560" y="3967560"/>
                <a:chExt cx="458640" cy="275760"/>
              </a:xfrm>
            </p:grpSpPr>
            <p:sp>
              <p:nvSpPr>
                <p:cNvPr id="175" name=""/>
                <p:cNvSpPr/>
                <p:nvPr/>
              </p:nvSpPr>
              <p:spPr>
                <a:xfrm flipH="1">
                  <a:off x="5389560" y="3967560"/>
                  <a:ext cx="428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 flipH="1" flipV="1">
                  <a:off x="5389560" y="3967560"/>
                  <a:ext cx="458640" cy="2757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7" name=""/>
              <p:cNvGrpSpPr/>
              <p:nvPr/>
            </p:nvGrpSpPr>
            <p:grpSpPr>
              <a:xfrm>
                <a:off x="5389560" y="5348160"/>
                <a:ext cx="458640" cy="275760"/>
                <a:chOff x="5389560" y="5348160"/>
                <a:chExt cx="458640" cy="275760"/>
              </a:xfrm>
            </p:grpSpPr>
            <p:sp>
              <p:nvSpPr>
                <p:cNvPr id="178" name=""/>
                <p:cNvSpPr/>
                <p:nvPr/>
              </p:nvSpPr>
              <p:spPr>
                <a:xfrm flipH="1">
                  <a:off x="5389560" y="5623920"/>
                  <a:ext cx="428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 flipH="1">
                  <a:off x="5389560" y="5348160"/>
                  <a:ext cx="458640" cy="2757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0" name=""/>
              <p:cNvSpPr/>
              <p:nvPr/>
            </p:nvSpPr>
            <p:spPr>
              <a:xfrm>
                <a:off x="2573640" y="5562360"/>
                <a:ext cx="122040" cy="1220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960" bIns="39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2573640" y="3906720"/>
                <a:ext cx="122040" cy="1220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960" bIns="39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5328000" y="3906720"/>
                <a:ext cx="122040" cy="1220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960" bIns="39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5328000" y="5562360"/>
                <a:ext cx="122040" cy="1220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960" bIns="39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4" name=""/>
            <p:cNvSpPr/>
            <p:nvPr/>
          </p:nvSpPr>
          <p:spPr>
            <a:xfrm>
              <a:off x="2238480" y="3450960"/>
              <a:ext cx="772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197160" y="4192560"/>
              <a:ext cx="357120" cy="825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422520" y="3449520"/>
              <a:ext cx="11397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422520" y="5605200"/>
              <a:ext cx="11397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992480" y="3450960"/>
              <a:ext cx="77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992480" y="5607000"/>
              <a:ext cx="77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238480" y="5607000"/>
              <a:ext cx="772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491000" y="4186080"/>
              <a:ext cx="357120" cy="825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2" name=""/>
          <p:cNvSpPr/>
          <p:nvPr/>
        </p:nvSpPr>
        <p:spPr>
          <a:xfrm>
            <a:off x="2152800" y="6132600"/>
            <a:ext cx="378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de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edge 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        node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231920" y="3962520"/>
            <a:ext cx="68580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25360" y="3724200"/>
            <a:ext cx="100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label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220760" y="5614920"/>
            <a:ext cx="68580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14200" y="5376960"/>
            <a:ext cx="100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label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960480" y="2986200"/>
            <a:ext cx="1495440" cy="2151000"/>
            <a:chOff x="960480" y="2986200"/>
            <a:chExt cx="1495440" cy="2151000"/>
          </a:xfrm>
        </p:grpSpPr>
        <p:sp>
          <p:nvSpPr>
            <p:cNvPr id="198" name=""/>
            <p:cNvSpPr/>
            <p:nvPr/>
          </p:nvSpPr>
          <p:spPr>
            <a:xfrm>
              <a:off x="960480" y="2986200"/>
              <a:ext cx="1065240" cy="627120"/>
            </a:xfrm>
            <a:prstGeom prst="wedgeRoundRectCallout">
              <a:avLst>
                <a:gd name="adj1" fmla="val 86958"/>
                <a:gd name="adj2" fmla="val 46708"/>
                <a:gd name="adj3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9" name=""/>
                <p:cNvSpPr txBox="1"/>
                <p:nvPr/>
              </p:nvSpPr>
              <p:spPr>
                <a:xfrm>
                  <a:off x="1055520" y="2998800"/>
                  <a:ext cx="887760" cy="561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θ</m:t>
                          </m:r>
                        </m:e>
                        <m:sub>
                          <m:r>
                            <m:t xml:space="preserve">p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0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00" name=""/>
            <p:cNvSpPr/>
            <p:nvPr/>
          </p:nvSpPr>
          <p:spPr>
            <a:xfrm>
              <a:off x="1239840" y="4510080"/>
              <a:ext cx="1216080" cy="627120"/>
            </a:xfrm>
            <a:prstGeom prst="wedgeRoundRectCallout">
              <a:avLst>
                <a:gd name="adj1" fmla="val 109921"/>
                <a:gd name="adj2" fmla="val -56583"/>
                <a:gd name="adj3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1" name=""/>
                <p:cNvSpPr txBox="1"/>
                <p:nvPr/>
              </p:nvSpPr>
              <p:spPr>
                <a:xfrm>
                  <a:off x="1254240" y="4545000"/>
                  <a:ext cx="1184040" cy="561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θ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pq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0,1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02" name=""/>
          <p:cNvSpPr/>
          <p:nvPr/>
        </p:nvSpPr>
        <p:spPr>
          <a:xfrm>
            <a:off x="395280" y="1146240"/>
            <a:ext cx="835344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3" name=""/>
              <p:cNvSpPr txBox="1"/>
              <p:nvPr/>
            </p:nvSpPr>
            <p:spPr>
              <a:xfrm>
                <a:off x="801720" y="1374840"/>
                <a:ext cx="7473960" cy="101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|</m:t>
                    </m:r>
                    <m:r>
                      <m:t xml:space="preserve">θ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onst</m:t>
                        </m:r>
                      </m:sub>
                    </m:sSub>
                    <m:r>
                      <m:t xml:space="preserve">+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p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+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p</m:t>
                        </m:r>
                        <m:r>
                          <m:t xml:space="preserve">,</m:t>
                        </m:r>
                        <m:r>
                          <m:t xml:space="preserve">q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q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grpSp>
        <p:nvGrpSpPr>
          <p:cNvPr id="204" name=""/>
          <p:cNvGrpSpPr/>
          <p:nvPr/>
        </p:nvGrpSpPr>
        <p:grpSpPr>
          <a:xfrm>
            <a:off x="7058160" y="5925960"/>
            <a:ext cx="541080" cy="721080"/>
            <a:chOff x="7058160" y="5925960"/>
            <a:chExt cx="541080" cy="721080"/>
          </a:xfrm>
        </p:grpSpPr>
        <p:sp>
          <p:nvSpPr>
            <p:cNvPr id="205" name=""/>
            <p:cNvSpPr/>
            <p:nvPr/>
          </p:nvSpPr>
          <p:spPr>
            <a:xfrm>
              <a:off x="7058160" y="5925960"/>
              <a:ext cx="541080" cy="721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140240" y="595800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7921800" y="5167440"/>
            <a:ext cx="1064880" cy="626760"/>
            <a:chOff x="7921800" y="5167440"/>
            <a:chExt cx="1064880" cy="626760"/>
          </a:xfrm>
        </p:grpSpPr>
        <p:sp>
          <p:nvSpPr>
            <p:cNvPr id="208" name=""/>
            <p:cNvSpPr/>
            <p:nvPr/>
          </p:nvSpPr>
          <p:spPr>
            <a:xfrm>
              <a:off x="7921800" y="5167440"/>
              <a:ext cx="1064880" cy="626760"/>
            </a:xfrm>
            <a:prstGeom prst="wedgeRoundRectCallout">
              <a:avLst>
                <a:gd name="adj1" fmla="val -70416"/>
                <a:gd name="adj2" fmla="val 117847"/>
                <a:gd name="adj3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9" name=""/>
                <p:cNvSpPr txBox="1"/>
                <p:nvPr/>
              </p:nvSpPr>
              <p:spPr>
                <a:xfrm>
                  <a:off x="8134200" y="5183280"/>
                  <a:ext cx="739800" cy="533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θ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const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0" name=""/>
          <p:cNvGrpSpPr/>
          <p:nvPr/>
        </p:nvGrpSpPr>
        <p:grpSpPr>
          <a:xfrm>
            <a:off x="2176560" y="3449520"/>
            <a:ext cx="3671640" cy="2981520"/>
            <a:chOff x="2176560" y="3449520"/>
            <a:chExt cx="3671640" cy="2981520"/>
          </a:xfrm>
        </p:grpSpPr>
        <p:sp>
          <p:nvSpPr>
            <p:cNvPr id="211" name=""/>
            <p:cNvSpPr/>
            <p:nvPr/>
          </p:nvSpPr>
          <p:spPr>
            <a:xfrm>
              <a:off x="2635200" y="5624640"/>
              <a:ext cx="2754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635200" y="3967200"/>
              <a:ext cx="2754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 flipV="1">
              <a:off x="2635200" y="3967200"/>
              <a:ext cx="2754360" cy="1657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635200" y="3967200"/>
              <a:ext cx="2754360" cy="16574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5" name=""/>
            <p:cNvGrpSpPr/>
            <p:nvPr/>
          </p:nvGrpSpPr>
          <p:grpSpPr>
            <a:xfrm>
              <a:off x="2176560" y="5348160"/>
              <a:ext cx="458640" cy="276480"/>
              <a:chOff x="2176560" y="5348160"/>
              <a:chExt cx="458640" cy="276480"/>
            </a:xfrm>
          </p:grpSpPr>
          <p:sp>
            <p:nvSpPr>
              <p:cNvPr id="216" name=""/>
              <p:cNvSpPr/>
              <p:nvPr/>
            </p:nvSpPr>
            <p:spPr>
              <a:xfrm>
                <a:off x="2206800" y="5624640"/>
                <a:ext cx="428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2176560" y="5348160"/>
                <a:ext cx="458640" cy="276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8" name=""/>
            <p:cNvSpPr/>
            <p:nvPr/>
          </p:nvSpPr>
          <p:spPr>
            <a:xfrm>
              <a:off x="2206800" y="3968640"/>
              <a:ext cx="428400" cy="0"/>
            </a:xfrm>
            <a:prstGeom prst="line">
              <a:avLst/>
            </a:prstGeom>
            <a:ln w="2844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flipV="1">
              <a:off x="2176560" y="3968640"/>
              <a:ext cx="458640" cy="27648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0" name=""/>
            <p:cNvGrpSpPr/>
            <p:nvPr/>
          </p:nvGrpSpPr>
          <p:grpSpPr>
            <a:xfrm>
              <a:off x="5389560" y="3966840"/>
              <a:ext cx="458640" cy="276120"/>
              <a:chOff x="5389560" y="3966840"/>
              <a:chExt cx="458640" cy="276120"/>
            </a:xfrm>
          </p:grpSpPr>
          <p:sp>
            <p:nvSpPr>
              <p:cNvPr id="221" name=""/>
              <p:cNvSpPr/>
              <p:nvPr/>
            </p:nvSpPr>
            <p:spPr>
              <a:xfrm flipH="1">
                <a:off x="5389560" y="3966840"/>
                <a:ext cx="428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5389560" y="3966840"/>
                <a:ext cx="458640" cy="276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3" name=""/>
            <p:cNvSpPr/>
            <p:nvPr/>
          </p:nvSpPr>
          <p:spPr>
            <a:xfrm flipH="1">
              <a:off x="5389200" y="5624640"/>
              <a:ext cx="428760" cy="0"/>
            </a:xfrm>
            <a:prstGeom prst="line">
              <a:avLst/>
            </a:prstGeom>
            <a:ln w="2844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H="1">
              <a:off x="5389560" y="5348160"/>
              <a:ext cx="458640" cy="27648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573280" y="5562720"/>
              <a:ext cx="122400" cy="1220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573280" y="3906720"/>
              <a:ext cx="122400" cy="1224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327640" y="3906720"/>
              <a:ext cx="122400" cy="122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327640" y="5562720"/>
              <a:ext cx="122400" cy="12204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238480" y="3451320"/>
              <a:ext cx="772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33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197160" y="4192560"/>
              <a:ext cx="357120" cy="825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33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422520" y="3449520"/>
              <a:ext cx="1140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422520" y="5605560"/>
              <a:ext cx="1140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992840" y="3451320"/>
              <a:ext cx="772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992840" y="5607000"/>
              <a:ext cx="772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33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238480" y="5607000"/>
              <a:ext cx="772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491000" y="4186080"/>
              <a:ext cx="357120" cy="825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2152800" y="6132600"/>
            <a:ext cx="378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de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edge 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        node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231920" y="3962520"/>
            <a:ext cx="68580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25360" y="3724200"/>
            <a:ext cx="100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label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220760" y="5614920"/>
            <a:ext cx="68580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14200" y="5376960"/>
            <a:ext cx="100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label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nergy function - visualis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5280" y="1146240"/>
            <a:ext cx="835344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801720" y="1374840"/>
                <a:ext cx="7473960" cy="101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|</m:t>
                    </m:r>
                    <m:r>
                      <m:t xml:space="preserve">θ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onst</m:t>
                        </m:r>
                      </m:sub>
                    </m:sSub>
                    <m:r>
                      <m:t xml:space="preserve">+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p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+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p</m:t>
                        </m:r>
                        <m:r>
                          <m:t xml:space="preserve">,</m:t>
                        </m:r>
                        <m:r>
                          <m:t xml:space="preserve">q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q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45" name=""/>
          <p:cNvSpPr/>
          <p:nvPr/>
        </p:nvSpPr>
        <p:spPr>
          <a:xfrm>
            <a:off x="7058160" y="5925960"/>
            <a:ext cx="541080" cy="721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140240" y="5958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6638760" y="4278240"/>
            <a:ext cx="2511720" cy="966960"/>
            <a:chOff x="6638760" y="4278240"/>
            <a:chExt cx="2511720" cy="966960"/>
          </a:xfrm>
        </p:grpSpPr>
        <p:sp>
          <p:nvSpPr>
            <p:cNvPr id="248" name=""/>
            <p:cNvSpPr/>
            <p:nvPr/>
          </p:nvSpPr>
          <p:spPr>
            <a:xfrm>
              <a:off x="7196040" y="4278240"/>
              <a:ext cx="1954440" cy="96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vector o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ll parameter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49" name=""/>
                <p:cNvSpPr txBox="1"/>
                <p:nvPr/>
              </p:nvSpPr>
              <p:spPr>
                <a:xfrm>
                  <a:off x="6638760" y="4533840"/>
                  <a:ext cx="573120" cy="403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θ</m:t>
                      </m:r>
                      <m:r>
                        <m:t xml:space="preserve">=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0" name=""/>
          <p:cNvGrpSpPr/>
          <p:nvPr/>
        </p:nvGrpSpPr>
        <p:grpSpPr>
          <a:xfrm>
            <a:off x="2652840" y="1979640"/>
            <a:ext cx="3671640" cy="1777680"/>
            <a:chOff x="2652840" y="1979640"/>
            <a:chExt cx="3671640" cy="1777680"/>
          </a:xfrm>
        </p:grpSpPr>
        <p:sp>
          <p:nvSpPr>
            <p:cNvPr id="251" name=""/>
            <p:cNvSpPr/>
            <p:nvPr/>
          </p:nvSpPr>
          <p:spPr>
            <a:xfrm>
              <a:off x="3111120" y="3696840"/>
              <a:ext cx="2754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111120" y="2040480"/>
              <a:ext cx="2754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 flipV="1">
              <a:off x="3111120" y="2040120"/>
              <a:ext cx="2754360" cy="165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111120" y="2040480"/>
              <a:ext cx="2754360" cy="165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5" name=""/>
            <p:cNvGrpSpPr/>
            <p:nvPr/>
          </p:nvGrpSpPr>
          <p:grpSpPr>
            <a:xfrm>
              <a:off x="2652840" y="3421080"/>
              <a:ext cx="458280" cy="275760"/>
              <a:chOff x="2652840" y="3421080"/>
              <a:chExt cx="458280" cy="275760"/>
            </a:xfrm>
          </p:grpSpPr>
          <p:sp>
            <p:nvSpPr>
              <p:cNvPr id="256" name=""/>
              <p:cNvSpPr/>
              <p:nvPr/>
            </p:nvSpPr>
            <p:spPr>
              <a:xfrm>
                <a:off x="2683080" y="3696840"/>
                <a:ext cx="428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2652840" y="3421080"/>
                <a:ext cx="458280" cy="275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8" name=""/>
            <p:cNvGrpSpPr/>
            <p:nvPr/>
          </p:nvGrpSpPr>
          <p:grpSpPr>
            <a:xfrm>
              <a:off x="2652840" y="2041200"/>
              <a:ext cx="458280" cy="275760"/>
              <a:chOff x="2652840" y="2041200"/>
              <a:chExt cx="458280" cy="275760"/>
            </a:xfrm>
          </p:grpSpPr>
          <p:sp>
            <p:nvSpPr>
              <p:cNvPr id="259" name=""/>
              <p:cNvSpPr/>
              <p:nvPr/>
            </p:nvSpPr>
            <p:spPr>
              <a:xfrm>
                <a:off x="2683080" y="2041200"/>
                <a:ext cx="428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flipV="1">
                <a:off x="2652840" y="2041200"/>
                <a:ext cx="458280" cy="275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1" name=""/>
            <p:cNvGrpSpPr/>
            <p:nvPr/>
          </p:nvGrpSpPr>
          <p:grpSpPr>
            <a:xfrm>
              <a:off x="5865840" y="2040480"/>
              <a:ext cx="458640" cy="275760"/>
              <a:chOff x="5865840" y="2040480"/>
              <a:chExt cx="458640" cy="275760"/>
            </a:xfrm>
          </p:grpSpPr>
          <p:sp>
            <p:nvSpPr>
              <p:cNvPr id="262" name=""/>
              <p:cNvSpPr/>
              <p:nvPr/>
            </p:nvSpPr>
            <p:spPr>
              <a:xfrm flipH="1">
                <a:off x="5865840" y="2040480"/>
                <a:ext cx="428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flipH="1" flipV="1">
                <a:off x="5865840" y="2040480"/>
                <a:ext cx="458640" cy="275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4" name=""/>
            <p:cNvGrpSpPr/>
            <p:nvPr/>
          </p:nvGrpSpPr>
          <p:grpSpPr>
            <a:xfrm>
              <a:off x="5865840" y="3421080"/>
              <a:ext cx="458640" cy="275760"/>
              <a:chOff x="5865840" y="3421080"/>
              <a:chExt cx="458640" cy="275760"/>
            </a:xfrm>
          </p:grpSpPr>
          <p:sp>
            <p:nvSpPr>
              <p:cNvPr id="265" name=""/>
              <p:cNvSpPr/>
              <p:nvPr/>
            </p:nvSpPr>
            <p:spPr>
              <a:xfrm flipH="1">
                <a:off x="5865840" y="3696840"/>
                <a:ext cx="428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flipH="1">
                <a:off x="5865840" y="3421080"/>
                <a:ext cx="458640" cy="275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7" name=""/>
            <p:cNvSpPr/>
            <p:nvPr/>
          </p:nvSpPr>
          <p:spPr>
            <a:xfrm>
              <a:off x="3049920" y="3635280"/>
              <a:ext cx="122040" cy="1220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049920" y="1979640"/>
              <a:ext cx="122040" cy="1220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804280" y="1979640"/>
              <a:ext cx="122040" cy="1220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804280" y="3635280"/>
              <a:ext cx="122040" cy="1220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1" name=""/>
          <p:cNvSpPr/>
          <p:nvPr/>
        </p:nvSpPr>
        <p:spPr>
          <a:xfrm>
            <a:off x="2714760" y="1523880"/>
            <a:ext cx="77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898800" y="1522440"/>
            <a:ext cx="113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468760" y="1523880"/>
            <a:ext cx="77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4" name=""/>
          <p:cNvGrpSpPr/>
          <p:nvPr/>
        </p:nvGrpSpPr>
        <p:grpSpPr>
          <a:xfrm>
            <a:off x="3673440" y="2265480"/>
            <a:ext cx="2568600" cy="2238480"/>
            <a:chOff x="3673440" y="2265480"/>
            <a:chExt cx="2568600" cy="2238480"/>
          </a:xfrm>
        </p:grpSpPr>
        <p:sp>
          <p:nvSpPr>
            <p:cNvPr id="275" name=""/>
            <p:cNvSpPr/>
            <p:nvPr/>
          </p:nvSpPr>
          <p:spPr>
            <a:xfrm>
              <a:off x="3673440" y="2265480"/>
              <a:ext cx="357120" cy="825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898800" y="3678480"/>
              <a:ext cx="11397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468760" y="3679920"/>
              <a:ext cx="77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8" name=""/>
          <p:cNvSpPr/>
          <p:nvPr/>
        </p:nvSpPr>
        <p:spPr>
          <a:xfrm>
            <a:off x="2714760" y="3679920"/>
            <a:ext cx="77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967280" y="2259000"/>
            <a:ext cx="3571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95280" y="1146240"/>
            <a:ext cx="835344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7370640" y="2581200"/>
            <a:ext cx="541440" cy="720720"/>
            <a:chOff x="7370640" y="2581200"/>
            <a:chExt cx="541440" cy="720720"/>
          </a:xfrm>
        </p:grpSpPr>
        <p:sp>
          <p:nvSpPr>
            <p:cNvPr id="282" name=""/>
            <p:cNvSpPr/>
            <p:nvPr/>
          </p:nvSpPr>
          <p:spPr>
            <a:xfrm>
              <a:off x="7370640" y="2581200"/>
              <a:ext cx="541440" cy="720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7452720" y="261288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4" name=""/>
          <p:cNvSpPr/>
          <p:nvPr/>
        </p:nvSpPr>
        <p:spPr>
          <a:xfrm>
            <a:off x="5688000" y="1522440"/>
            <a:ext cx="671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ff3300"/>
                </a:solidFill>
                <a:latin typeface="Times New Roman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678640" y="3678120"/>
            <a:ext cx="76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400" spc="-1" strike="noStrike">
                <a:solidFill>
                  <a:srgbClr val="ff3300"/>
                </a:solidFill>
                <a:latin typeface="Times New Roman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7361280" y="2583000"/>
            <a:ext cx="1231920" cy="720720"/>
            <a:chOff x="7361280" y="2583000"/>
            <a:chExt cx="1231920" cy="720720"/>
          </a:xfrm>
        </p:grpSpPr>
        <p:sp>
          <p:nvSpPr>
            <p:cNvPr id="287" name=""/>
            <p:cNvSpPr/>
            <p:nvPr/>
          </p:nvSpPr>
          <p:spPr>
            <a:xfrm>
              <a:off x="7361280" y="2583000"/>
              <a:ext cx="1090440" cy="720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442280" y="2614680"/>
              <a:ext cx="1150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0 </a:t>
              </a:r>
              <a:r>
                <a:rPr b="0" lang="en-US" sz="3200" spc="-1" strike="noStrike">
                  <a:solidFill>
                    <a:srgbClr val="ff3300"/>
                  </a:solidFill>
                  <a:latin typeface="Times New Roman"/>
                </a:rPr>
                <a:t>+ 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arameteris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7T16:54:25Z</dcterms:created>
  <dc:creator>vnk</dc:creator>
  <dc:description/>
  <dc:language>en-US</dc:language>
  <cp:lastModifiedBy>vnk</cp:lastModifiedBy>
  <dcterms:modified xsi:type="dcterms:W3CDTF">2005-12-06T23:42:10Z</dcterms:modified>
  <cp:revision>378</cp:revision>
  <dc:subject/>
  <dc:title>Advances in discrete energy minimisation for computer vision</dc:title>
</cp:coreProperties>
</file>